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dailydoub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2057400"/>
            <a:ext cx="586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rwin though the Earth was 6,000 years old? T/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uated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49876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9876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ccording to Darwin Evolution occurs because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49876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3623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49876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tic change in a species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49876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nakes’ small leg bones, whales’ pelvises, and humans’ tails are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498760"/>
            <a:ext cx="8381880" cy="1783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estigia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ganisms well suited to their environ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produce at a greater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5760" y="2003400"/>
            <a:ext cx="1827360" cy="439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2136600"/>
            <a:ext cx="2249640" cy="403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2003400" cy="41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212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620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1520" y="4879800"/>
            <a:ext cx="187020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34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13716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1447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27432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2784600" y="1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v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10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334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2590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rles Darwin graduated from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bridge Un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volution of long-necked giraffes is an example o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ording to Darwin, evolution occurs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498760"/>
            <a:ext cx="8381880" cy="1783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5146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or to his voyage on the Beagle, Darwin believed in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eatio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ural selection could not occur withou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762120"/>
            <a:ext cx="655344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06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r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8064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806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806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tpour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5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6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2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3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4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6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7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8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9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0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1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2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3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4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5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6" action="ppaction://hlinksldjump"/>
          </p:cNvPr>
          <p:cNvSpPr/>
          <p:nvPr/>
        </p:nvSpPr>
        <p:spPr>
          <a:xfrm>
            <a:off x="7924680" y="6858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7" action="ppaction://hlinksldjump"/>
          </p:cNvPr>
          <p:cNvSpPr/>
          <p:nvPr/>
        </p:nvSpPr>
        <p:spPr>
          <a:xfrm>
            <a:off x="7918560" y="990720"/>
            <a:ext cx="12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8" action="ppaction://hlinksldjump"/>
          </p:cNvPr>
          <p:cNvSpPr/>
          <p:nvPr/>
        </p:nvSpPr>
        <p:spPr>
          <a:xfrm>
            <a:off x="792468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9" action="ppaction://hlinksldjump"/>
          </p:cNvPr>
          <p:cNvSpPr/>
          <p:nvPr/>
        </p:nvSpPr>
        <p:spPr>
          <a:xfrm>
            <a:off x="8001000" y="190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0" action="ppaction://hlinksldjump"/>
          </p:cNvPr>
          <p:cNvSpPr/>
          <p:nvPr/>
        </p:nvSpPr>
        <p:spPr>
          <a:xfrm>
            <a:off x="7924680" y="281952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1" action="ppaction://hlinksldjump"/>
          </p:cNvPr>
          <p:cNvSpPr/>
          <p:nvPr/>
        </p:nvSpPr>
        <p:spPr>
          <a:xfrm>
            <a:off x="7966080" y="312408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838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498760"/>
            <a:ext cx="8381880" cy="147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variation in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Selection ca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498760"/>
            <a:ext cx="8381880" cy="181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ges in the frequency of certain alleles in a species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tural Selection is the process by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ganisms with traits well suited to their environment survive and reproduce at a greater rate than those less well ada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Balancing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situation in which two opposing forces affect the frequency of an allele in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of chromosome that contains information coding for a tra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g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heterozygous for the sickle cell alle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win conducted most of his research on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la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36232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less susceptible to mal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come increasingly different as each becomes adapted to its own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pulations of the same species living in different pla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ve a common ances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e a constant struggle for exis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mologous structures in organisms suggest that the organis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nce natural resources are limited all organis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2498760"/>
            <a:ext cx="8381880" cy="147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alf-life of carbon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,73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Ecological r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alapagos I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pulations of the same species that differ genetically because they have adapted to different living conditions 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his experiments with peppered moths, Kettlewell found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th whose color matched that of the tree trunks were more likely to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rocess by which a species becomes better suited to its enviro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685800"/>
            <a:ext cx="51055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68580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80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r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80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80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806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4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5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6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7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8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9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0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1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2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3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14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15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16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rId17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rId18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rId19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0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21" action="ppaction://hlinksldjump"/>
          </p:cNvPr>
          <p:cNvSpPr/>
          <p:nvPr/>
        </p:nvSpPr>
        <p:spPr>
          <a:xfrm>
            <a:off x="7889760" y="6858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22" action="ppaction://hlinksldjump"/>
          </p:cNvPr>
          <p:cNvSpPr/>
          <p:nvPr/>
        </p:nvSpPr>
        <p:spPr>
          <a:xfrm>
            <a:off x="7883640" y="990720"/>
            <a:ext cx="12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3" action="ppaction://hlinksldjump"/>
          </p:cNvPr>
          <p:cNvSpPr/>
          <p:nvPr/>
        </p:nvSpPr>
        <p:spPr>
          <a:xfrm>
            <a:off x="788976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24" action="ppaction://hlinksldjump"/>
          </p:cNvPr>
          <p:cNvSpPr/>
          <p:nvPr/>
        </p:nvSpPr>
        <p:spPr>
          <a:xfrm>
            <a:off x="7966080" y="19335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25" action="ppaction://hlinksldjump"/>
          </p:cNvPr>
          <p:cNvSpPr/>
          <p:nvPr/>
        </p:nvSpPr>
        <p:spPr>
          <a:xfrm>
            <a:off x="7889760" y="281952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26" action="ppaction://hlinksldjump"/>
          </p:cNvPr>
          <p:cNvSpPr/>
          <p:nvPr/>
        </p:nvSpPr>
        <p:spPr>
          <a:xfrm>
            <a:off x="7931160" y="30924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rwin was prompted to publish his ideas b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fred Russel Wallace’s es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rId2" action="ppaction://hlinksldjump"/>
          </p:cNvPr>
          <p:cNvSpPr/>
          <p:nvPr/>
        </p:nvSpPr>
        <p:spPr>
          <a:xfrm>
            <a:off x="80010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Darwin’s book, The Origin of the Species, was controversial beca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flicted directly with the beliefs of creatio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rwin theory of evolution includes that some organisms reproduce at a greater rate than others? T/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rding to Darwin evolution occurs because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b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win 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Darwin published his theory of evolution, he did not include ideas by this geneticis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gory Men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mologous structures 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uctures that have a common ances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finches that Darwin studied differed in the shape of their beaks bec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49876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ir di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t 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t to Jail, do not pass go do not collect 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249876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human embryo exhibits a coat of fine fur? T/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embryos have gill pouches and bony tails? T/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cientists have determined that the Earth is how 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49876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as Darwin’s occupation aboard the H.M.S. Bea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bout 4.5 billion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age of a fossil can be determin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rbon d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dioactive d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hypothesis that evolution occurs at an irregular rate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uated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to Jai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pass go do not collect $200, loose a t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b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’all got $200 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get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98760"/>
            <a:ext cx="8381880" cy="1783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tur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 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long it takes for one-half of radioactive atoms in a sample to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moves the frequency of a particular allele in one dir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rection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ose a t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player get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Categ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opposing viewpoint of Gradualis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ITS</cp:lastModifiedBy>
  <dcterms:modified xsi:type="dcterms:W3CDTF">2004-05-11T23:02:02Z</dcterms:modified>
  <cp:revision>17</cp:revision>
  <dc:subject/>
  <dc:title>No Slide Title</dc:title>
</cp:coreProperties>
</file>