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241A-95AB-450A-82F3-151BDA9DB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6C57-BFBD-4964-9131-C7441B6B8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C1E7-F514-4124-8BA1-470470219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DB54-C439-41FF-9241-966204637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C05D6-3EF5-48F4-84CC-575D49C40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4C783-B15F-45C4-935C-07AD5037D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AE40B-9E7E-4E11-A2F7-A4813F170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A01AA-2D82-4A7A-9001-D629D3714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A1118-7AB9-4710-B3CC-FB8FD1054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9FC5E-7099-4A06-ABB7-503205405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C8050-8B35-41AA-A5EF-E47DA927F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9A39-6A5C-4D7F-BA29-6C3013782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0F55D-8197-43D0-B068-7F3A7C399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3A0E8-9D4A-4A67-9B14-C9F17919F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A442F-1DD0-4B17-9686-E384ADC64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74B39-F0E0-40CE-927D-10CA4D170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9EA96-4557-47C3-B4AC-B042A679E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D6D6-F1D0-455E-BDFA-1DBFD251B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A26F-E694-4DD9-B674-008D5E4A3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C074-1ADC-421B-B9F8-5030DE097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3396-E6A4-4553-BA3A-BA3F4F1CC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ECF6-67DD-4617-B2B7-99B3E215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517B-D5F7-4791-95F4-D6376C564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D94A-26D0-4289-B20C-D380A0C7A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C5A6E-85CC-4011-BB4F-8C8650CA79C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C7EC0-7973-4F9A-BD87-EE7BA781E4B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nyu.edu/classes/keefer/waoe/waoej.html" TargetMode="External"/><Relationship Id="rId3" Type="http://schemas.openxmlformats.org/officeDocument/2006/relationships/hyperlink" Target="http://www.merlot.org/Home.po?discipline=Teacher_Education" TargetMode="External"/><Relationship Id="rId4" Type="http://schemas.openxmlformats.org/officeDocument/2006/relationships/hyperlink" Target="file://ti2.sri.com/" TargetMode="External"/><Relationship Id="rId5" Type="http://schemas.openxmlformats.org/officeDocument/2006/relationships/hyperlink" Target="http://www.e-learninghub.com/" TargetMode="External"/><Relationship Id="rId6" Type="http://schemas.openxmlformats.org/officeDocument/2006/relationships/hyperlink" Target="http://www.e-learninghub.com/" TargetMode="External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1218960"/>
            <a:ext cx="7413840" cy="13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9efee"/>
                </a:solidFill>
                <a:latin typeface="Garamond"/>
              </a:rPr>
              <a:t>Online Communities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What are some of the negative things that could happen in an online community such as Moose Crossing? How could these things be prevented and/or dealt with? What do you think is the most important thing students will gain from programs like MOOSE?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447920" y="3191040"/>
            <a:ext cx="5452920" cy="4759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6934320" y="3124080"/>
            <a:ext cx="10573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Professional Online Communitie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99"/>
                </a:solidFill>
                <a:uFillTx/>
                <a:latin typeface="Garamond"/>
                <a:hlinkClick r:id="rId2"/>
              </a:rPr>
              <a:t>http://www.nyu.edu/classes/keefer/waoe/waoej.htm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99"/>
                </a:solidFill>
                <a:uFillTx/>
                <a:latin typeface="Garamond"/>
                <a:hlinkClick r:id="rId3"/>
              </a:rPr>
              <a:t>http://www.merlot.org/Home.po?discipline=Teacher_Educ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99"/>
                </a:solidFill>
                <a:uFillTx/>
                <a:latin typeface="Garamond"/>
                <a:hlinkClick r:id="rId4"/>
              </a:rPr>
              <a:t>http://ti2.sri.com/tappedin/</a:t>
            </a:r>
            <a:br>
              <a:rPr sz="2400"/>
            </a:b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99"/>
                </a:solidFill>
                <a:uFillTx/>
                <a:latin typeface="Garamond"/>
                <a:hlinkClick r:id="rId5"/>
              </a:rPr>
              <a:t>http://www.e-learninghub.com/resources</a:t>
            </a:r>
            <a:r>
              <a:rPr b="0" lang="en-US" sz="2400" spc="-1" strike="noStrike" u="sng">
                <a:solidFill>
                  <a:srgbClr val="00ff99"/>
                </a:solidFill>
                <a:uFillTx/>
                <a:latin typeface="Garamond"/>
                <a:hlinkClick r:id="rId6"/>
              </a:rPr>
              <a:t>/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7"/>
          <a:stretch/>
        </p:blipFill>
        <p:spPr>
          <a:xfrm>
            <a:off x="5257800" y="4853160"/>
            <a:ext cx="2971800" cy="8632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8"/>
          <a:stretch/>
        </p:blipFill>
        <p:spPr>
          <a:xfrm>
            <a:off x="4792680" y="3921120"/>
            <a:ext cx="3890880" cy="4096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9"/>
          <a:stretch/>
        </p:blipFill>
        <p:spPr>
          <a:xfrm>
            <a:off x="5410080" y="2895480"/>
            <a:ext cx="2895840" cy="5050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10"/>
          <a:stretch/>
        </p:blipFill>
        <p:spPr>
          <a:xfrm>
            <a:off x="5181480" y="1752480"/>
            <a:ext cx="3162600" cy="6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Pro’s       versus       Con’s  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press their idea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arning tool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munity learning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each and mod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finite possibilitie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corded and monitored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8320" y="1674360"/>
            <a:ext cx="403848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just to talk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dentity thef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urriculum is not clearly defined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echnology support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munity virus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Importance of Communicatio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munication online allows for the rapid transfer of ideas from people outside of your direct communication lin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sharing of ideas fosters learning and understanding for the active participant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volume and potential numbers of people involved in any online community can ensure a broad yet focused base for learning and sharin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Watch Out For: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wntime: viruses, power outages, software issues, and hardware issu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nitor the area, safeguards are only protective when in pla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rporate takeovers, spamming and monitoring the area for business profit (may also help in funding issues)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3T14:13:00Z</dcterms:created>
  <dc:creator> LABS</dc:creator>
  <dc:description/>
  <dc:language>en-US</dc:language>
  <cp:lastModifiedBy>ITS</cp:lastModifiedBy>
  <dcterms:modified xsi:type="dcterms:W3CDTF">2003-11-04T17:53:43Z</dcterms:modified>
  <cp:revision>4</cp:revision>
  <dc:subject/>
  <dc:title>Slide 1</dc:title>
</cp:coreProperties>
</file>