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26BA6-D4D0-4012-90C3-FDA8644B7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A3AD7-F06A-4EED-9D32-B8E0EA3A1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68A66-40D2-457C-9C36-7585E6906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D0C2E-1766-4E5C-A368-C8EBA88B1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721B1-2FB2-4D38-B902-EA3A2C619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C35E7-B7C6-4051-9902-5E682BE9B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49903-FBE7-4C6B-92E0-E548F3679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3D84F-E05A-4D79-B89C-10E6F9930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8FCB1-4182-4620-94C1-C00419065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C5C76-8B95-4BEA-919A-0C733D01B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9F9D5-E0D6-4BF7-96BF-553E0F34C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1489B-3C5C-4397-8661-4EF142CC4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8C89E-6858-4B13-BDFD-B47FDD3D2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55C54-2521-4425-B9B1-ED62CC04C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17AE4-FC82-495D-BA03-FA7628413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D851A-5D4F-4E46-BC50-9BE8AD097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0C2E8-C972-47EB-845F-D2DEC4B7F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0B7CC-6426-4BE8-8FDA-E38DB2D20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0F6AA-B74F-49AE-B765-3A0116FFF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29023-9ED7-4BB0-A835-4959740D0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88152-3005-4855-A90F-1F3387C0B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96F38-DA43-43E7-AA39-A4A1F8E8E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4FABA-D27B-4A28-966F-E9C565673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E138A-8DB9-41A8-A106-154F9EE50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9510C-3C73-4094-A9D3-6F99642A2FBB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53504-C7EB-4C1A-9BC1-995EF8009187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b9efee"/>
              </a:buClr>
              <a:buFont typeface="Garamond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ccff66"/>
              </a:buClr>
              <a:buFont typeface="Garamond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nyu.edu/classes/keefer/waoe/waoej.html" TargetMode="External"/><Relationship Id="rId3" Type="http://schemas.openxmlformats.org/officeDocument/2006/relationships/hyperlink" Target="http://www.merlot.org/Home.po?discipline=Teacher_Education" TargetMode="External"/><Relationship Id="rId4" Type="http://schemas.openxmlformats.org/officeDocument/2006/relationships/hyperlink" Target="file://ti2.sri.com/" TargetMode="External"/><Relationship Id="rId5" Type="http://schemas.openxmlformats.org/officeDocument/2006/relationships/hyperlink" Target="http://www.e-learninghub.com/" TargetMode="External"/><Relationship Id="rId6" Type="http://schemas.openxmlformats.org/officeDocument/2006/relationships/hyperlink" Target="http://www.e-learninghub.com/" TargetMode="External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8080" y="1218960"/>
            <a:ext cx="7413840" cy="133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9efee"/>
                </a:solidFill>
                <a:latin typeface="Garamond"/>
              </a:rPr>
              <a:t>Online Communities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What are some of the negative things that could happen in an online community such as Moose Crossing? How could these things be prevented and/or dealt with? What do you think is the most important thing students will gain from programs like MOOSE?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1447920" y="3191040"/>
            <a:ext cx="5452920" cy="4759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6934320" y="3124080"/>
            <a:ext cx="10573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Professional Online Communities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ff99"/>
                </a:solidFill>
                <a:uFillTx/>
                <a:latin typeface="Garamond"/>
                <a:hlinkClick r:id="rId2"/>
              </a:rPr>
              <a:t>http://www.nyu.edu/classes/keefer/waoe/waoej.htm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ff99"/>
                </a:solidFill>
                <a:uFillTx/>
                <a:latin typeface="Garamond"/>
                <a:hlinkClick r:id="rId3"/>
              </a:rPr>
              <a:t>http://www.merlot.org/Home.po?discipline=Teacher_Educatio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ff99"/>
                </a:solidFill>
                <a:uFillTx/>
                <a:latin typeface="Garamond"/>
                <a:hlinkClick r:id="rId4"/>
              </a:rPr>
              <a:t>http://ti2.sri.com/tappedin/</a:t>
            </a:r>
            <a:br>
              <a:rPr sz="2400"/>
            </a:br>
            <a:r>
              <a:rPr b="0" lang="en-US" sz="2400" spc="-1" strike="noStrike" u="sng">
                <a:solidFill>
                  <a:srgbClr val="ffffff"/>
                </a:solidFill>
                <a:uFillTx/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ff99"/>
                </a:solidFill>
                <a:uFillTx/>
                <a:latin typeface="Garamond"/>
                <a:hlinkClick r:id="rId5"/>
              </a:rPr>
              <a:t>http://www.e-learninghub.com/resources</a:t>
            </a:r>
            <a:r>
              <a:rPr b="0" lang="en-US" sz="2400" spc="-1" strike="noStrike" u="sng">
                <a:solidFill>
                  <a:srgbClr val="00ff99"/>
                </a:solidFill>
                <a:uFillTx/>
                <a:latin typeface="Garamond"/>
                <a:hlinkClick r:id="rId6"/>
              </a:rPr>
              <a:t>/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7"/>
          <a:stretch/>
        </p:blipFill>
        <p:spPr>
          <a:xfrm>
            <a:off x="5257800" y="4853160"/>
            <a:ext cx="2971800" cy="86328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8"/>
          <a:stretch/>
        </p:blipFill>
        <p:spPr>
          <a:xfrm>
            <a:off x="4792680" y="3921120"/>
            <a:ext cx="3890880" cy="4096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9"/>
          <a:stretch/>
        </p:blipFill>
        <p:spPr>
          <a:xfrm>
            <a:off x="5410080" y="2895480"/>
            <a:ext cx="2895840" cy="5050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10"/>
          <a:stretch/>
        </p:blipFill>
        <p:spPr>
          <a:xfrm>
            <a:off x="5181480" y="1752480"/>
            <a:ext cx="3162600" cy="6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Pro’s       versus       Con’s   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xpress their idea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earning tool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ommunity learning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each and mod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nfinite possibilities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corded and monitored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48320" y="1674360"/>
            <a:ext cx="403848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just to talk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dentity thef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urriculum is not clearly defined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echnology support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ommunity virus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Importance of Communication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munication online allows for the rapid transfer of ideas from people outside of your direct communication lin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sharing of ideas fosters learning and understanding for the active participant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volume and potential numbers of people involved in any online community can ensure a broad yet focused base for learning and sharing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Watch Out For: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owntime: viruses, power outages, software issues, and hardware issu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onitor the area, safeguards are only protective when in plac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rporate takeovers, spamming and monitoring the area for business profit (may also help in funding issues)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3T14:13:00Z</dcterms:created>
  <dc:creator> LABS</dc:creator>
  <dc:description/>
  <dc:language>en-US</dc:language>
  <cp:lastModifiedBy>ITS</cp:lastModifiedBy>
  <dcterms:modified xsi:type="dcterms:W3CDTF">2003-11-04T17:53:43Z</dcterms:modified>
  <cp:revision>4</cp:revision>
  <dc:subject/>
  <dc:title>Slide 1</dc:title>
</cp:coreProperties>
</file>