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2D2-2DEF-40ED-968F-E87CAB8F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DC2-E1A6-4FC8-A1D2-50DC053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57C-BA2D-463E-BC2D-3F654FC1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DD-BE6F-443D-AD47-866C60D3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51C80-47D7-42C5-9960-591C35A3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6FE1F-51BB-45C8-9460-D1C2D755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5ABAF-5B71-4FFE-8531-D9E016ED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6EFFA-69B2-46C7-B0A6-5BDCF402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BA62-B360-450B-9ACF-CC32247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0B77F-D26A-4CEC-A1C9-486BFC63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11C4-BCAC-41A7-985D-4D167F2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56D-AE16-44C0-BF0D-C1448AB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1DDF6-86C4-4C09-A99F-EDF1BE1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CECC-B944-485E-A5C2-BA98E8B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10A92-5A58-4AE1-94E2-204C231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79D0F-8034-4BB5-90EE-3EAE9D6F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CF928-C145-4288-9AC9-DEFC83E7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60227-28A0-4C3C-957C-57FD7A20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A578A-C40D-4326-8FE6-19EC79A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B331B-2F0D-45A5-A6C0-D37942E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81321-C6A3-492F-9DF4-95F34433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51E49-0A15-488B-AA35-15C83047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A15-8543-4DF8-8816-0BF4C0AB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5A3B0-3B1B-41CC-B375-E3BE44BA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D4E60-7991-400E-A6C0-E3A33F3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2E59B-1563-4A07-8202-1257456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291E4-9614-4210-8DA0-F6C31AA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D1149-3914-46F8-92D2-574CFF9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06DBC-0805-4621-BDA5-831F4E92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F04D0-053D-4EA5-9053-ECDF6D40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42B5-3B62-4CD9-BC46-09C2054E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7C0B-0E50-4E35-B022-EDAC3EAF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6E90-14EF-4220-B9D1-201B30F2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624-2778-4174-8D14-9CEAA8F0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7B2BD-F4EF-4E69-BE30-A817DA8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AAE1-EA41-4C4E-9F78-B3A70981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B092-05A6-4911-BCDE-4079536F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3E4A-B082-44BD-88B9-729E5AE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9251-B948-4117-86D1-35875B3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B21D-A8B5-4FFA-B48B-2897ED8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7D0B-69A8-4D8C-811D-8E9581C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B738-D879-4823-82D3-8FB45135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64E6-D3EF-4FF4-BB2D-3E3621B0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DF6-C1CD-4063-BE5A-0F744CB3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5EC-6C15-46E9-BFF0-E8CFBB7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E8A-13E2-4570-B59C-A985E2C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329-2D8B-4503-8044-0B9D65C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EB1-F5F7-4289-B236-CD120BA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D098-661A-4895-97CB-8A3FEDAA74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443A-168A-4FB4-A777-8A954800B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005-F3C5-4D13-9654-713A15A5E3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25C2-AEDA-4D3F-A4D4-DB3711AB24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h.clemson.edu/~rsimms/java/pentominoes/index2.html" TargetMode="External"/><Relationship Id="rId2" Type="http://schemas.openxmlformats.org/officeDocument/2006/relationships/hyperlink" Target="http://www.clevermedia.com/game.cgi?pentominoe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ath Quiz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tomino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tominoes have some very interesting mathematical properties providing an endless array of challenging puzz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tominoes are shapes that use five square blocks joined edge to edge to form different combinations. There are twelve possible shapes in a set of unique pentominoes, named T, U, V, W, X, Y, Z, F, I, L, P, and N. An easy way to remember all the letters in a pentominoes set is to look at the letters in the word, FLIPN, and remember the end of the alphabet, TUVWXY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tominoes are said to have been "invented" by Solomon W. Golomb in 1953 at a talk he gave to the Harvard Mathematics Club. Although he came up with the name, pentominoes have been around since a much earlier time. The first pentomino problem, written by the great English inventor of puzzles, Henry Ernest Dudeny, was published in 1907 in the Canterbury Puzz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ich letter is not in the set of unique pentominoe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576440" y="17938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546880" y="1600200"/>
            <a:ext cx="2241360" cy="2189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563840" y="4079880"/>
            <a:ext cx="1823760" cy="19112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769000" y="41385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pe, try agai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member the last 7 letters of the alphabet AND 5 other letters and you’ll be “LANDN” the correct 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114800" cy="190512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34290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Impact"/>
              </a:rPr>
              <a:t>Correct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824120" cy="1911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05320" y="198108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tter O is not a member of the unique pentominoes set. You have earned  the right to try the pentominoe pu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3656160" y="4799160"/>
            <a:ext cx="2058840" cy="1041120"/>
          </a:xfrm>
          <a:custGeom>
            <a:avLst/>
            <a:gdLst>
              <a:gd name="textAreaLeft" fmla="*/ 67320 w 2058840"/>
              <a:gd name="textAreaRight" fmla="*/ 1991520 w 205884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42707" h="21600">
                <a:moveTo>
                  <a:pt x="0" y="0"/>
                </a:moveTo>
                <a:lnTo>
                  <a:pt x="42707" y="0"/>
                </a:lnTo>
                <a:lnTo>
                  <a:pt x="42707" y="21600"/>
                </a:lnTo>
                <a:lnTo>
                  <a:pt x="0" y="21600"/>
                </a:lnTo>
                <a:close/>
              </a:path>
              <a:path fill="lightenLess" w="42707" h="21600">
                <a:moveTo>
                  <a:pt x="0" y="0"/>
                </a:moveTo>
                <a:lnTo>
                  <a:pt x="42707" y="0"/>
                </a:lnTo>
                <a:lnTo>
                  <a:pt x="41307" y="1400"/>
                </a:lnTo>
                <a:lnTo>
                  <a:pt x="1400" y="1400"/>
                </a:lnTo>
                <a:close/>
              </a:path>
              <a:path fill="darken" w="42707" h="21600">
                <a:moveTo>
                  <a:pt x="42707" y="0"/>
                </a:moveTo>
                <a:lnTo>
                  <a:pt x="42707" y="21600"/>
                </a:lnTo>
                <a:lnTo>
                  <a:pt x="41307" y="20200"/>
                </a:lnTo>
                <a:lnTo>
                  <a:pt x="41307" y="1400"/>
                </a:lnTo>
                <a:close/>
              </a:path>
              <a:path fill="darkenLess" w="42707" h="21600">
                <a:moveTo>
                  <a:pt x="42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7" y="20200"/>
                </a:lnTo>
                <a:close/>
              </a:path>
              <a:path fill="lighten" w="42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tominoe puzz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You’ve earned the right to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on a Pentominoes sit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math.clemson.edu/~rsimms/java/pentominoes/index2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clevermedia.com/game.cgi?pentomi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40:22Z</dcterms:created>
  <dc:creator>ITS</dc:creator>
  <dc:description/>
  <dc:language>en-US</dc:language>
  <cp:lastModifiedBy>ITS</cp:lastModifiedBy>
  <dcterms:modified xsi:type="dcterms:W3CDTF">2004-05-11T19:49:05Z</dcterms:modified>
  <cp:revision>5</cp:revision>
  <dc:subject/>
  <dc:title>Math Quiz</dc:title>
</cp:coreProperties>
</file>