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CA8-E454-4327-B5DC-9717824D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2A8-E894-4026-A07F-853C1CA8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B2F-DFB0-4B1F-A96D-335F1544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113-E356-408D-B018-ACD8E8EA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36BC9-AF1F-46C0-9895-3A076D4F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3EC81-5529-4918-8B10-47A91502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1C428-AA12-4521-907E-6A6BC7E5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8E1EC-F7E8-4555-B128-91E4B5E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BA43-9A7B-4DBB-B76F-83B78E8D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4E48C-4C1E-4329-A6D8-FC5E1BAD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474B2-7E07-435F-B696-6A9D6C71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5C3-E489-4A29-9DB2-A4E637E5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93DF3-7075-4189-B43E-D2FB729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6D3E8-AE6F-4E8B-BC01-4A916D6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787FF-EC07-4A70-95F1-7DE6172B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EB83E-9AE2-47C1-A192-733DE3B9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59F60-B42E-4FCE-9205-F69C6F49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D17C2-B660-4F66-AA16-FC8DF815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26260-DD0C-43B4-AD6C-A622BD6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CE902-C876-43C9-B451-5AE42AD0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674CD-5CDD-4B2F-9172-5B54A63B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34334-6DB0-4957-8057-53DB36C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8E7-BB77-42C5-B8F3-A54169FF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BFF26-9958-452F-A01D-BE33978A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105EA-ECC3-4E7D-98DD-DBEEC7A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900A8-DF9B-4655-8A52-B7D37EE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FF314-4F29-4A55-8008-AD8D257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8B537-1DB2-423A-B01F-6D20D9D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15792-0510-4B42-B8A8-411B3F3D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62CF0-86D0-4804-8B37-74C0687C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A0F4-B2CA-432D-983C-CDA99E62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9429-F918-4E9E-A2F4-310CFF54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24FB4-5C0F-4078-B6A9-BA552DF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819-F557-4D1A-90CD-6144AF4C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03AC-9920-4086-B054-5F51A53C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AE0D-0EF7-4716-B7E7-A415E76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8270-C2A2-4AA1-9BF4-D65EEC8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553A-4392-4A5E-9E37-230673B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5449C-9F7C-4050-8F66-E1E7719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F432-D386-448B-87EE-55CD07E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E28C-C89C-415E-9CB6-412C0AE7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6DAE-7F2F-4170-B2C7-CCF65B73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DD675-33FF-4BA4-8FB7-CBCF6CE9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7E7-C747-4548-9C1B-A6262273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A4B-C4B8-444C-B5EA-A13D1A5F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853-5AF8-4DC7-8713-1A9FC345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48B-B972-4ADB-B592-2BBBF7EB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D9A-474B-478A-BA88-8F21FF2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EFA5-1032-4F38-AFB1-D8D3EA687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6DAC-3947-4573-B540-6A34B8426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B21-7EB9-4420-9AF8-5792C37EF5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F28-756B-450F-86CA-9EC6CEEED0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h.clemson.edu/~rsimms/java/pentominoes/index2.html" TargetMode="External"/><Relationship Id="rId2" Type="http://schemas.openxmlformats.org/officeDocument/2006/relationships/hyperlink" Target="http://www.clevermedia.com/game.cgi?pentominoe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ath Quiz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tomino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tominoes have some very interesting mathematical properties providing an endless array of challenging puzz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tominoes are shapes that use five square blocks joined edge to edge to form different combinations. There are twelve possible shapes in a set of unique pentominoes, named T, U, V, W, X, Y, Z, F, I, L, P, and N. An easy way to remember all the letters in a pentominoes set is to look at the letters in the word, FLIPN, and remember the end of the alphabet, TUVWXY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tominoes are said to have been "invented" by Solomon W. Golomb in 1953 at a talk he gave to the Harvard Mathematics Club. Although he came up with the name, pentominoes have been around since a much earlier time. The first pentomino problem, written by the great English inventor of puzzles, Henry Ernest Dudeny, was published in 1907 in the Canterbury Puzz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ich letter is not in the set of unique pentominoe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576440" y="17938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546880" y="1600200"/>
            <a:ext cx="2241360" cy="2189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563840" y="4079880"/>
            <a:ext cx="1823760" cy="19112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769000" y="41385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pe, try agai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member the last 7 letters of the alphabet AND 5 other letters and you’ll be “LANDN” the correct 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114800" cy="190512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34290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Impact"/>
              </a:rPr>
              <a:t>Correct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824120" cy="1911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05320" y="198108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tter O is not a member of the unique pentominoes set. You have earned  the right to try the pentominoe pu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3656160" y="4799160"/>
            <a:ext cx="2058840" cy="1041120"/>
          </a:xfrm>
          <a:custGeom>
            <a:avLst/>
            <a:gdLst>
              <a:gd name="textAreaLeft" fmla="*/ 67320 w 2058840"/>
              <a:gd name="textAreaRight" fmla="*/ 1991520 w 205884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42707" h="21600">
                <a:moveTo>
                  <a:pt x="0" y="0"/>
                </a:moveTo>
                <a:lnTo>
                  <a:pt x="42707" y="0"/>
                </a:lnTo>
                <a:lnTo>
                  <a:pt x="42707" y="21600"/>
                </a:lnTo>
                <a:lnTo>
                  <a:pt x="0" y="21600"/>
                </a:lnTo>
                <a:close/>
              </a:path>
              <a:path fill="lightenLess" w="42707" h="21600">
                <a:moveTo>
                  <a:pt x="0" y="0"/>
                </a:moveTo>
                <a:lnTo>
                  <a:pt x="42707" y="0"/>
                </a:lnTo>
                <a:lnTo>
                  <a:pt x="41307" y="1400"/>
                </a:lnTo>
                <a:lnTo>
                  <a:pt x="1400" y="1400"/>
                </a:lnTo>
                <a:close/>
              </a:path>
              <a:path fill="darken" w="42707" h="21600">
                <a:moveTo>
                  <a:pt x="42707" y="0"/>
                </a:moveTo>
                <a:lnTo>
                  <a:pt x="42707" y="21600"/>
                </a:lnTo>
                <a:lnTo>
                  <a:pt x="41307" y="20200"/>
                </a:lnTo>
                <a:lnTo>
                  <a:pt x="41307" y="1400"/>
                </a:lnTo>
                <a:close/>
              </a:path>
              <a:path fill="darkenLess" w="42707" h="21600">
                <a:moveTo>
                  <a:pt x="42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7" y="20200"/>
                </a:lnTo>
                <a:close/>
              </a:path>
              <a:path fill="lighten" w="42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tominoe puzz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You’ve earned the right to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on a Pentominoes sit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math.clemson.edu/~rsimms/java/pentominoes/index2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clevermedia.com/game.cgi?pentomin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5:40:22Z</dcterms:created>
  <dc:creator>ITS</dc:creator>
  <dc:description/>
  <dc:language>en-US</dc:language>
  <cp:lastModifiedBy>ITS</cp:lastModifiedBy>
  <dcterms:modified xsi:type="dcterms:W3CDTF">2004-05-11T19:49:05Z</dcterms:modified>
  <cp:revision>5</cp:revision>
  <dc:subject/>
  <dc:title>Math Quiz</dc:title>
</cp:coreProperties>
</file>