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865080" indent="-179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203480" indent="-166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535040" indent="-1648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535040" indent="-1648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535040" indent="-1648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Origins of Hot Subdwarf Stars as Illuminated by Composite-Spectrum Bina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chele A. Sta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Penn State University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or: Richard A. Wa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ursday Jan 13, 2005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522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AS 205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Meeting, San Diego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5228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ession 170 – White Dwarfs and Hot Subdwarfs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b. Spectroscopic Sub-Sam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429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ndards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4 sta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p I, MS and S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rom HIP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HRdiagram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b. Spectra Obtain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PNO 2.1m GoldCam, McDonald 2.7m L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~4600–8900 Å, ~1.3 Å/pi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spectracompare" descr=""/>
          <p:cNvPicPr/>
          <p:nvPr/>
        </p:nvPicPr>
        <p:blipFill>
          <a:blip r:embed="rId1"/>
          <a:stretch/>
        </p:blipFill>
        <p:spPr>
          <a:xfrm>
            <a:off x="304920" y="1882800"/>
            <a:ext cx="8534160" cy="413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43400" y="2263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3863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310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mposi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c. Refining Model Gri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t standard star paramet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fits to interpolate gri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 grid to observed hot subdwarf compo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Fits" descr=""/>
          <p:cNvPicPr/>
          <p:nvPr/>
        </p:nvPicPr>
        <p:blipFill>
          <a:blip r:embed="rId1"/>
          <a:srcRect l="0" t="3310" r="2118" b="0"/>
          <a:stretch/>
        </p:blipFill>
        <p:spPr>
          <a:xfrm>
            <a:off x="3886200" y="909720"/>
            <a:ext cx="5105520" cy="5043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10280" y="1447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1752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c. Refining Model Gri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ke interpolated EWs/colors and predict the EWs/colors if diluted by a sdB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ble to flux calibrate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used Kurucz flux distributions to compute dilutions at different wavelength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 predicted diluted EWs/colors to observed composites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c. Individual F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st fit comp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5724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800" spc="-1" strike="noStrike" baseline="-20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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.95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5724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 baseline="-20000">
                <a:solidFill>
                  <a:srgbClr val="ffff00"/>
                </a:solidFill>
                <a:latin typeface="Arial"/>
              </a:rPr>
              <a:t>V,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25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5724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~K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st fit sdB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5724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800" spc="-1" strike="noStrike" baseline="-20000">
                <a:solidFill>
                  <a:srgbClr val="ffff00"/>
                </a:solidFill>
                <a:latin typeface="Arial"/>
              </a:rPr>
              <a:t>sd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0.2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5724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 baseline="-20000">
                <a:solidFill>
                  <a:srgbClr val="ffff00"/>
                </a:solidFill>
                <a:latin typeface="Arial"/>
              </a:rPr>
              <a:t>V,sd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.1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sd111.0" descr=""/>
          <p:cNvPicPr/>
          <p:nvPr/>
        </p:nvPicPr>
        <p:blipFill>
          <a:blip r:embed="rId1"/>
          <a:stretch/>
        </p:blipFill>
        <p:spPr>
          <a:xfrm>
            <a:off x="3124080" y="915840"/>
            <a:ext cx="57150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c. Individual F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429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3400" indent="-113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e sdB, different comp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2000" indent="-1134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sd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-0.24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2000" indent="-1134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V,sd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4.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2000" indent="-1134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+0.7, +0.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2000" indent="-1134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V,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5.3, 6.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429000" y="990720"/>
            <a:ext cx="5562720" cy="3276000"/>
            <a:chOff x="3429000" y="990720"/>
            <a:chExt cx="5562720" cy="3276000"/>
          </a:xfrm>
        </p:grpSpPr>
        <p:pic>
          <p:nvPicPr>
            <p:cNvPr id="105" name="specsample" descr=""/>
            <p:cNvPicPr/>
            <p:nvPr/>
          </p:nvPicPr>
          <p:blipFill>
            <a:blip r:embed="rId1"/>
            <a:srcRect l="2667" t="0" r="0" b="52006"/>
            <a:stretch/>
          </p:blipFill>
          <p:spPr>
            <a:xfrm>
              <a:off x="3429000" y="990720"/>
              <a:ext cx="556272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876920" y="205704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(~F7 V)</a:t>
              </a: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6920" y="320004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(~K1 V)</a:t>
              </a: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08" name="specsample" descr=""/>
            <p:cNvPicPr/>
            <p:nvPr/>
          </p:nvPicPr>
          <p:blipFill>
            <a:blip r:embed="rId2"/>
            <a:srcRect l="2667" t="88006" r="0" b="0"/>
            <a:stretch/>
          </p:blipFill>
          <p:spPr>
            <a:xfrm>
              <a:off x="3429000" y="3581280"/>
              <a:ext cx="5562720" cy="68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c. Individual F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33530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e companion, different sd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9200" indent="-11592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+0.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9200" indent="-11592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V,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6.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9200" indent="-11592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B-V)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sd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-0.22,-0.2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49200" indent="-11592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V,sd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~ 4.1, 4.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1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29000" y="990720"/>
            <a:ext cx="5562720" cy="3276000"/>
            <a:chOff x="3429000" y="990720"/>
            <a:chExt cx="5562720" cy="3276000"/>
          </a:xfrm>
        </p:grpSpPr>
        <p:pic>
          <p:nvPicPr>
            <p:cNvPr id="112" name="specsample" descr=""/>
            <p:cNvPicPr/>
            <p:nvPr/>
          </p:nvPicPr>
          <p:blipFill>
            <a:blip r:embed="rId1"/>
            <a:srcRect l="2667" t="46671" r="0" b="0"/>
            <a:stretch/>
          </p:blipFill>
          <p:spPr>
            <a:xfrm>
              <a:off x="3429000" y="1218960"/>
              <a:ext cx="5562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24280" y="20574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(cool/bright sdB)</a:t>
              </a: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327636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(hot/faint sdB)</a:t>
              </a: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15" name="specsample" descr=""/>
            <p:cNvPicPr/>
            <p:nvPr/>
          </p:nvPicPr>
          <p:blipFill>
            <a:blip r:embed="rId2"/>
            <a:srcRect l="2667" t="0" r="0" b="93341"/>
            <a:stretch/>
          </p:blipFill>
          <p:spPr>
            <a:xfrm>
              <a:off x="3429000" y="990720"/>
              <a:ext cx="556272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. Preliminary Fit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jority of companions are best fit with main sequ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few appear to be subgia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 the range of subdwarf temperatures (no temperature bias or trends eviden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HR" descr=""/>
          <p:cNvPicPr/>
          <p:nvPr/>
        </p:nvPicPr>
        <p:blipFill>
          <a:blip r:embed="rId1"/>
          <a:stretch/>
        </p:blipFill>
        <p:spPr>
          <a:xfrm>
            <a:off x="4040280" y="914400"/>
            <a:ext cx="470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. Preliminary Fit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remains to be done over next ~6 month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 model grids and model-matching techniqu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vestigate possible reddening effec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ify results do not change for terminal-age EH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. What does it all mea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als &amp; Future Importanc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07880" indent="-115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y nature &amp; physical parameters of the compan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07880" indent="-115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termine physical parameters of sdBs in composi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07880" indent="-115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limits for binary formation proces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 binary formation rates for Algols, SN Ia, CV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 population synthesis models for UV-uptur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lan of Attac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 hot subdwarf 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hot subdwarfs are co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hot subdwarfs gets h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we are cool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MA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e of the compan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es it all mea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. What does it all mea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MASS Result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63400" indent="-96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ction of composite sdB in current samples: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0% (magnitude limited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5% (volume limited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63400" indent="-96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no companions of dM type or earlier than ~mid-F type in current sdB s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Preliminary) Spectroscopy Result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63400" indent="-96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late-type companions are fit by main sequence sta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3400" indent="-96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a handful of subgia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cial Thanks to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04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. B. Berri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. Bogdanovi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. D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. Gangul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. A. Herrman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. T. Lew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Narayan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648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A-GSR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AO Graduate Travel Sup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nnsylvania Space Grant Consorti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ma Xi Grants-in-Aid of Research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accheus Daniel Foundation for Astronomical Sci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. Hot Subdwarf Classific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914400"/>
          <a:ext cx="8610480" cy="4416480"/>
        </p:xfrm>
        <a:graphic>
          <a:graphicData uri="http://schemas.openxmlformats.org/drawingml/2006/table">
            <a:tbl>
              <a:tblPr/>
              <a:tblGrid>
                <a:gridCol w="3474360"/>
                <a:gridCol w="2869920"/>
                <a:gridCol w="226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ff00"/>
                      </a:solidFill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dwarf B (sdB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dwarf O (sdO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i="1" lang="en-US" sz="2800" spc="-1" strike="noStrike" baseline="-20000">
                          <a:solidFill>
                            <a:srgbClr val="ffff00"/>
                          </a:solidFill>
                          <a:latin typeface="Arial"/>
                        </a:rPr>
                        <a:t>eff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(K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~20,000–30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 30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in Spectral Featur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lium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&amp; log </a:t>
                      </a: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Dispersio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olutionary Paths to </a:t>
                      </a: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 </a:t>
                      </a: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 log </a:t>
                      </a: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ltip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. Why hot subdwarfs are cool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5440" indent="-235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lactic field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xtended Horizontal Branc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EHB) star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03600" indent="-2199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~0.5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Wingdings"/>
                <a:ea typeface="Wingdings"/>
              </a:rPr>
              <a:t>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03600" indent="-2199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 baseline="-20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&lt; ~0.01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Wingdings"/>
                <a:ea typeface="Wingdings"/>
              </a:rPr>
              <a:t>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35440" indent="-235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urce of “UV-upturn” (or “UVX”) seen in old stellar popula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35440" indent="-235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HB stars have been imaged in UVX galax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35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76920" y="990720"/>
            <a:ext cx="4038120" cy="4290840"/>
            <a:chOff x="4876920" y="990720"/>
            <a:chExt cx="4038120" cy="4290840"/>
          </a:xfrm>
        </p:grpSpPr>
        <p:sp>
          <p:nvSpPr>
            <p:cNvPr id="52" name=""/>
            <p:cNvSpPr/>
            <p:nvPr/>
          </p:nvSpPr>
          <p:spPr>
            <a:xfrm>
              <a:off x="5454000" y="4944240"/>
              <a:ext cx="32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own et al. 2000, ApJ, 532, 308 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53" name="EHBstarsinM32rotated" descr=""/>
            <p:cNvPicPr/>
            <p:nvPr/>
          </p:nvPicPr>
          <p:blipFill>
            <a:blip r:embed="rId1"/>
            <a:srcRect l="0" t="0" r="1819" b="0"/>
            <a:stretch/>
          </p:blipFill>
          <p:spPr>
            <a:xfrm>
              <a:off x="4876920" y="990720"/>
              <a:ext cx="3893760" cy="38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2920" y="1200960"/>
              <a:ext cx="158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32  STIS, UV 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63440" y="4451400"/>
              <a:ext cx="7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5”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93960" y="2756520"/>
              <a:ext cx="7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5”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572000" y="4419720"/>
            <a:ext cx="609480" cy="761760"/>
          </a:xfrm>
          <a:prstGeom prst="line">
            <a:avLst/>
          </a:prstGeom>
          <a:ln w="633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I. How a hot subdwarf gets hot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Formation Scenari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371600"/>
            <a:ext cx="85345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rrent scenario for Galactic field sdB 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19160" indent="-119160"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inary interactions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significant mass lo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i.e., Mengel et al. 1976; Han et al. 2002, 2003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119160" indent="-119160"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sequence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nearly all sdB should be found in 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lose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inary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19160" indent="-119160"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Known Binary Companion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ite dwarfs (P ~ hours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30 day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ful of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low mass dM (M ~ 0.08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Wingdings"/>
                <a:ea typeface="Wingdings"/>
              </a:rPr>
              <a:t>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K-type stars (“long period,” &gt;years = unknow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119160" indent="-119160"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. How we are c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late-type companions to better understand sdBs (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d, population, etc.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MASS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dBs w/ unresolved late-type companions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[1.2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]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[1.65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],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n-US" sz="1800" spc="-1" strike="noStrike" baseline="-1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[2.2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]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ctroscopically study the compan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oals &amp; Future Significan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 nature &amp; physical parameters of the compan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ermine physical parameters of sdBs in composi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 limits for binary formation channel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a. 2MASS Compo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 distinct “clumps” in 2MASS (J-K</a:t>
            </a:r>
            <a:r>
              <a:rPr b="0" lang="en-US" sz="2800" spc="-1" strike="noStrike" baseline="-20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 vs. (J-H) color-color spa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gle” color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site color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Qdefine" descr=""/>
          <p:cNvPicPr/>
          <p:nvPr/>
        </p:nvPicPr>
        <p:blipFill>
          <a:blip r:embed="rId1"/>
          <a:srcRect l="0" t="2665" r="0" b="0"/>
          <a:stretch/>
        </p:blipFill>
        <p:spPr>
          <a:xfrm>
            <a:off x="3962520" y="914400"/>
            <a:ext cx="4876560" cy="4765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028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osi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752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ingle”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994000">
            <a:off x="4205160" y="1279800"/>
            <a:ext cx="12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842800">
            <a:off x="7704000" y="136260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a. 2MASS Compo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n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te F, G, K on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dM or early F    (most pronounced in  the best photometry sample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) &lt; 0.1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gnitude Limited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% “single” (357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% composite (237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” Limited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% “single” (309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% composite (104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Qplot.smallerror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3657600" y="838080"/>
            <a:ext cx="5181480" cy="5056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1480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ingle”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2743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osi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914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3352680"/>
            <a:ext cx="1371600" cy="1936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&lt; 0.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0.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Vb. Spectroscopic Sub-Sam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t Subdwarf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 sing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3 compo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65080" indent="-179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.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65080" indent="-179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-K</a:t>
            </a:r>
            <a:r>
              <a:rPr b="0" lang="en-US" sz="2000" spc="-1" strike="noStrike" baseline="-20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+0.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267080" y="990720"/>
            <a:ext cx="4485960" cy="4419000"/>
            <a:chOff x="4267080" y="990720"/>
            <a:chExt cx="4485960" cy="4419000"/>
          </a:xfrm>
        </p:grpSpPr>
        <p:pic>
          <p:nvPicPr>
            <p:cNvPr id="80" name="colorcolor" descr=""/>
            <p:cNvPicPr/>
            <p:nvPr/>
          </p:nvPicPr>
          <p:blipFill>
            <a:blip r:embed="rId1"/>
            <a:stretch/>
          </p:blipFill>
          <p:spPr>
            <a:xfrm>
              <a:off x="4267080" y="990720"/>
              <a:ext cx="4485960" cy="44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098760" y="1563480"/>
              <a:ext cx="124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Single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99080" y="41821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Composite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8:20:15Z</dcterms:created>
  <dc:creator>Michele A. Stark</dc:creator>
  <dc:description/>
  <dc:language>en-US</dc:language>
  <cp:lastModifiedBy>Michele A. Stark</cp:lastModifiedBy>
  <dcterms:modified xsi:type="dcterms:W3CDTF">2005-04-14T16:49:17Z</dcterms:modified>
  <cp:revision>33</cp:revision>
  <dc:subject/>
  <dc:title>The Origins of Hot Subdwarf Stars as Illuminated by Composite-Spectrum Binaries</dc:title>
</cp:coreProperties>
</file>