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4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Palatino Linotype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4197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12C9-9570-451C-B821-2CB6D67FF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0329-2147-4B1C-B711-75EEB03B1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14040" y="384120"/>
            <a:ext cx="5025960" cy="854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st of slides allows instructors to navigate easily from topic to topic as they give presen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print this lis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n the Command Bar in Microsof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Point while the title slide is sh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n the drop down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int Window, clic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rrent P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Range box and selec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es Pag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rom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-down menu under Print 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navigate in 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Show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the number of the slide you want to sh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res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key.  PowerPoint wi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ically display  tha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itle Sc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Central Id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electing a Topic and Purp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Guidelines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op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Central Ide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Brainstorm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Make Sure the Centr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neral Purpo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Idea is Not To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Specific Purpose Stat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Gener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Guidelines for the Specific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Purpose Stat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Make Sure the Centr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Write the Specific Purpo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Idea is Not Too Gener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Statement as a Full Infinitive Phr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(continued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Express the Specific Purpo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State the Central Idea 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s a Statement, Not as a Ques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 Complete Senten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Avoid Figurative Langua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State the Central Idea 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in the Specific Purpose Stat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 Complete Senten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Avoid Figurative Langu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(continued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in the Specific Purpose Stat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State the Central Idea as 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Limit the Specific Purpo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Statement, Not as a Ques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Statement to One Distinct Ide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State the Central Idea as 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Avoid Figurative Langua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Statement, Not as a Ques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in the Specific Purpose Stat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(continued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Make Sure the Specif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Avoid Figurative Langu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urpose Is Not To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in the Central Ide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Vague or Gener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. Avoid Figurative Langu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Questions to Ask abou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in the Central Ide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Your Specific Purp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(continued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Questions to Ask ab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. General Purpo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Your Specific Purp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. Main Poi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(continue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. 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1FCA-A401-41E3-A9AD-2CEF7EDB0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17440" y="69228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040" y="4387680"/>
            <a:ext cx="5025960" cy="41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5E50-072C-4E19-A682-53D1E8EAE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17440" y="69228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040" y="4387680"/>
            <a:ext cx="5025960" cy="41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504-F5A7-4889-A7B5-3A44587C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7F4A-F57B-42A2-9E2F-3F1F2801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465-8B78-4EB7-A4CE-8D1938A3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A5F-6FF3-49C0-ACCC-B5E16846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D832-B0D6-428E-AF47-2D813FE0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CFD5-E935-4ACF-B5DA-AB8219EB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ED41-12E7-4474-BBA8-4652B839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2787-B9E9-419B-AFEC-1C74558A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E1BE-A00E-445E-B489-052E587D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4220-2384-4B08-A0FD-34B2F133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BB38-D5A8-4E92-B55C-49A056EA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08E-729B-4017-813F-D9D1835D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1B64-AE4F-4D4A-99A9-43A16997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85AD-8F9D-4BCD-9EB7-09AB208D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687A-9190-4AB2-A575-138732F6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AAB0-95B8-4EAC-A56E-DF12CDC3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B2C1-24BC-445B-9A27-2BDFC41B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BBD-A451-4C49-97B9-01BB04B7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349-5852-4B22-ADAC-AC3BE43F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0AF-F308-4D44-A82F-EC0C2B32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CF5-85B5-4182-B614-08B73CBF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72C-4D34-436C-8600-594563EA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1A5-26FC-4766-8810-6174740E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7AA-7E7A-4AC8-B645-7D573EEB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5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cc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cc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Comm 105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Lecture:  Top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4264-D05E-4E33-973A-E7191EE77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5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cc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cc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97144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Comm 105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Lecture:  Telling Narra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241A-E489-4865-B3BF-AD2DFDAF3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5335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cc"/>
                </a:solidFill>
                <a:latin typeface="Palatino Linotype"/>
              </a:rPr>
              <a:t>Dr. M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Narrative Speaking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1" name="Picture 5" descr="C:\Documents and Settings\Owner\Local Settings\Temporary Internet Files\Content.IE5\5NWDNW57\MCj04357890000[1].wmf"/>
          <p:cNvPicPr/>
          <p:nvPr/>
        </p:nvPicPr>
        <p:blipFill>
          <a:blip r:embed="rId1"/>
          <a:stretch/>
        </p:blipFill>
        <p:spPr>
          <a:xfrm>
            <a:off x="3156120" y="2373480"/>
            <a:ext cx="2831760" cy="21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5335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cc"/>
                </a:solidFill>
                <a:latin typeface="Palatino Linotype"/>
              </a:rPr>
              <a:t>Dr. M.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Narrative is One of the Oldest Forms of Communication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Palatino Linotype"/>
              </a:rPr>
              <a:t>Telling Stories: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imary means of retaining historical information in an oral cultur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eserve cultural ideas and belief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an entertain, inform, persuade and inspir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rved a ritual funct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4"/>
          <p:cNvSpPr/>
          <p:nvPr/>
        </p:nvSpPr>
        <p:spPr>
          <a:xfrm>
            <a:off x="5335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cc"/>
                </a:solidFill>
                <a:latin typeface="Palatino Linotype"/>
              </a:rPr>
              <a:t>Dr. M.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2971800" y="6172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Palatino Linotype"/>
              </a:rPr>
              <a:t>Your Narrative Speech</a:t>
            </a: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55623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ell a story about a personal experienc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39996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ast summer I went on a road trip and got the scare of my life”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8" name="Picture 5" descr="C:\Documents and Settings\Owner\Local Settings\Temporary Internet Files\Content.IE5\0YPGJWN5\MPj04394050000[1].jpg"/>
          <p:cNvPicPr/>
          <p:nvPr/>
        </p:nvPicPr>
        <p:blipFill>
          <a:blip r:embed="rId1"/>
          <a:stretch/>
        </p:blipFill>
        <p:spPr>
          <a:xfrm>
            <a:off x="6934320" y="4191120"/>
            <a:ext cx="14572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5335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cc"/>
                </a:solidFill>
                <a:latin typeface="Palatino Linotype"/>
              </a:rPr>
              <a:t>Dr. M.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971800" y="6172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Palatino Linotype"/>
              </a:rPr>
              <a:t>Guidelines for Your Narrative Speech</a:t>
            </a: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Develop a Central Idea which is one full sentence that states the theme of your speech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Last summer I went on a cruise to Alaska and learned that cruises can be awesome if you can avoid certain pitfalls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Develop Character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M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The Masse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The salespeopl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Develop a Plot—use the classic conflict model (next slide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5335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cc"/>
                </a:solidFill>
                <a:latin typeface="Palatino Linotype"/>
              </a:rPr>
              <a:t>Dr. M.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2971800" y="6172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Palatino Linotype"/>
              </a:rPr>
              <a:t>Organizing Your Narrative</a:t>
            </a: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Like all speeches:  Your narrative should have a clear beginning, middle and end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ories usually begin by introducing the topic and situation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uild up to a point of tension or conflict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solve that Conflic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5335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Palatino Linotype"/>
              </a:rPr>
              <a:t>Basic Outline for Informative Narrative</a:t>
            </a:r>
            <a:endParaRPr b="0" lang="en-US" sz="40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571320">
              <a:spcBef>
                <a:spcPts val="451"/>
              </a:spcBef>
              <a:buClr>
                <a:srgbClr val="008000"/>
              </a:buClr>
              <a:buFont typeface="Palatino Linotype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Palatino Linotype"/>
              </a:rPr>
              <a:t>Introduction</a:t>
            </a:r>
            <a:endParaRPr b="0" lang="en-US" sz="1800" spc="-1" strike="noStrike">
              <a:solidFill>
                <a:srgbClr val="008000"/>
              </a:solidFill>
              <a:latin typeface="Palatino Linotype"/>
            </a:endParaRPr>
          </a:p>
          <a:p>
            <a:pPr lvl="3" marL="1828800" indent="-571320">
              <a:spcBef>
                <a:spcPts val="451"/>
              </a:spcBef>
              <a:buClr>
                <a:srgbClr val="000000"/>
              </a:buClr>
              <a:buFont typeface="Palatino Linotype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Gain Audiences Atten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828800" indent="-571320">
              <a:spcBef>
                <a:spcPts val="451"/>
              </a:spcBef>
              <a:buClr>
                <a:srgbClr val="000000"/>
              </a:buClr>
              <a:buFont typeface="Palatino Linotype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State your Purpos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371600" indent="-571320">
              <a:spcBef>
                <a:spcPts val="451"/>
              </a:spcBef>
              <a:buClr>
                <a:srgbClr val="008000"/>
              </a:buClr>
              <a:buFont typeface="Palatino Linotype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Palatino Linotype"/>
              </a:rPr>
              <a:t>Body</a:t>
            </a:r>
            <a:endParaRPr b="0" lang="en-US" sz="1800" spc="-1" strike="noStrike">
              <a:solidFill>
                <a:srgbClr val="008000"/>
              </a:solidFill>
              <a:latin typeface="Palatino Linotype"/>
            </a:endParaRPr>
          </a:p>
          <a:p>
            <a:pPr lvl="3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ransition to:  (Let’s move on. . .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Main Points = each stage of the story in chronological orde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828800" indent="-571320">
              <a:spcBef>
                <a:spcPts val="451"/>
              </a:spcBef>
              <a:buClr>
                <a:srgbClr val="000000"/>
              </a:buClr>
              <a:buFont typeface="Palatino Linotype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Introduce Setting and Characte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828800" indent="-571320">
              <a:spcBef>
                <a:spcPts val="451"/>
              </a:spcBef>
              <a:buClr>
                <a:srgbClr val="000000"/>
              </a:buClr>
              <a:buFont typeface="Palatino Linotype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e problem or conflic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828800" indent="-571320">
              <a:spcBef>
                <a:spcPts val="451"/>
              </a:spcBef>
              <a:buClr>
                <a:srgbClr val="000000"/>
              </a:buClr>
              <a:buFont typeface="Palatino Linotype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How resolved (it may have simply resolved itself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ransition to: (Today I’ve told you. . .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371600" indent="-571320">
              <a:spcBef>
                <a:spcPts val="451"/>
              </a:spcBef>
              <a:buClr>
                <a:srgbClr val="008000"/>
              </a:buClr>
              <a:buFont typeface="Palatino Linotype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Palatino Linotype"/>
              </a:rPr>
              <a:t>Conclusion</a:t>
            </a:r>
            <a:endParaRPr b="0" lang="en-US" sz="1800" spc="-1" strike="noStrike">
              <a:solidFill>
                <a:srgbClr val="008000"/>
              </a:solidFill>
              <a:latin typeface="Palatino Linotype"/>
            </a:endParaRPr>
          </a:p>
          <a:p>
            <a:pPr lvl="3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A.  Summarize/Review Your Main Points in one sentenc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B.  Conclude in a Memorable and Interesting Manne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Palatino Linotype"/>
              </a:rPr>
              <a:t>Tips for Writing a Great Narrative Speech</a:t>
            </a: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Use descriptive, vivid languag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on’t try to explain everything that happened but focus on key events and people (the most interesting aspects of your experience)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on’t be afraid to use some poetic license for the audience’s benefit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5335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2971800" y="6172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9:54:02Z</dcterms:created>
  <dc:creator>Gerry Williams</dc:creator>
  <dc:description/>
  <dc:language>en-US</dc:language>
  <cp:lastModifiedBy>Michelle</cp:lastModifiedBy>
  <dcterms:modified xsi:type="dcterms:W3CDTF">2014-08-09T14:46:20Z</dcterms:modified>
  <cp:revision>68</cp:revision>
  <dc:subject/>
  <dc:title>PowerPoint Presentation</dc:title>
</cp:coreProperties>
</file>