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4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Palatino Linotype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4197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9E8E-24FE-4F2D-967E-1D3F01BF5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40C0-2346-49AF-A886-0A4CCE432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14040" y="384120"/>
            <a:ext cx="5025960" cy="854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st of slides allows instructors to navigate easily from topic to topic as they give presen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print this lis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n the Command Bar in Microsof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Point while the title slide is sh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n the drop down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int Window, click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urrent P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Range box and selec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s Pag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-down menu under Print 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 navigate in 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Show: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the number of the slide you want to show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res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key.  PowerPoint wi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ically display  tha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itle Scre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Central Ide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electing a Topic and Purp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Guidelines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op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Central Ide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Brainstorm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Make Sure the Centr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neral Purpo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Idea is Not To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Specific Purpose Stat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Gene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Guidelines for the Specific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Purpose Stat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Make Sure the Cent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Write the Specific Purpo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Idea is Not Too Gene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Statement as a Full Infinitive Phr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(continued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Express the Specific Purpo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State the Central Idea 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s a Statement, Not as a Ques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 Complete Senten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Avoid Figurative Langua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State the Central Idea 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in the Specific Purpose Stat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 Complete Senten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Avoid Figurative Langu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(continued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in the Specific Purpose Stat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State the Central Idea as 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Limit the Specific Purpo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Statement, Not as a Ques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Statement to One Distinct Ide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State the Central Idea as 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Avoid Figurative Langua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Statement, Not as a Ques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in the Specific Purpose Stat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(continued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Make Sure the Specif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Avoid Figurative Langu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urpose Is Not To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in the Central Ide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Vague or Gener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. Avoid Figurative Langu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Questions to Ask abou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in the Central Ide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Your Specific Purp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(continued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Questions to Ask abo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. General Purpo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Your Specific Purp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. Main Poi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(continued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. 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2C2F-FEE7-4153-A7C5-BA6598003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17440" y="69228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040" y="4387680"/>
            <a:ext cx="5025960" cy="41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D985-299F-47F8-A625-985FDC883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17440" y="69228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040" y="4387680"/>
            <a:ext cx="5025960" cy="41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B3A-410F-4AC5-9845-33E872A9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6E44-7C33-4F06-B602-617DFA23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3CE-E445-459B-9DFE-8F36ED35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50BF-1F3D-4BE8-A667-5D39AEF6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EFB3-92F7-43F4-B471-48F96DED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CF7B-6C05-4E1E-BDED-4F9627D0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DD01-84B8-4248-BE16-B45DC206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BFF8-906F-456E-A579-64092F4B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39BA-E33E-40DA-B3AC-CEC536E0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5381-9132-415C-BEBC-249E6F15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D4EE-8C38-419B-A342-C2B78632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270A-C7E4-4523-AC6A-5E0AF6A4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4CCE-3AA8-4A24-89F6-DBBEC15B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79E2-4542-4384-B5FA-0B031227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FA3B-56EC-4993-8AE0-D3A39CEB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AEC3-6DF0-4BDF-AFE0-704895C9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5CBF-01EA-4F1A-9B85-8BF34B78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EA5-BE99-43E9-B8DB-07220EEA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3BD-53BD-4393-8F78-01042E36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B01-057F-49A2-B375-F354D3E1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F01-D2C7-4180-BE16-76562B96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B9D-2A29-4C89-B7BD-E5F13785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0221-73F8-4E6C-A936-6CC38C53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E9E-9791-403D-A945-0A239209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cc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Comm 105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Lecture:  Top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F4A8-F39A-4478-9D5E-0A56253B2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5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cc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97144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Comm 105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Lecture:  Telling Narra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D25E-9A60-4DAD-A8EB-A9B34D8AC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5335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Palatino Linotype"/>
              </a:rPr>
              <a:t>Dr. M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Narrative Speaking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1" name="Picture 5" descr="C:\Documents and Settings\Owner\Local Settings\Temporary Internet Files\Content.IE5\5NWDNW57\MCj04357890000[1].wmf"/>
          <p:cNvPicPr/>
          <p:nvPr/>
        </p:nvPicPr>
        <p:blipFill>
          <a:blip r:embed="rId1"/>
          <a:stretch/>
        </p:blipFill>
        <p:spPr>
          <a:xfrm>
            <a:off x="3156120" y="2373480"/>
            <a:ext cx="2831760" cy="21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5335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Palatino Linotype"/>
              </a:rPr>
              <a:t>Dr. M.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Narrative is One of the Oldest Forms of Communicatio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alatino Linotype"/>
              </a:rPr>
              <a:t>Telling Stories: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imary means of retaining historical information in an oral cultur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eserve cultural ideas and belief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an entertain, inform, persuade and inspir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rved a ritual func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4"/>
          <p:cNvSpPr/>
          <p:nvPr/>
        </p:nvSpPr>
        <p:spPr>
          <a:xfrm>
            <a:off x="5335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Palatino Linotype"/>
              </a:rPr>
              <a:t>Dr. M.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297180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Palatino Linotype"/>
              </a:rPr>
              <a:t>Your Narrative Speech</a:t>
            </a: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55623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ell a story about a personal experience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399960">
              <a:spcBef>
                <a:spcPts val="601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ast summer I went on a road trip and got the scare of my life”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8" name="Picture 5" descr="C:\Documents and Settings\Owner\Local Settings\Temporary Internet Files\Content.IE5\0YPGJWN5\MPj04394050000[1].jpg"/>
          <p:cNvPicPr/>
          <p:nvPr/>
        </p:nvPicPr>
        <p:blipFill>
          <a:blip r:embed="rId1"/>
          <a:stretch/>
        </p:blipFill>
        <p:spPr>
          <a:xfrm>
            <a:off x="6934320" y="4191120"/>
            <a:ext cx="1457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5335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Palatino Linotype"/>
              </a:rPr>
              <a:t>Dr. M.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97180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Palatino Linotype"/>
              </a:rPr>
              <a:t>Guidelines for Your Narrative Speech</a:t>
            </a: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Develop a Central Idea which is one full sentence that states the theme of your speech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Last summer I went on a cruise to Alaska and learned that cruises can be awesome if you can avoid certain pitfalls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Develop Character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M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The Masses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The salespeople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Develop a Plot—use the classic conflict model (next slide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e Placeholder 3"/>
          <p:cNvSpPr/>
          <p:nvPr/>
        </p:nvSpPr>
        <p:spPr>
          <a:xfrm>
            <a:off x="5335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cc"/>
                </a:solidFill>
                <a:latin typeface="Palatino Linotype"/>
              </a:rPr>
              <a:t>Dr. M.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297180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Palatino Linotype"/>
              </a:rPr>
              <a:t>Organizing Your Narrative</a:t>
            </a: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Like all speeches:  Your narrative should have a clear beginning, middle and end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ories usually begin by introducing the topic and situation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uild up to a point of tension or conflict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solve that Conflic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5335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Palatino Linotype"/>
              </a:rPr>
              <a:t>Basic Outline for Informative Narrative</a:t>
            </a:r>
            <a:endParaRPr b="0" lang="en-US" sz="40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571320">
              <a:spcBef>
                <a:spcPts val="451"/>
              </a:spcBef>
              <a:buClr>
                <a:srgbClr val="008000"/>
              </a:buClr>
              <a:buFont typeface="Palatino Linotype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Palatino Linotype"/>
              </a:rPr>
              <a:t>Introduction</a:t>
            </a:r>
            <a:endParaRPr b="0" lang="en-US" sz="1800" spc="-1" strike="noStrike">
              <a:solidFill>
                <a:srgbClr val="008000"/>
              </a:solidFill>
              <a:latin typeface="Palatino Linotype"/>
            </a:endParaRPr>
          </a:p>
          <a:p>
            <a:pPr lvl="3" marL="1828800" indent="-571320">
              <a:spcBef>
                <a:spcPts val="451"/>
              </a:spcBef>
              <a:buClr>
                <a:srgbClr val="000000"/>
              </a:buClr>
              <a:buFont typeface="Palatino Linotype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Gain Audiences Atten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828800" indent="-571320">
              <a:spcBef>
                <a:spcPts val="451"/>
              </a:spcBef>
              <a:buClr>
                <a:srgbClr val="000000"/>
              </a:buClr>
              <a:buFont typeface="Palatino Linotype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State your Purpos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371600" indent="-571320">
              <a:spcBef>
                <a:spcPts val="451"/>
              </a:spcBef>
              <a:buClr>
                <a:srgbClr val="008000"/>
              </a:buClr>
              <a:buFont typeface="Palatino Linotype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Palatino Linotype"/>
              </a:rPr>
              <a:t>Body</a:t>
            </a:r>
            <a:endParaRPr b="0" lang="en-US" sz="1800" spc="-1" strike="noStrike">
              <a:solidFill>
                <a:srgbClr val="008000"/>
              </a:solidFill>
              <a:latin typeface="Palatino Linotype"/>
            </a:endParaRPr>
          </a:p>
          <a:p>
            <a:pPr lvl="3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ransition to:  (Let’s move on. . .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Main Points = each stage of the story in chronological orde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828800" indent="-571320">
              <a:spcBef>
                <a:spcPts val="451"/>
              </a:spcBef>
              <a:buClr>
                <a:srgbClr val="000000"/>
              </a:buClr>
              <a:buFont typeface="Palatino Linotype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Introduce Setting and Charact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828800" indent="-571320">
              <a:spcBef>
                <a:spcPts val="451"/>
              </a:spcBef>
              <a:buClr>
                <a:srgbClr val="000000"/>
              </a:buClr>
              <a:buFont typeface="Palatino Linotype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e problem or conflic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828800" indent="-571320">
              <a:spcBef>
                <a:spcPts val="451"/>
              </a:spcBef>
              <a:buClr>
                <a:srgbClr val="000000"/>
              </a:buClr>
              <a:buFont typeface="Palatino Linotype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How resolved (it may have simply resolved itself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ransition to: (Today I’ve told you. . .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371600" indent="-571320">
              <a:spcBef>
                <a:spcPts val="451"/>
              </a:spcBef>
              <a:buClr>
                <a:srgbClr val="008000"/>
              </a:buClr>
              <a:buFont typeface="Palatino Linotype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Palatino Linotype"/>
              </a:rPr>
              <a:t>Conclusion</a:t>
            </a:r>
            <a:endParaRPr b="0" lang="en-US" sz="1800" spc="-1" strike="noStrike">
              <a:solidFill>
                <a:srgbClr val="008000"/>
              </a:solidFill>
              <a:latin typeface="Palatino Linotype"/>
            </a:endParaRPr>
          </a:p>
          <a:p>
            <a:pPr lvl="3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A.  Summarize/Review Your Main Points in one sentenc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B.  Conclude in a Memorable and Interesting Manne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Palatino Linotype"/>
              </a:rPr>
              <a:t>Tips for Writing a Great Narrative Speech</a:t>
            </a:r>
            <a:endParaRPr b="0" lang="en-US" sz="4400" spc="-1" strike="noStrike">
              <a:solidFill>
                <a:srgbClr val="333399"/>
              </a:solidFill>
              <a:latin typeface="Palatino Linotyp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Use descriptive, vivid languag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on’t try to explain everything that happened but focus on key events and people (the most interesting aspects of your experience)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on’t be afraid to use some poetic license for the audience’s benefit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5335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297180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9:54:02Z</dcterms:created>
  <dc:creator>Gerry Williams</dc:creator>
  <dc:description/>
  <dc:language>en-US</dc:language>
  <cp:lastModifiedBy>Michelle</cp:lastModifiedBy>
  <dcterms:modified xsi:type="dcterms:W3CDTF">2014-08-09T14:46:20Z</dcterms:modified>
  <cp:revision>68</cp:revision>
  <dc:subject/>
  <dc:title>PowerPoint Presentation</dc:title>
</cp:coreProperties>
</file>