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86D37-598B-404A-98C5-AC091B9A0A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54B62-EA59-4C0C-B1A9-32C5989CC8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914400" y="609480"/>
            <a:ext cx="5029200" cy="78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st of slides allows instructors to navigate easily from topic to topic as they give present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o print this list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n the Command Bar in Microsof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Point while the title slide is show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i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n the drop down men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Print Window, click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urrent Pa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n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t Range box and select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tes Pag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from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op-down menu under Print Wh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o navigate in a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lide Show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the number of the slide you want to show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press th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key.  PowerPoint wil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ically display  that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tle Slid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. Inter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aking in Publi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. Sit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aking in Public (continued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. The Speech 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wer of Public Speak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Proces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 Moments from Great Speech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. Stage F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dition of Public Speak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. Nervousness is Nor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ities Between Public Speak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. Reducing Speech Anxiet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Conver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Public Speak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. Positive Nervousnes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Conver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ech Communication Proces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. Power of Visua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ak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. Public Speaking and Cri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Th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ne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. Critical Th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en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6. Public Speaking in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of Refer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Multicultural Worl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back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. Ethnocent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. Bl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E5714-149C-4B95-8FDF-B64693358B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57058-B1DB-4336-B620-C4AA73FE2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A276-4163-4629-B569-043862AE9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99C1-EE94-4966-A75B-AE2F87C3F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957E-5BC3-43EE-AE97-54A98D384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0534-533C-4521-B3C8-3FDA86973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5E11-B624-473C-BAFA-8D598376A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D673-DF57-46BC-84A5-E0D6E86FD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C6BF-2FC6-44F5-AD57-F31D573B4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B377-FCAF-4DED-BD5F-414CAD485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F196-370B-4091-85F6-8254FE942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D5A4-02E2-4E2E-92BF-D4F24D75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4373-44CE-455C-9415-3DA5BB7D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E578-4B8B-405B-AD45-F205D434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B5F90-5773-4AEB-94F7-BBC53A89E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 Linotype"/>
              </a:rPr>
              <a:t>Speaking in Public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49" name="Picture 4" descr="j0297131"/>
          <p:cNvPicPr/>
          <p:nvPr/>
        </p:nvPicPr>
        <p:blipFill>
          <a:blip r:embed="rId1"/>
          <a:stretch/>
        </p:blipFill>
        <p:spPr>
          <a:xfrm>
            <a:off x="3505320" y="2895480"/>
            <a:ext cx="205236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Public speaking is a dynamic and interactive form of communication in which you communicate with your audience verbally and nonverbally (and they communicate with you) in a real-time or “live” setting.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Similarities Between Public Speaking and Conversation</a:t>
            </a:r>
            <a:endParaRPr b="0" lang="en-US" sz="4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73152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Organizing thoughts logically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ailoring the message to the audience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elling a story for maximum impact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dapting to listener feedback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78" name="Picture 4" descr="j0304299"/>
          <p:cNvPicPr/>
          <p:nvPr/>
        </p:nvPicPr>
        <p:blipFill>
          <a:blip r:embed="rId1"/>
          <a:stretch/>
        </p:blipFill>
        <p:spPr>
          <a:xfrm>
            <a:off x="6248520" y="4775040"/>
            <a:ext cx="2344680" cy="11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8840" y="914400"/>
            <a:ext cx="7915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Differences Between Public Speaking and Conversation</a:t>
            </a:r>
            <a:endParaRPr b="0" lang="en-US" sz="4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Public speaking is more highly structured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Public speaking requires mor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rmal language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Public speaking requires a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different method of delivery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So Let’s Get Started. . . 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Palatino Linotype"/>
              </a:rPr>
              <a:t>In-Class Assignment:  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Introduce yourself to your neighbor (find a buddy).  Ask the following questions: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What is your favorite area of study?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omething interesting that happened to you over the summer (do NOT say “nothing interesting happened to me”—maybe you had the best hamburger ever. . . So think of something) 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Introduce your new friend to the class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Take notes and turn them in with your name at the end of class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How Can This Course Help you?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Gain Real-Life Skill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Advance Professional Goal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Enhance Your Career as a Student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Become a more engaged citizen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Gain Confidence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Develop your Professional and Personal Skills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No matter what the future brings; employers seek people who can 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We will work on all of these skills in this clas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Listen effectively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Present ideas clearly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Think critically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Exude enthusiasm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53" name="Picture 4" descr="j0231746"/>
          <p:cNvPicPr/>
          <p:nvPr/>
        </p:nvPicPr>
        <p:blipFill>
          <a:blip r:embed="rId1"/>
          <a:stretch/>
        </p:blipFill>
        <p:spPr>
          <a:xfrm>
            <a:off x="6172200" y="4343400"/>
            <a:ext cx="166212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Public Speaking is Rhetorical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alatino Linotype"/>
              </a:rPr>
              <a:t>Rhetoric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:  (In highly simplified terms) the art of persuasion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Rhetorical theory was developed by Aristotle.  In classical Greece it was a core part of the university curriculum. 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It is still offered in many different forms 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You need to adapt your message to particular audience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Your speeches &amp; presentations should be audience-centered at all stages in the speechwriting process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Everything in a given message impacts </a:t>
            </a:r>
            <a:r>
              <a:rPr b="0" i="1" lang="en-US" sz="2400" spc="-1" strike="noStrike">
                <a:solidFill>
                  <a:srgbClr val="000000"/>
                </a:solidFill>
                <a:latin typeface="Palatino Linotype"/>
              </a:rPr>
              <a:t>your audience’s perception of your credibility</a:t>
            </a:r>
            <a:r>
              <a:rPr b="0" i="1" lang="en-US" sz="32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Audience’s Judge you Based on 3 Main Areas 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e speaker’s knowledge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e speaker’s level of clarity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e speaker’s delivery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60" name="Oval 3" descr=""/>
          <p:cNvPicPr/>
          <p:nvPr/>
        </p:nvPicPr>
        <p:blipFill>
          <a:blip r:embed="rId1"/>
          <a:stretch/>
        </p:blipFill>
        <p:spPr>
          <a:xfrm>
            <a:off x="585720" y="433440"/>
            <a:ext cx="7296120" cy="6229440"/>
          </a:xfrm>
          <a:prstGeom prst="rect">
            <a:avLst/>
          </a:prstGeom>
          <a:ln w="0">
            <a:noFill/>
          </a:ln>
        </p:spPr>
      </p:pic>
      <p:sp>
        <p:nvSpPr>
          <p:cNvPr id="61" name="Isosceles Triangle 4"/>
          <p:cNvSpPr/>
          <p:nvPr/>
        </p:nvSpPr>
        <p:spPr>
          <a:xfrm>
            <a:off x="1600200" y="457200"/>
            <a:ext cx="5486400" cy="5181480"/>
          </a:xfrm>
          <a:prstGeom prst="triangle">
            <a:avLst>
              <a:gd name="adj" fmla="val 50171"/>
            </a:avLst>
          </a:prstGeom>
          <a:solidFill>
            <a:srgbClr val="00b0f0"/>
          </a:solidFill>
          <a:ln w="550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8"/>
          <p:cNvSpPr/>
          <p:nvPr/>
        </p:nvSpPr>
        <p:spPr>
          <a:xfrm>
            <a:off x="3505320" y="2514600"/>
            <a:ext cx="1981080" cy="1905120"/>
          </a:xfrm>
          <a:prstGeom prst="ellipse">
            <a:avLst/>
          </a:prstGeom>
          <a:solidFill>
            <a:srgbClr val="ff0000"/>
          </a:solidFill>
          <a:ln w="550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C:\Documents and Settings\Owner\Local Settings\Temporary Internet Files\Content.IE5\7R7GAQB5\MCj03977840000[1].wmf"/>
          <p:cNvPicPr/>
          <p:nvPr/>
        </p:nvPicPr>
        <p:blipFill>
          <a:blip r:embed="rId2"/>
          <a:stretch/>
        </p:blipFill>
        <p:spPr>
          <a:xfrm>
            <a:off x="3581280" y="2438280"/>
            <a:ext cx="1710000" cy="1887480"/>
          </a:xfrm>
          <a:prstGeom prst="rect">
            <a:avLst/>
          </a:prstGeom>
          <a:ln w="0">
            <a:noFill/>
          </a:ln>
        </p:spPr>
      </p:pic>
      <p:sp>
        <p:nvSpPr>
          <p:cNvPr id="64" name="TextBox 9"/>
          <p:cNvSpPr/>
          <p:nvPr/>
        </p:nvSpPr>
        <p:spPr>
          <a:xfrm flipH="1">
            <a:off x="3124080" y="449568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peaker Cred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0"/>
          <p:cNvSpPr/>
          <p:nvPr/>
        </p:nvSpPr>
        <p:spPr>
          <a:xfrm>
            <a:off x="1219320" y="5181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3733920" y="609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C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3"/>
          <p:cNvSpPr/>
          <p:nvPr/>
        </p:nvSpPr>
        <p:spPr>
          <a:xfrm>
            <a:off x="6095880" y="51814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Clarity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arity includes the following areas: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Organization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Use of Transitions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e order of your main points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Knowledge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Knowledge includes the following areas: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Quality of your Research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Credibility of your Sources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mount of sources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Use of language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Delivery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Delivery includes the following areas: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Body Language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Vocals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Eye Contact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19:18:49Z</dcterms:created>
  <dc:creator>Gerry Williams</dc:creator>
  <dc:description/>
  <dc:language>en-US</dc:language>
  <cp:lastModifiedBy>Michelle</cp:lastModifiedBy>
  <dcterms:modified xsi:type="dcterms:W3CDTF">2014-08-08T17:04:42Z</dcterms:modified>
  <cp:revision>126</cp:revision>
  <dc:subject/>
  <dc:title>PowerPoint Presentation</dc:title>
</cp:coreProperties>
</file>