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B4B-76F6-4471-BFAE-A6EA9FF42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50B-308F-40A6-94B5-303AA36BF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609480"/>
            <a:ext cx="5029200" cy="78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st of slides allows instructors to navigate easily from topic to topic as they give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int this li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Command Bar in Microsof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 while the title slide is sh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drop down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int Window, 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 P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Range box and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s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down menu under Print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navigate in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Show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the number of the slide you want to sh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res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key.  PowerPoint wi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cally display  tha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l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ing in Publ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ing in Public (continue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The Speech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wer of Public Spe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Moments from Great Speech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Stage F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dition of Public Spe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Nervousness is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Between Public Spe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Reducing Speech Anxie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ver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Public Spe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Positive Nervous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onver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ch Communication Proc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Power of Visu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a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Public Speaking and Cri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Critic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Public Speak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of Refer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Multicultural Wor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Ethnocent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F154-A4FD-40A9-A73C-5443A8DAB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50FF-BBF7-4076-9E0E-9BD113DE5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641-4033-4A4D-A3CA-8AB23DA6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A75-3276-46F0-9C78-D7E6ACE7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0E89-E795-4719-B002-EB4452B1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961-2804-43C3-8D3F-01884BA4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BF7-7499-4425-B40D-3E617242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3D0-DB22-4FBC-B0B0-F9FAB153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BFA-3843-4FF4-AF10-55398173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53E-9FBF-4F29-874C-F47453DB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8EF-289D-425F-B4D6-F82CCDAB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CC9-6510-4847-B78D-FC6690B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140-17EC-468F-AD81-B060DFA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6F8-A7CC-410C-AAD3-81214FB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473-811A-443F-9FC4-97AA3677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Speaking in Public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49" name="Picture 4" descr="j0297131"/>
          <p:cNvPicPr/>
          <p:nvPr/>
        </p:nvPicPr>
        <p:blipFill>
          <a:blip r:embed="rId1"/>
          <a:stretch/>
        </p:blipFill>
        <p:spPr>
          <a:xfrm>
            <a:off x="3505320" y="2895480"/>
            <a:ext cx="2052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is a dynamic and interactive form of communication in which you communicate with your audience verbally and nonverbally (and they communicate with you) in a real-time or “live” setting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imilarities Between Public Speaking and Conversa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152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rganizing thoughts logicall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ailoring the message to the audienc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lling a story for maximum impa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apting to listener feedback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78" name="Picture 4" descr="j0304299"/>
          <p:cNvPicPr/>
          <p:nvPr/>
        </p:nvPicPr>
        <p:blipFill>
          <a:blip r:embed="rId1"/>
          <a:stretch/>
        </p:blipFill>
        <p:spPr>
          <a:xfrm>
            <a:off x="6248520" y="4775040"/>
            <a:ext cx="234468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8840" y="914400"/>
            <a:ext cx="7915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Differences Between Public Speaking and Conversation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is more highly structure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requires mo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rmal langua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ublic speaking require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ifferent method of deliver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 Let’s Get Started. . .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In-Class Assignment: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roduce yourself to your neighbor (find a buddy).  Ask the following question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is your favorite area of study?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omething interesting that happened to you over the summer (do NOT say “nothing interesting happened to me”—maybe you had the best hamburger ever. . . So think of something)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troduce your new friend to the cla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ake notes and turn them in with your name at the end of cla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How Can This Course Help you?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in Real-Life Skill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dvance Professional Goal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 Your Career as a Stud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ecome a more engaged citize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ain Confidenc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 your Professional and Personal Skill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o matter what the future brings; employers seek people who can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e will work on all of these skills in this cla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Listen effective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resent ideas clear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nk criticall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xude enthusias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3" name="Picture 4" descr="j0231746"/>
          <p:cNvPicPr/>
          <p:nvPr/>
        </p:nvPicPr>
        <p:blipFill>
          <a:blip r:embed="rId1"/>
          <a:stretch/>
        </p:blipFill>
        <p:spPr>
          <a:xfrm>
            <a:off x="6172200" y="4343400"/>
            <a:ext cx="1662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ublic Speaking is Rhetorical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Rhetoric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:  (In highly simplified terms) the art of persuas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hetorical theory was developed by Aristotle.  In classical Greece it was a core part of the university curriculum.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t is still offered in many different forms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You need to adapt your message to particular audience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Your speeches &amp; presentations should be audience-centered at all stages in the speechwriting process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verything in a given message impacts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your audience’s perception of your credibility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Audience’s Judge you Based on 3 Main Areas 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knowled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level of clarit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e speaker’s deliver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0" name="Oval 3" descr=""/>
          <p:cNvPicPr/>
          <p:nvPr/>
        </p:nvPicPr>
        <p:blipFill>
          <a:blip r:embed="rId1"/>
          <a:stretch/>
        </p:blipFill>
        <p:spPr>
          <a:xfrm>
            <a:off x="585720" y="433440"/>
            <a:ext cx="7296120" cy="6229440"/>
          </a:xfrm>
          <a:prstGeom prst="rect">
            <a:avLst/>
          </a:prstGeom>
          <a:ln w="0">
            <a:noFill/>
          </a:ln>
        </p:spPr>
      </p:pic>
      <p:sp>
        <p:nvSpPr>
          <p:cNvPr id="61" name="Isosceles Triangle 4"/>
          <p:cNvSpPr/>
          <p:nvPr/>
        </p:nvSpPr>
        <p:spPr>
          <a:xfrm>
            <a:off x="1600200" y="457200"/>
            <a:ext cx="5486400" cy="5181480"/>
          </a:xfrm>
          <a:prstGeom prst="triangle">
            <a:avLst>
              <a:gd name="adj" fmla="val 50171"/>
            </a:avLst>
          </a:prstGeom>
          <a:solidFill>
            <a:srgbClr val="00b0f0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505320" y="2514600"/>
            <a:ext cx="1981080" cy="1905120"/>
          </a:xfrm>
          <a:prstGeom prst="ellipse">
            <a:avLst/>
          </a:prstGeom>
          <a:solidFill>
            <a:srgbClr val="ff0000"/>
          </a:solidFill>
          <a:ln w="550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Documents and Settings\Owner\Local Settings\Temporary Internet Files\Content.IE5\7R7GAQB5\MCj03977840000[1].wmf"/>
          <p:cNvPicPr/>
          <p:nvPr/>
        </p:nvPicPr>
        <p:blipFill>
          <a:blip r:embed="rId2"/>
          <a:stretch/>
        </p:blipFill>
        <p:spPr>
          <a:xfrm>
            <a:off x="3581280" y="2438280"/>
            <a:ext cx="1710000" cy="1887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 flipH="1">
            <a:off x="3124080" y="4495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peaker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12193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733920" y="609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6095880" y="5181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ari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arity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se of Transition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order of your main poin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Knowledg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Knowledge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Quality of your Research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redibility of your Sour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mount of sourc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se of languag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elivery includes the following areas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Vocal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9:18:49Z</dcterms:created>
  <dc:creator>Gerry Williams</dc:creator>
  <dc:description/>
  <dc:language>en-US</dc:language>
  <cp:lastModifiedBy>Michelle</cp:lastModifiedBy>
  <dcterms:modified xsi:type="dcterms:W3CDTF">2014-08-08T17:04:42Z</dcterms:modified>
  <cp:revision>126</cp:revision>
  <dc:subject/>
  <dc:title>PowerPoint Presentation</dc:title>
</cp:coreProperties>
</file>