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A585-75E9-4B21-B2CB-CBF32747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5863-A1EF-4BAE-B84A-BBB5FA666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9A9-36C1-49E6-85E7-F19724E5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6A6-F08E-488B-9E0B-E650B4AD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768-EA38-4A9A-B029-8811EE70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1E7-78AB-4809-8DA8-18D9106A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DFB-C969-4359-AE1B-F4541464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122-8107-474D-A5CD-90B17BF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D36-6499-47E6-A5B4-017EDAB6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352-F593-425F-BE89-73D8489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31C-5B30-4ED4-BB66-CA927D6E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800-4163-49FA-87BC-F03EDC8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490-A6DC-4BA9-8732-4B8BCA8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50F-6870-485E-8E1E-BF4E101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99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Comm 105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Lecture:  Giving Your First Spe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D959-C856-4EEB-AD72-DE56EF28E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Giving Your First Spee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educing Anxiet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51" name="Picture 4" descr="MCPE02951_0000[1]"/>
          <p:cNvPicPr/>
          <p:nvPr/>
        </p:nvPicPr>
        <p:blipFill>
          <a:blip r:embed="rId1"/>
          <a:stretch/>
        </p:blipFill>
        <p:spPr>
          <a:xfrm>
            <a:off x="3746520" y="3048120"/>
            <a:ext cx="1868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591840"/>
            <a:ext cx="790416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Reducing Speech Anxiet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cquire speaking experienc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repare, prepare, prepar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nk positivel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Use the power of visualiz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Know that most nervousness is not visibl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on’t expect perfec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Process Anxiety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Not knowing what to do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Performance Anxiety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“stage-fright” and fear of social scrutiny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Psychological Anxiety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Internal monologue that can be extremely negative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Overcoming Process Anxiet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nderstanding that all speech-writing is based on the </a:t>
            </a:r>
            <a:r>
              <a:rPr b="0" lang="en-US" sz="2800" spc="-1" strike="noStrike">
                <a:solidFill>
                  <a:srgbClr val="333399"/>
                </a:solidFill>
                <a:latin typeface="Palatino Linotype"/>
              </a:rPr>
              <a:t>5 canons or stage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Invention: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reating the Speech by coming up with a good speech topic and researching that topic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Arrangement: 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rganizing the Speech by logically assembling your main points and supporting materials (introduction, body, conclusion)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Style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Using effective languag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Memor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Learning your major idea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Palatino Linotype"/>
              </a:rPr>
              <a:t>Delivery: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 Performing the speech. Work on methods of delivery; eye contact and nonverbal communicatio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vercoming Performance Anxiety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Palatino Linotype"/>
              </a:rPr>
              <a:t>Fight-or-flight mechanism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 This is a physiological response that produces the hormone adrenaline in your body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Increased heart rat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terfli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weaty palm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ry mouth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How to Cope with These Symptoms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Take care of your body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:  Get enough sleep and enough to eat before presenting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Plan &amp; Prepare Beforehand; us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 great introduction to get you going.  Practice!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Claim your space at the podium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:  Take a breath, make eye contact with the audience, adjust your body, head up, shoulders back—take your time—smile!  And begin when ready!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Palatino Linotype"/>
              </a:rPr>
              <a:t>Use whatever ‘props’ you need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t the podium to feel comfortabl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A means of timing yourself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ater (it is okay to take a drink—everyone will recognize this basic need and respect it!)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Lucky charm or faith object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99"/>
                </a:solidFill>
                <a:latin typeface="Palatino Linotype"/>
              </a:rPr>
              <a:t>Michelle Sil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Overcoming Psychological Anxiety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ontrol negative thought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Visualize yourself doing wel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2:14:15Z</dcterms:created>
  <dc:creator>Michelle Silva</dc:creator>
  <dc:description/>
  <dc:language>en-US</dc:language>
  <cp:lastModifiedBy>Michelle</cp:lastModifiedBy>
  <dcterms:modified xsi:type="dcterms:W3CDTF">2014-08-13T17:41:08Z</dcterms:modified>
  <cp:revision>4</cp:revision>
  <dc:subject/>
  <dc:title>Giving Your First Speech</dc:title>
</cp:coreProperties>
</file>