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C8D2-1372-4DD3-BFAA-891A56F35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BE02-B2D5-4807-8D64-CA70306A8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A01-36E7-4A8F-81E9-5832A0C8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7F9-752A-49F2-9A9A-D7CD90A3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394-8617-4001-85FA-32D1D6DA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021-0489-4B92-BD43-1B1F3653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D97-73C8-4F22-8B89-C0610215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68F-A9F0-463A-8E36-7C7EED22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1BAF-D97A-4A17-97E1-56CA190F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CA5B-E9EE-456D-B2A4-B4EF89C9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C7C-3ACB-439C-8788-82F80E0F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525-FF3C-42F1-9D40-0827ECF6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969-1977-4238-8F8E-62AFE538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9CA-3828-44B2-9750-7CE6F707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99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Comm 105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Lecture:  Giving Your First Spe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3209-66FD-471D-8A83-8C82BBE9B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Giving Your First Speech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educing Anxiety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51" name="Picture 4" descr="MCPE02951_0000[1]"/>
          <p:cNvPicPr/>
          <p:nvPr/>
        </p:nvPicPr>
        <p:blipFill>
          <a:blip r:embed="rId1"/>
          <a:stretch/>
        </p:blipFill>
        <p:spPr>
          <a:xfrm>
            <a:off x="3746520" y="3048120"/>
            <a:ext cx="1868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591840"/>
            <a:ext cx="790416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Reducing Speech Anxiety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cquire speaking experienc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repare, prepare, prepar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nk positively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Use the power of visualization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Know that most nervousness is not visibl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on’t expect perfection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Palatino Linotype"/>
              </a:rPr>
              <a:t>Process Anxiety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Not knowing what to do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Palatino Linotype"/>
              </a:rPr>
              <a:t>Performance Anxiety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“stage-fright” and fear of social scrutiny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Palatino Linotype"/>
              </a:rPr>
              <a:t>Psychological Anxiety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Internal monologue that can be extremely negative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Overcoming Process Anxiety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nderstanding that all speech-writing is based on the </a:t>
            </a:r>
            <a:r>
              <a:rPr b="0" lang="en-US" sz="2800" spc="-1" strike="noStrike">
                <a:solidFill>
                  <a:srgbClr val="333399"/>
                </a:solidFill>
                <a:latin typeface="Palatino Linotype"/>
              </a:rPr>
              <a:t>5 canons or stage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alatino Linotype"/>
              </a:rPr>
              <a:t>Invention: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reating the Speech by coming up with a good speech topic and researching that topic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alatino Linotype"/>
              </a:rPr>
              <a:t>Arrangement: 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Organizing the Speech by logically assembling your main points and supporting materials (introduction, body, conclusion)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alatino Linotype"/>
              </a:rPr>
              <a:t>Styl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 Using effective languag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alatino Linotype"/>
              </a:rPr>
              <a:t>Memor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 Learning your major idea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alatino Linotype"/>
              </a:rPr>
              <a:t>Deliver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 Performing the speech. Work on methods of delivery; eye contact and nonverbal communication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Overcoming Performance Anxiety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Palatino Linotype"/>
              </a:rPr>
              <a:t>Fight-or-flight mechanism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This is a physiological response that produces the hormone adrenaline in your body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creased heart rat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utterfli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weaty palm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ry mouth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ow to Cope with These Symptoms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alatino Linotype"/>
              </a:rPr>
              <a:t>Take care of your body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:  Get enough sleep and enough to eat before presenting.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alatino Linotype"/>
              </a:rPr>
              <a:t>Plan &amp; Prepare Beforehand; use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 great introduction to get you going.  Practice!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alatino Linotype"/>
              </a:rPr>
              <a:t>Claim your space at the podium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:  Take a breath, make eye contact with the audience, adjust your body, head up, shoulders back—take your time—smile!  And begin when ready!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alatino Linotype"/>
              </a:rPr>
              <a:t>Use whatever ‘props’ you need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t the podium to feel comfortable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A means of timing yourself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Water (it is okay to take a drink—everyone will recognize this basic need and respect it!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Lucky charm or faith objec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Overcoming Psychological Anxiety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ontrol negative thought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Visualize yourself doing wel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2:14:15Z</dcterms:created>
  <dc:creator>Michelle Silva</dc:creator>
  <dc:description/>
  <dc:language>en-US</dc:language>
  <cp:lastModifiedBy>Michelle</cp:lastModifiedBy>
  <dcterms:modified xsi:type="dcterms:W3CDTF">2014-08-13T17:41:08Z</dcterms:modified>
  <cp:revision>4</cp:revision>
  <dc:subject/>
  <dc:title>Giving Your First Speech</dc:title>
</cp:coreProperties>
</file>