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96F-5D45-4B06-84AA-7E87A68B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AE4-559F-4EF6-91EE-B7FA399C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38E-55AD-47EC-B0D9-55454390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6AC-AC6F-44B3-B2E2-84F68831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466A-0708-4827-A4D2-2C99CB3B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6502-FECA-452E-A529-64DA038F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895F-703B-4AE4-9E17-70391CF3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E7F0-7590-44AD-8570-24823A6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A309-F8CB-497E-B999-37FE1E7A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0AB3-07EA-449B-8EBC-B5D02329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3D62-6586-4EE7-AC22-749FE87D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323-20E4-41F7-803A-5E40E987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5F5A-6899-4C50-9224-72CE0E7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A4DC-E801-4A2B-A693-DB06F7B3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C42D-409F-4EB5-AF7B-0F4AC528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D5F1-9A53-4800-9B93-F620B98A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896D-4A4E-40B3-96B3-701A66EB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A27-6CFD-4907-8100-46C7B8AA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4F8-5168-4BE1-9099-0B5639CC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3B9-F005-4A26-8CFF-7AB61AC3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141-F108-4C10-82D1-C92E9C39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0B3-8EDC-4601-B57D-2CB7C5BC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0BC-E88A-459E-9B49-F786273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8CB-0651-489E-9843-3002382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6CE0-32F3-4B58-BA25-21DA88217A9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A17-BD26-42D3-8DA6-A15573AAA04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74680" y="1670040"/>
            <a:ext cx="900252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Dan Holbroo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212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"Ergot Poisoning (LSD) - the Cause of the Salem Witch Trials - PBS Secrets of the Dead."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Hiawatha Broadband Communications, Inc. | Office Numbers: Winona 507.474.4000 • St. Charles 507.932.8000 • Wabasha 651.560.4000 • Toll Free 888.474.9995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. Web. 27 Oct. 2010. &lt;http://www.hbci.com/~wenonah/history/ergot.htm&gt;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nahan, By Sean. "GREAT FAMINE."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Access Excellence @ the National Health Museum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. Web. 27 Oct. 2010. &lt;http://www.accessexcellence.org/WN/SUA03/great_famine.php&gt;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ney, Nicholas P.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Triumph of the Fungi: A Rotten History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. New York: Oxford UP, 2006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aeed, Sheikh Arshad. "Penicillin."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Penicilli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. Web. 27 Oct. 2010. &lt;http://www.dawn.com/weekly/science/archive/051112/science6.htm&gt;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ainwright, M. "Penicillin: Triumph and Tragedy."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Social History of Medicin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20.3 (2007): 615-17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74680" y="255600"/>
            <a:ext cx="3438360" cy="124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ne cause was the  potato bligh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Phytophthora infesta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Water mol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Can also affect tomato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4952880" y="3505320"/>
            <a:ext cx="3732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mer of  184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mp and Chi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tinued on after 184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ver three million people dependant on potato cro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749760" y="14144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360360" y="225360"/>
            <a:ext cx="3108240" cy="1212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845 forty percent of crop destr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846 ninety perc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e million death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e million leav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pulation of Ireland at the time was eight mill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733920" y="1217520"/>
            <a:ext cx="5111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5541840" y="225360"/>
            <a:ext cx="3108600" cy="1212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38320" y="152388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got poiso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ows on rye and other similar pla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uses LCD sympto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mptoms match  those affec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665360" y="773280"/>
            <a:ext cx="2695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5535720" y="487440"/>
            <a:ext cx="3747960" cy="1738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486400" y="24382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nnda Capora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urnals tell of warm rainy summ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ose affected live near swamp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nd records show affected owned large fiel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475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5614920" y="225360"/>
            <a:ext cx="3114720" cy="1212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7150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scle Contrac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fects central nervous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uses hallucin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SD derived from ergo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432080" y="893880"/>
            <a:ext cx="3162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3084480" y="378000"/>
            <a:ext cx="3279960" cy="1261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nicillium sp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ung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exander Fleming 192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cid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5730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304920" y="390600"/>
            <a:ext cx="3163680" cy="1517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520" y="225576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idely used antibiotics (WWII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d of dise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200 trillion units used by 195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sistant strai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lp for future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ill used toda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581280" y="609480"/>
            <a:ext cx="53164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3:04:13Z</dcterms:created>
  <dc:creator>Dan Holbrook</dc:creator>
  <dc:description/>
  <dc:language>en-US</dc:language>
  <cp:lastModifiedBy>Windows User</cp:lastModifiedBy>
  <dcterms:modified xsi:type="dcterms:W3CDTF">2010-11-30T23:45:59Z</dcterms:modified>
  <cp:revision>9</cp:revision>
  <dc:subject/>
  <dc:title>Historical impacts of fungi</dc:title>
</cp:coreProperties>
</file>