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DC3-6458-47A8-9FE8-F7083BB4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79C-AC97-4E0C-B44E-E831B2A6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EAE-8751-433B-B0A5-44481783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9AF-8899-4E6E-BD96-D796BCE4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9389-CD8B-45EE-8065-3AA7E075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9D85-334D-44C6-883D-2AEF3E9E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91B4-424E-4291-8F59-E0D09515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31AB-C27C-4904-83A3-0415A9BE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DFE4-321B-4444-B972-EF38C98E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38B3-3B4A-4F58-BF59-584FA04B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E86C-D9A6-424F-9393-01121B24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01B-7C09-4B44-A52D-1B1C7D96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C3B2-CEB3-468F-99D2-12E61703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64E5-124A-4887-B041-EDA91E37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39BB-ADB4-4547-AB5A-B99B6922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0592-6DE3-44CF-A55D-27199CCA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DF0F-178E-471B-8E48-244C1181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2DB-7A69-421F-B5F2-9F4FADAE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374-D175-44D5-B79D-D40BF4E1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BFB-535C-4773-8C74-81B9832A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B7A6-E0C2-47C7-BFE0-F80CF1EA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443-F49F-4375-A5B2-3465FB33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86C-38B0-4282-ACF1-A283D9F5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B03-4CB3-45EF-BEAC-E697150D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2A30-69EF-4FC4-8167-00DE7939B4F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62D5-A9B0-49AE-B8C4-5CA825B2455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74680" y="1670040"/>
            <a:ext cx="9002520" cy="205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Dan Holbroo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212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"Ergot Poisoning (LSD) - the Cause of the Salem Witch Trials - PBS Secrets of the Dead."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Hiawatha Broadband Communications, Inc. | Office Numbers: Winona 507.474.4000 • St. Charles 507.932.8000 • Wabasha 651.560.4000 • Toll Free 888.474.9995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. Web. 27 Oct. 2010. &lt;http://www.hbci.com/~wenonah/history/ergot.htm&gt;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enahan, By Sean. "GREAT FAMINE."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Access Excellence @ the National Health Museum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. Web. 27 Oct. 2010. &lt;http://www.accessexcellence.org/WN/SUA03/great_famine.php&gt;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ney, Nicholas P.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Triumph of the Fungi: A Rotten History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. New York: Oxford UP, 2006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aeed, Sheikh Arshad. "Penicillin."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Penicillin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. Web. 27 Oct. 2010. &lt;http://www.dawn.com/weekly/science/archive/051112/science6.htm&gt;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Wainwright, M. "Penicillin: Triumph and Tragedy." 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Social History of Medicin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20.3 (2007): 615-17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274680" y="255600"/>
            <a:ext cx="3438360" cy="124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ne cause was the  potato bligh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Phytophthora infestan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Water mol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Can also affect tomato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4952880" y="3505320"/>
            <a:ext cx="3732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mmer of  184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amp and Chil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tinued on after 184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ver three million people dependant on potato cro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749760" y="14144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360360" y="225360"/>
            <a:ext cx="3108240" cy="1212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300816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845 forty percent of crop destroy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846 ninety perce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e million death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ne million leav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pulation of Ireland at the time was eight mill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733920" y="1217520"/>
            <a:ext cx="51116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5541840" y="225360"/>
            <a:ext cx="3108600" cy="1212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638320" y="152388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got poiso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ows on rye and other similar pla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uses LCD sympto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ymptoms match  those affec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665360" y="773280"/>
            <a:ext cx="2695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5535720" y="487440"/>
            <a:ext cx="3747960" cy="1738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486400" y="24382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nnda Capora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ournals tell of warm rainy summ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ose affected live near swamp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nd records show affected owned large field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47577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5614920" y="225360"/>
            <a:ext cx="3114720" cy="1212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7150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uscle Contrac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ffects central nervous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uses hallucin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SD derived from ergo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432080" y="893880"/>
            <a:ext cx="3162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3084480" y="378000"/>
            <a:ext cx="3279960" cy="1261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nicillium sp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ung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lexander Fleming 1928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cid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5730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304920" y="390600"/>
            <a:ext cx="3163680" cy="1517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520" y="225576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idely used antibiotics (WWII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nd of diseas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ver 200 trillion units used by 1950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sistant strai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lp for future us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601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ill used toda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581280" y="609480"/>
            <a:ext cx="53164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3:04:13Z</dcterms:created>
  <dc:creator>Dan Holbrook</dc:creator>
  <dc:description/>
  <dc:language>en-US</dc:language>
  <cp:lastModifiedBy>Windows User</cp:lastModifiedBy>
  <dcterms:modified xsi:type="dcterms:W3CDTF">2010-11-30T23:45:59Z</dcterms:modified>
  <cp:revision>9</cp:revision>
  <dc:subject/>
  <dc:title>Historical impacts of fungi</dc:title>
</cp:coreProperties>
</file>