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C216-0B45-4B02-9CC1-FE0825A3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re Advantage Plans must follow rules set by Medicare. However, each plan can charge different out-of-pocket costs and have different rules for how you get services (like whether you need a referral to see a specialist or if you have to go to only doctors, facilities, or suppliers that belong to the plan).  One monthly prem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043-031A-4A0B-8904-95F46428E1F5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auses PT, OT, SP to typically give the best t(x) in first 10-15 days so can show need for care and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A6A-4C29-4D27-9B08-09CC7CE25613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had unemployment in 1997: level of care, skilled care limited, and cap. Became accountable to time and outco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E6B4-A374-4820-8277-5AB9A3CC775B}" type="slidenum"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172-06C5-4243-B2E0-220831A0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8B0-D160-47EF-88AA-C2BF767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09F-7C83-40C6-BB46-630D7193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FBC-ACE7-4E70-A055-288A357D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689E-E5C2-49E8-B06B-E8636DB6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4C88-FA43-429D-ADB7-25E1F6C4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CA33-ACAE-4CD0-806B-0E4ED77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8E7C-69C7-4C7C-B350-10707FD9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9265-5DE1-4CCD-BBCA-2986652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513-F8B4-45BB-93EE-A01AC05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5CBA-831B-44EB-9629-A42C059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385-1B6F-4403-BACC-5239DD6C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9DE-82B6-43B7-B706-8D1F2AF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E27-AF3F-4E58-A23C-05BB26E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810-0BC6-4C70-8565-C535F9D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AB2E-45B9-4F32-B0D1-622B04B2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076-16CE-423E-BC7B-D3CD0AFA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DD4-EE14-45CB-9B7F-64462F97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DBC-1B27-42C5-92AA-E0E59AB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74A-89C4-4409-902F-B25ED2A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D5B-24A8-43DE-AA58-A130BF4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B3F-1D8A-4A5A-B405-D07F3AE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73D-82D8-4437-8739-99F8DF5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249-2B80-4B53-B814-65D89B0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962-6FCE-4ED4-A8E0-0025FAE83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FE7A-AAE0-4259-AD13-4724DF057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rainsdetroit.com/article/20090624/FREE/906249965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gov/" TargetMode="External"/><Relationship Id="rId2" Type="http://schemas.openxmlformats.org/officeDocument/2006/relationships/hyperlink" Target="http://www.ssa.gov/OP_Home/ssact/title18/1800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th Care Systems, Medicare &amp; 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TP 783 Module 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is made up of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A services: hospital, in-p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B services: out-patient servi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C (Medicare Advantage plans) H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D: Med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have to be over 65 to have Medicar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ipulations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ver 65 who is eligible for Social Secu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ailroad retirement benef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ability benefits for greater than 24 month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hronic renal disea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it important for physical therapists to be familiar with the rules defining skilled and nonskilled services for Medicare recipi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ed Rehab Services covered by Medicar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evalu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r ex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ual therapy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ait train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O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ltrasound, E-sti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atherm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aff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irlpoo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ransfer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stablishing a FM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traint evalu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thotic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/c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t &amp; family trai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sopneumatic devi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rared * </a:t>
            </a: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(depends on intermediary)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rt A 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spital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First 60 days pay all but $1184 (deductible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61-90 days pay all but $296/d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91-150 days pay all but $592/day (lifetime reserve days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&gt;150 days Medicare pays nothing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NF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Medicare pays first 20 days at 100%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then 80% from day 21-100 up to $148/d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after 100 days Part A services pays nothing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100% medically necessary services, and 80% DM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Must be home bound and under physician’s care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ospic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100% except limited cost sharing for meds and respite care (5% discount off Medicare approved rate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Has to be a Medicare approved hospice inpt facility (</a:t>
            </a:r>
            <a:r>
              <a:rPr b="1" i="1" lang="en-US" sz="1600" spc="-1" strike="noStrike">
                <a:solidFill>
                  <a:srgbClr val="333300"/>
                </a:solidFill>
                <a:latin typeface="Arial"/>
              </a:rPr>
              <a:t>not the pt’s home or a SNF that is not approved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Blood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Pays for first 3 pints furnished by hospital or SNF during a covered stay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 with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nefit period: begins on day 1 of hospital and ends after 60 days of wellness after d/c from hospital or SNF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&amp; S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 Medicare coverage with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PART A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services the pt must have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3-day qualifying stay in the hospit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quire skilled services (PT, OT, ST, nursing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f the pt is not directly admitted to a SNF after d/c from the hospital then he/she h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ays to be admitted to the SNF for Part A services to cover her stay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are at SNF must be for the same dx as what pt was hospitalized for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447920" y="77760"/>
            <a:ext cx="73152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to PPS (1997) SNFs were paid in 3 different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47560" y="21427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outine costs: room, nursing services, medical supplies, psyc &amp; social services, &amp; use of facility equi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ncillary costs: therapy, meds, lab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pital related costs: cost of land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*now it all bundled into one per diem r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Assessments in S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requires SNFs to do periodic assessments throughout a patient’s stay to determin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vel of payment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KA: PPS (Prospective Payment System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295280" y="3581280"/>
          <a:ext cx="7543800" cy="26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754380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US health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35: Congress began to look in to a national healthcare progra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49 (Truman) administr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troversial, but later targeted to just elder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965 House Ways &amp; Means Committee brought forth 2 amendments to the SSA: Titles 18 Medicare &amp; 19 Medicaid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RUG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uring those assessment periods the patient must fit into a RUG level (Resource Utilization Group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057400" y="2590920"/>
          <a:ext cx="586728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58672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rt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ductible: $147/y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edical Expens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PT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80% of hospital based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All other PT clinics subject to therapy cap $1900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linical Laboratory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Pays 100%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00%, DME is 80%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P Hospital Treat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0%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lood: 3 pints ‘free’, afterwards covered at 80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imbursement for PT servic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atient – Medicare Part B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$1900 cap for non-hospital PT (2013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 January 1, 2013, Congress passed the American Taxpayer Relief Act of 2012 which extended the Medicare therapy cap exceptions process until December 31, 2013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B Pre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33320" y="2895480"/>
            <a:ext cx="84312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B services may be used 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560" y="21427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has been a decline in functional level due to disease, injury, or cond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y or may not have been hospitalize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ot covered currently by Part A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cline can be due to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Pain with decreased functional level, exacerbation of chronic condition with functional decline, exhaustion of Part A services, but still requires further PT service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payment for home health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PS: predesignated payment that varies with health condition &amp; care need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gencies provided payment for each 60-day episode of care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n have more than one 60 day perio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justments are made for significant changes in condition or pts with fewer vis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ASIS if under Part A benefi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Measures in Home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provements in mobility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alking or moving around, transfers in/out of bed, less pain while moving arou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ladder control, bathing, correct use of meds, dyspnea leve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ong-term outcom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atient medical emergenc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spital admissions, urgent medical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d Care by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so called Medicare Advantage Pla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COs control access to health care services and create an system that works on efficiency of pay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s with most MCOs bureaucracy results in lapse of time from referral to treatment which impacts outcomes and complicates continuity of ca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MO pros/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s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inimal paperwork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dditional services provided at little to no cost (hearing aids, eyeglasses, dental care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s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atekeeper: limits PT treatmen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pecifies which providers can be use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ome received by HMO is on a prepaid basis: so increased incentive to minimize cost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T Practice Concerns Regarding Medi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to be “enrolled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btain a provider nu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to accept fee schedu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waiving copay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atient may have coordination of benefits with MC primary, other provider second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di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itle 18 of Social Security Act 1965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vide protection against cost of hospital and related care aged &gt;65 who are entitled to SS retirement benefits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icare 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mit &gt;65 y.o. to purchase protection against the cost of physician services, one-half of the cost to be paid by the federal government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icare 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for Medicare to pay physical therapy services must b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asonab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ecessar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kill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ropriate frequency &amp; dur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pectation that the condition will impro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hysician must sign the certification every 90 day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Differs state by st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Low income (at or below 133% of national poverty level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May have to 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nd down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’ to be eligib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pousal Impoverishment Plan: spouse can retain a relatively generous amount of income and asse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unded by both federal and state leve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Does not pay for MOW, unless pt has a waiv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In some states: PT is an ‘optional’ benefit for Medicaid recipien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gap insurance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d to gap the payment necessary when part A or B services are not cover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ually covers the 20% copayment that A or B does not cov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ns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estionable future due to high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only pays 80% of allowable charges, so many providers charge more than this: leads to need for Medigap or other covera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erans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eterans Administration (VA) provides a program that covers health care for war veterans through over 153 VA hospitals, 773 outpatient centers and 100 VA nursing homes &amp; contracts with community facilities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y be able to get specific servi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 times wait can be long and distance traveled is great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Long Term Care Policies in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21427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5 states are creating their own polic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waii: Family Hope program: program to finance long term ca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Fraud &amp; Ab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raud occurs when someone intentionally falsifies information or deceives the Medicare Progra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use occurs when doctors or suppliers do not follow good medical practices that can result in unnecessary costs to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dic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and the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1523880"/>
            <a:ext cx="7415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y for Performance- PQR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Will soon be paid for performance of patients. G-code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ountable Care Organization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Where department get paid for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edical Hom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Cluster of all health care professional that give care to a patient. You can treat in multiple settings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nnual Wellness Visi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One time a year can see physician for wellness chec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BP, Medication, Cognitive loss, functional levels,  *need fall risk*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ident to’ rules: physician referral hand pick patients, not apply to therapy cap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cms.gov/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b page for Centers for Medicare and Medicaid Services (CM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www.ssa.gov/OP_Home/ssact/title18/1800.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A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TA Government Affai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5331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itle 19 of Social Security A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ederal government matches cost of medical assistance for medically indigent aged person for all needy persons for whom the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stat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receiving federal grants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icai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Opposed the expansion of health care cover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M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H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surance re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agement special-interest grou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political righ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unds familiar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Geriatric Reimburs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lanced Budget Act 1997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ed PT Reimbursement i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N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me Healt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spit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tpati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dicare choice Pla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pt Rehab spared for about 3 yea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Upside” to the Balanced Budge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ti Fraud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illing for services not render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ti Abuse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illing for services not considered “reasonable and necessary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ppropriate documentation is a mus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killed service requir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re &amp; Medic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http://dmepos-bond.com/medicare2008.jpg"/>
          <p:cNvPicPr/>
          <p:nvPr/>
        </p:nvPicPr>
        <p:blipFill>
          <a:blip r:embed="rId1"/>
          <a:stretch/>
        </p:blipFill>
        <p:spPr>
          <a:xfrm>
            <a:off x="2103480" y="152388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S: Centers for Medicare and Medicaid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urpose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establish policies on coverage, eligibility, &amp; reimburs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establish standards for provi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provide program administr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 monitor the performance of contractors and stat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50:13Z</dcterms:created>
  <dc:creator>Blackwood</dc:creator>
  <dc:description/>
  <dc:language>en-US</dc:language>
  <cp:lastModifiedBy>SWEET, CHRISTINA</cp:lastModifiedBy>
  <dcterms:modified xsi:type="dcterms:W3CDTF">2013-07-12T13:49:11Z</dcterms:modified>
  <cp:revision>131</cp:revision>
  <dc:subject/>
  <dc:title>PowerPoint Presentation</dc:title>
</cp:coreProperties>
</file>