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E044-99FC-45D4-AAAF-0ECA5DA80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re Advantage Plans must follow rules set by Medicare. However, each plan can charge different out-of-pocket costs and have different rules for how you get services (like whether you need a referral to see a specialist or if you have to go to only doctors, facilities, or suppliers that belong to the plan).  One monthly prem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30A7-83F5-411D-8134-B30B8FFB5D38}" type="slidenum"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ystem causes PT, OT, SP to typically give the best t(x) in first 10-15 days so can show need for care and prog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2593-F8B8-4CB0-9985-A18969FE6889}" type="slidenum"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 had unemployment in 1997: level of care, skilled care limited, and cap. Became accountable to time and outcom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209F-182C-45FE-B349-873C14691372}" type="slidenum"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D2F1-C1FA-48EF-87EF-C66EFF03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E07-8841-466F-900A-EE6E3046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E1C2-36AE-41DC-BE9C-70753131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9652-183C-4800-849F-2F560404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B932-5A2B-4257-9992-8103BDDA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8CDE-ECEB-404C-A105-28BFCA09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F4AF-B73B-48AB-A00D-A7A98FEC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FDFE-DDE3-46B9-B10C-D7E88BF7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23AE-3E96-40B9-B1F6-A58DB7E3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C78D-9762-4761-B3A2-09C98D38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F1D4-14EF-45E7-B5CC-8EFDBDA1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7D91-5E7D-4D2B-8888-4ED08199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0064-6F39-42AA-8456-1D790C6D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BE53-CFDE-4EEC-9578-2183D344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349F-601D-4AEF-A79D-2AB0506B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6FC5-5EAA-4198-A175-B225F1C1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41B2-6DD8-4CFF-BE3A-ACD28291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B074-AC3B-42FA-B07F-C56B818C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59A-1460-4F5E-BA4D-10C62346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DD6-96BE-495F-83FE-BA5B7D27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86C-9F2F-4552-9D5A-FFA4A36E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5E2F-D3E5-44FD-B6A8-64B992B0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AA1-A85C-41C8-BE3C-DABB867B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DD0-BB5C-4CB9-A207-53188B33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ECA2-47AB-4DCC-B5D4-60A6EE7D9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A01A-26A3-4172-8034-AC46596EA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rainsdetroit.com/article/20090624/FREE/906249965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cms.gov/" TargetMode="External"/><Relationship Id="rId2" Type="http://schemas.openxmlformats.org/officeDocument/2006/relationships/hyperlink" Target="http://www.ssa.gov/OP_Home/ssact/title18/1800.ht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th Care Systems, Medicare &amp; Medic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TP 783 Module 3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re is made up of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art A services: hospital, in-p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art B services: out-patient servic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art C (Medicare Advantage plans) HMO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art D: Med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have to be over 65 to have Medicare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O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ipulations: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ver 65 who is eligible for Social Securi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ailroad retirement benefi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isability benefits for greater than 24 month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hronic renal diseas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it important for physical therapists to be familiar with the rules defining skilled and nonskilled services for Medicare recipie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illed Rehab Services covered by Medicare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Reevalu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r ex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anual therapy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Gait training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RO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Ultrasound, E-sti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iatherm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araffi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Whirlpoo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05160" y="15998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ransfer train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stablishing a FMP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straint evalu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rthotic train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/c train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t &amp; family train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Vasopneumatic devic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frared * </a:t>
            </a:r>
            <a:r>
              <a:rPr b="1" lang="en-US" sz="1400" spc="-1" strike="noStrike">
                <a:solidFill>
                  <a:srgbClr val="333300"/>
                </a:solidFill>
                <a:latin typeface="Arial"/>
              </a:rPr>
              <a:t>(depends on intermediary)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re Part A cove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Hospital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First 60 days pay all but $1184 (deductible)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61-90 days pay all but $296/day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91-150 days pay all but $592/day (lifetime reserve days)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&gt;150 days Medicare pays nothing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SNF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Medicare pays first 20 days at 100%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then 80% from day 21-100 up to $148/day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after 100 days Part A services pays nothing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Home Health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Pays 100% medically necessary services, and 80% DME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Arial"/>
              </a:rPr>
              <a:t>Must be home bound and under physician’s care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Hospice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Pays 100% except limited cost sharing for meds and respite care (5% discount off Medicare approved rate)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Has to be a Medicare approved hospice inpt facility (</a:t>
            </a:r>
            <a:r>
              <a:rPr b="1" i="1" lang="en-US" sz="1600" spc="-1" strike="noStrike">
                <a:solidFill>
                  <a:srgbClr val="333300"/>
                </a:solidFill>
                <a:latin typeface="Arial"/>
              </a:rPr>
              <a:t>not the pt’s home or a SNF that is not approved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Blood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Pays for first 3 pints furnished by hospital or SNF during a covered stay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issues with Medi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enefit period: begins on day 1 of hospital and ends after 60 days of wellness after d/c from hospital or SNF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re &amp; SN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or Medicare coverage with 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PART A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services the pt must have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3-day qualifying stay in the hospita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Require skilled services (PT, OT, ST, nursing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f the pt is not directly admitted to a SNF after d/c from the hospital then he/she h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ays to be admitted to the SNF for Part A services to cover her stay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are at SNF must be for the same dx as what pt was hospitalized for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1447920" y="77760"/>
            <a:ext cx="731520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or to PPS (1997) SNFs were paid in 3 different categ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47560" y="21427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outine costs: room, nursing services, medical supplies, psyc &amp; social services, &amp; use of facility equip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ncillary costs: therapy, meds, lab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apital related costs: cost of land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*now it all bundled into one per diem rat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re Assessments in SN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edicare requires SNFs to do periodic assessments throughout a patient’s stay to determin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vel of payment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KA: PPS (Prospective Payment System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206" name="Object 5"/>
          <p:cNvGraphicFramePr/>
          <p:nvPr/>
        </p:nvGraphicFramePr>
        <p:xfrm>
          <a:off x="1295280" y="3581280"/>
          <a:ext cx="7543800" cy="26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81280"/>
                    <a:ext cx="7543800" cy="26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US health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935: Congress began to look in to a national healthcare program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949 (Truman) administra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ntroversial, but later targeted to just elderl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965 House Ways &amp; Means Committee brought forth 2 amendments to the SSA: Titles 18 Medicare &amp; 19 Medicaid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re RUG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4920" y="114264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uring those assessment periods the patient must fit into a RUG level (Resource Utilization Group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2057400" y="2590920"/>
          <a:ext cx="5867280" cy="410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590920"/>
                    <a:ext cx="586728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re Part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eductible: $147/y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edical Expens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00"/>
                </a:solidFill>
                <a:uFillTx/>
                <a:latin typeface="Arial"/>
              </a:rPr>
              <a:t>PT Service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00"/>
                </a:solidFill>
                <a:uFillTx/>
                <a:latin typeface="Arial"/>
              </a:rPr>
              <a:t>80% of hospital based service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00"/>
                </a:solidFill>
                <a:uFillTx/>
                <a:latin typeface="Arial"/>
              </a:rPr>
              <a:t>All other PT clinics subject to therapy cap $1900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linical Laboratory Servic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Pays 100%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ome Health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100%, DME is 80%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OP Hospital Treatmen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80%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Blood: 3 pints ‘free’, afterwards covered at 80%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imbursement for PT servic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utpatient – Medicare Part B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$1900 cap for non-hospital PT (2013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n January 1, 2013, Congress passed the American Taxpayer Relief Act of 2012 which extended the Medicare therapy cap exceptions process until December 31, 2013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B Prem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733320" y="2895480"/>
            <a:ext cx="84312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B services may be used w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47560" y="21427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re has been a decline in functional level due to disease, injury, or condi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ay or may not have been hospitalized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Not covered currently by Part A servic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ecline can be due to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Pain with decreased functional level, exacerbation of chronic condition with functional decline, exhaustion of Part A services, but still requires further PT services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re payment for home health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PS: predesignated payment that varies with health condition &amp; care need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gencies provided payment for each 60-day episode of care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an have more than one 60 day perio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djustments are made for significant changes in condition or pts with fewer visi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ASIS if under Part A benefi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Measures in Home H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mprovements in mobility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Walking or moving around, transfers in/out of bed, less pain while moving around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D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Bladder control, bathing, correct use of meds, dyspnea level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ong-term outcom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atient medical emergenci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ospital admissions, urgent medical ca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ed Care by Medi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lso called Medicare Advantage Pla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COs control access to health care services and create an system that works on efficiency of pay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s with most MCOs bureaucracy results in lapse of time from referral to treatment which impacts outcomes and complicates continuity of care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MO pros/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s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inimal paperwork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dditional services provided at little to no cost (hearing aids, eyeglasses, dental care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ns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Gatekeeper: limits PT treatment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pecifies which providers can be used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ncome received by HMO is on a prepaid basis: so increased incentive to minimize cost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T Practice Concerns Regarding Medi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Need to be “enrolled”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btain a provider numb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Need to accept fee schedul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No waiving copay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atient may have coordination of benefits with MC primary, other provider secondar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olution of Geriatric Reimbursemen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dic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240" y="205704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itle 18 of Social Security Act 1965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vide protection against cost of hospital and related care aged &gt;65 who are entitled to SS retirement benefits –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edicare A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rmit &gt;65 y.o. to purchase protection against the cost of physician services, one-half of the cost to be paid by the federal government –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edicare B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order for Medicare to pay physical therapy services must b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47560" y="190476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asonabl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ecessar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kille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ppropriate frequency &amp; dura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xpectation that the condition will improv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hysician must sign the certification every 90 day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47560" y="121896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Differs state by stat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Low income (at or below 133% of national poverty level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May have to 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pend down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’ to be eligibl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Spousal Impoverishment Plan: spouse can retain a relatively generous amount of income and asse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Funded by both federal and state leve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Does not pay for MOW, unless pt has a waiv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In some states: PT is an ‘optional’ benefit for Medicaid recipien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gap insurance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reated to gap the payment necessary when part A or B services are not covered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sually covers the 20% copayment that A or B does not cov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xpensiv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Questionable future due to high cos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edicare only pays 80% of allowable charges, so many providers charge more than this: leads to need for Medigap or other coverag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terans 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Veterans Administration (VA) provides a program that covers health care for war veterans through over 153 VA hospitals, 773 outpatient centers and 100 VA nursing homes &amp; contracts with community facilities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y be able to get specific servic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t times wait can be long and distance traveled is great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Long Term Care Policies in cre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3880" y="21427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35 states are creating their own polici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awaii: Family Hope program: program to finance long term care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re Fraud &amp; Ab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raud occurs when someone intentionally falsifies information or deceives the Medicare Program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buse occurs when doctors or suppliers do not follow good medical practices that can result in unnecessary costs to </a:t>
            </a: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Medic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re and the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00120" y="1523880"/>
            <a:ext cx="7415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ay for Performance- PQRI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Will soon be paid for performance of patients. G-codes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ccountable Care Organization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Where department get paid for service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edical Hom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Cluster of all health care professional that give care to a patient. You can treat in multiple settings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nnual Wellness Visi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One time a year can see physician for wellness check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BP, Medication, Cognitive loss, functional levels,  *need fall risk*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ncident to’ rules: physician referral hand pick patients, not apply to therapy cap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69800" y="1599840"/>
            <a:ext cx="7313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cms.gov/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eb page for Centers for Medicare and Medicaid Services (CMS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www.ssa.gov/OP_Home/ssact/title18/1800.htm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edicare A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PTA Government Affair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00120" y="5331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olution of Geriatric Reimbursemen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al Secur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itle 19 of Social Security Ac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ederal government matches cost of medical assistance for medically indigent aged person for all needy persons for whom the </a:t>
            </a:r>
            <a:r>
              <a:rPr b="1" lang="en-US" sz="2800" spc="-1" strike="noStrike" u="sng">
                <a:solidFill>
                  <a:srgbClr val="333300"/>
                </a:solidFill>
                <a:uFillTx/>
                <a:latin typeface="Arial"/>
              </a:rPr>
              <a:t>state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is receiving federal grants 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dicai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Opposed the expansion of health care cover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88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MA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HA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nsurance rep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nagement special-interest group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political righ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unds familiar?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olution of Geriatric Reimburs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alanced Budget Act 1997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ffected PT Reimbursement i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NF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ome Health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ospit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utpati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edicare choice Pla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pt Rehab spared for about 3 yea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“Upside” to the Balanced Budget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nti Fraud Law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illing for services not rendere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nti Abuse Law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illing for services not considered “reasonable and necessary”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ppropriate documentation is a mus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killed service requir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re &amp; Medic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5" descr="http://dmepos-bond.com/medicare2008.jpg"/>
          <p:cNvPicPr/>
          <p:nvPr/>
        </p:nvPicPr>
        <p:blipFill>
          <a:blip r:embed="rId1"/>
          <a:stretch/>
        </p:blipFill>
        <p:spPr>
          <a:xfrm>
            <a:off x="2103480" y="1523880"/>
            <a:ext cx="6286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MS: Centers for Medicare and Medicaid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urposes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o establish policies on coverage, eligibility, &amp; reimburs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o establish standards for provid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o provide program administr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o monitor the performance of contractors and stat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9:50:13Z</dcterms:created>
  <dc:creator>Blackwood</dc:creator>
  <dc:description/>
  <dc:language>en-US</dc:language>
  <cp:lastModifiedBy>SWEET, CHRISTINA</cp:lastModifiedBy>
  <dcterms:modified xsi:type="dcterms:W3CDTF">2013-07-12T13:49:11Z</dcterms:modified>
  <cp:revision>131</cp:revision>
  <dc:subject/>
  <dc:title>PowerPoint Presentation</dc:title>
</cp:coreProperties>
</file>