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077A0-E423-4C84-BFB4-0CEA9E344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AE7F0-E135-4875-8579-79C46BAEA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measures that help avoid a given health care cost:  wearing helmets, seat belts – helps avoid the costs and burdeons associated with the dise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prevention – identify and treat asymptomatic people who have already developed risk factors for asymptomatic disease: early screens – HTN, HLD, breast exams – can help prevent from getting w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tiary Prevention – involve care of an established disease, attempts to restore highest function, minimize the negotiative effects of the disease, and prevent disease related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08C1B-A69D-4F8B-AE01-88C2D8C55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575-F7D8-4AC4-B33A-C4AD34D3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1AE-CE2B-4450-BAB1-4528762A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7FD-7185-4C49-A5A9-EFBCEB1D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882-8F21-4B71-9D20-EB89F5EA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12E-1D19-47D0-899B-34DD107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717-4C25-41B6-AB85-D90EA21E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E88-7375-486C-9469-8EE133E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A57-199E-4036-AB2D-AAC4292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7C4-79AE-4ADC-923B-2F49137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A84-B078-4292-AB11-444D8E8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035-DA6F-4079-A9E9-E60EAD9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04F-7CD5-484E-BC95-2131A3C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058A2-E06F-4C82-8FAA-D8C395506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2FCA6-88E4-47D6-8A9C-E7C1CD7AE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associated with an increased risk of disease or inf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, not caus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smoking, inactivity, high blood pressure, drinking excessive alcohol, not wearing helmet, and no seat bel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Prev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ti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s. Leonard is a 72-year-old woman with chronic bronchitis who is a former cigarette smoker. Her medications include ipratropium bromide (Atrovent) and albuterol. Her primary prevention need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ewing appropriate use of her med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Receiving an annual influenza immuniz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Obtaining spirometry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Periodic colonoscop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Giordano is a 68-year-old woman with hypertension who resides alone in a private home. Her secondary prevention need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of pneumococcal vac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Mamm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Discussion of home safety to minimize fall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Assessment of the presence of S4 heart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9:09:53Z</dcterms:created>
  <dc:creator>Alyssa</dc:creator>
  <dc:description/>
  <dc:language>en-US</dc:language>
  <cp:lastModifiedBy>SWEET, CHRISTINA</cp:lastModifiedBy>
  <dcterms:modified xsi:type="dcterms:W3CDTF">2013-05-30T13:14:40Z</dcterms:modified>
  <cp:revision>3</cp:revision>
  <dc:subject/>
  <dc:title>RISK FACTORS</dc:title>
</cp:coreProperties>
</file>