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B85D9-A66A-449C-B474-60C0824FD0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F7DF8-64FF-414C-9EA3-D381D2945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measures that help avoid a given health care cost:  wearing helmets, seat belts – helps avoid the costs and burdeons associated with the dise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prevention – identify and treat asymptomatic people who have already developed risk factors for asymptomatic disease: early screens – HTN, HLD, breast exams – can help prevent from getting w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tiary Prevention – involve care of an established disease, attempts to restore highest function, minimize the negotiative effects of the disease, and prevent disease related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6FB69-DAAD-490A-8F8A-416ED99F1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FB7-B7E0-4AB8-93E4-1E430CE9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005-5443-4B50-9747-BC770C2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EEB-53EF-49D4-B75B-642A3F9C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9A8-2493-40BC-977F-004B0029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F24-BC6E-4F08-A02A-243D5753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735-0F45-4E34-9DAB-4235ABE7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8F8-D957-4704-B679-0040972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DE0-D020-410F-B9A1-7746824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46F-1A3F-453C-BFCD-CB97BF42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48E-8AF3-435A-9D54-83D43C1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4CE-CBC2-4403-BC0F-ED3634C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D0A-16B8-4391-912D-862A1B8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F2BDF-01FD-40C6-B9A6-6EA8A3349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1BBDD-36B8-46A3-B3A0-5E7B5630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associated with an increased risk of disease or inf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, not caus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smoking, inactivity, high blood pressure, drinking excessive alcohol, not wearing helmet, and no seat bel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Prev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ti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s. Leonard is a 72-year-old woman with chronic bronchitis who is a former cigarette smoker. Her medications include ipratropium bromide (Atrovent) and albuterol. Her primary prevention need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iewing appropriate use of her med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Receiving an annual influenza immuniz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Obtaining spirometry measu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Periodic colonoscop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Giordano is a 68-year-old woman with hypertension who resides alone in a private home. Her secondary prevention need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on of pneumococcal vac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Mamm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Discussion of home safety to minimize fall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Assessment of the presence of S4 heart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9:09:53Z</dcterms:created>
  <dc:creator>Alyssa</dc:creator>
  <dc:description/>
  <dc:language>en-US</dc:language>
  <cp:lastModifiedBy>SWEET, CHRISTINA</cp:lastModifiedBy>
  <dcterms:modified xsi:type="dcterms:W3CDTF">2013-05-30T13:14:40Z</dcterms:modified>
  <cp:revision>3</cp:revision>
  <dc:subject/>
  <dc:title>RISK FACTORS</dc:title>
</cp:coreProperties>
</file>