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3.png" ContentType="image/png"/>
  <Override PartName="/ppt/media/image40.png" ContentType="image/png"/>
  <Override PartName="/ppt/media/image9.png" ContentType="image/png"/>
  <Override PartName="/ppt/media/image39.png" ContentType="image/png"/>
  <Override PartName="/ppt/media/image10.png" ContentType="image/png"/>
  <Override PartName="/ppt/media/image30.png" ContentType="image/png"/>
  <Override PartName="/ppt/media/image11.png" ContentType="image/png"/>
  <Override PartName="/ppt/media/image35.png" ContentType="image/png"/>
  <Override PartName="/ppt/media/image5.jpeg" ContentType="image/jpeg"/>
  <Override PartName="/ppt/media/image37.png" ContentType="image/png"/>
  <Override PartName="/ppt/media/image7.png" ContentType="image/png"/>
  <Override PartName="/ppt/media/image12.png" ContentType="image/png"/>
  <Override PartName="/ppt/media/image36.png" ContentType="image/png"/>
  <Override PartName="/ppt/media/image38.png" ContentType="image/png"/>
  <Override PartName="/ppt/media/image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FB78E-476E-45B5-8BF4-AA3786BC920A}"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61E8B-E90C-4B10-B413-7B15BB5C63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E5123-978D-4A95-A96D-512D7073B6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re:  most insurances are based off th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re: people over age 65, people under 65 with certain diagnosis, people of all age with ESRD (permanent kidney failure requiring dialysis or a kidney transpl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9F083-0B1C-43A8-AB16-28E8589E80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RD – perm kidney failure requiring dialysis or a kidney transpl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A (no premium)  - covers hospice, SNFs, hospital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B – covers more outpatient visi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ual limitations on incurred expenses for outpatient therapy services under Medicare Part B, are commonly referred to as “therapy ca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8462B-62D2-4EA3-949D-9EE9AB85EB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d across all settings – follows medicare guidelines </a:t>
            </a: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97A31-3DD1-4CA9-AFDE-9C9998BFF9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t make a diagnosis for the patient – classified using the ICD-9 code. Soon to be replaced by ICD-10 codes on October 1, 2014 – just making them more specif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D-9 code sets used to report medical diagnoses and inpatient procedures will be replaced by ICD-10 codes on October 1, 201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CD-9:  very outdated, 34 years old, does not provide the necessary detail for patients’ medical conditions or the procedures and services performed on hospitalized patients, it uses outdated codes that produce inaccurate and limited data, and is inconsistent with current medical practice as it cannot accurately describe the diagnoses and inpatient procedures of care delivered in the 21</a:t>
            </a:r>
            <a:r>
              <a:rPr b="0" lang="en-US" sz="1200" spc="-1" strike="noStrike" baseline="30000">
                <a:solidFill>
                  <a:srgbClr val="000000"/>
                </a:solidFill>
                <a:latin typeface="Calibri"/>
              </a:rPr>
              <a:t>st</a:t>
            </a:r>
            <a:r>
              <a:rPr b="0" lang="en-US" sz="1200" spc="-1" strike="noStrike">
                <a:solidFill>
                  <a:srgbClr val="000000"/>
                </a:solidFill>
                <a:latin typeface="Calibri"/>
              </a:rPr>
              <a:t> centu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CD-9-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gioplas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code (39.5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CD-10-P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gioplasty co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54 co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fying body part, approach, and device, inclu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47K04Z – Dilation of right femoral artery with drug-eluting intraluminal device, open approa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47K0DZ – Dilation of right femoral artery with intraluminal device, open approa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47K0ZZ – Dilation of right femoral artery, open approa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23EB9-CD6F-4B8C-8B03-5F9AF6058D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PT – current procedural terminolo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 Eval:  during 1</a:t>
            </a:r>
            <a:r>
              <a:rPr b="0" lang="en-US" sz="1200" spc="-1" strike="noStrike" baseline="30000">
                <a:solidFill>
                  <a:srgbClr val="000000"/>
                </a:solidFill>
                <a:latin typeface="Calibri"/>
              </a:rPr>
              <a:t>st</a:t>
            </a:r>
            <a:r>
              <a:rPr b="0" lang="en-US" sz="1200" spc="-1" strike="noStrike">
                <a:solidFill>
                  <a:srgbClr val="000000"/>
                </a:solidFill>
                <a:latin typeface="Calibri"/>
              </a:rPr>
              <a:t> contact with pt. appropriate system/functional eval. Appropriate system/functional eval include MMT, goni, and eval for w/c and equi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quatic therapy – in h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thotic management and training – LE and trunk orthosis teaching donning/doffing, fit adjustment, and care of body part. DOES NOT include gait training with ortho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sthetic training – LE prosthesis – teaching donning and doffing, fit adjustment, care of stump and prosthesis (gait training with prosthesis – use of gait training co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12EAD-418F-4A1C-A2EC-1D41B07B5D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C Management:  includes assessment, fitting, and training e.g. propelling w/c on surfa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ntry:  planned therapeutic trip into the community when the ratio of staff to patient is 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it:  ambulation on surfaces level and unlevel, curbs, stairs, maintaining Wbing restrictions, proper adjustment of ambulatory aides </a:t>
            </a: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76AFC-2569-4042-86A9-A9E828B05A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D8FFA-FEE7-4A7D-A429-143213E0B5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if the patient receives 15 minutes of individualized therapy from the OT and 15 mins of individualized therapy from PT </a:t>
            </a: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B772B-142C-4F6A-8B91-1AB33FA670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58215-0061-4B7E-9F58-0C6C45ECAE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E2754-EA46-43BE-8B64-BA53F6FDAD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CA77A-DF9F-484B-A3F0-21DC03B869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48000-BB2A-4549-92DC-E15258015A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61EFB-3918-4D7A-90E8-EF6C89BEC8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52EE7-FAD2-4AB4-927E-B06FA3FEF7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ECA7D-A87C-427A-A920-DCBAF5083B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880FE-253D-4FEF-B9CB-BB92E512AE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E8B39-39C8-4D24-B109-FDD724DAAF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B9A3A-DB1B-46FA-AEDC-FD9754E213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0C950-CFDF-4BC3-8717-A61318C059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795AE-B074-489B-9F75-74AAD8D96F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8FC6A-EE06-407E-A004-D1222B0144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we are concerned with treating the patient and providing the best care; however, we still need to make sure we are appropriately getting compensated for our job! Most of us have student loans to pay off!</a:t>
            </a: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F2AD0-7E2A-4478-B82E-7CA59661A7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C8DDD-F095-46D5-94AC-1C339533E0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EB41E-632D-47A4-8548-32FE534D94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395D1-B696-4FE7-B747-13E7711D52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4D8AD-A47F-4539-AD51-FC1857876D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C339B-8295-47C9-B014-36B23BA901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97722-7D3E-4C76-BB58-12BDDEAF51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8C29C-E9E2-40C1-ACD7-11A20826D0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D5213-8FA9-43FC-9007-151030FF9A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6B87B-1ABE-425E-AB9B-F56320A753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G – a system to classify hospital cases into one of originally 467 groups. All patients who come into the hospital, their insurance provides the hospital with a lump sum of money based on the patients diagnosis, no matter how many procedures, tests, therapy sessions they h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say a patient comes into the hospital with NYHA Class IV Heart Failure – whether it takes the doctors 2 days to fix the patient versus 4 days the insurance reimburses the hospital the same am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398D7-78F8-46EF-B473-641962BBCE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 rates for inpatient rehab facilities reflects provided for all the costs furnishing patient in their stay (ex: nursing staff, tests, labs, food,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habilitation Impairment Categories – is the primary condition for which the patient was admitted to the rehab hospital f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MG: groups cases that are similar according to their functional motor and cognitive scores and 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grouped into one of four tiers within each CMG, according to patients comorbidities (conditions that are secondary to the principal diagnosis or reason for inpatient st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 stay transfers – defined as transfers to another institutional setting with an IRF length of stay less than the average length of stay for the CM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s are always adjusted to relfect inflation of goods, increases in wages of staff,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2F602-1CFC-4517-817E-19D9D4AAAB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G – resource utilization gr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re’s way of paying SNFs; however, most other insurances follow suit to medic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Ds – occur within 3 days (grace period) of the 5</a:t>
            </a:r>
            <a:r>
              <a:rPr b="0" lang="en-US" sz="1200" spc="-1" strike="noStrike" baseline="30000">
                <a:solidFill>
                  <a:srgbClr val="000000"/>
                </a:solidFill>
                <a:latin typeface="Calibri"/>
              </a:rPr>
              <a:t>th</a:t>
            </a:r>
            <a:r>
              <a:rPr b="0" lang="en-US" sz="1200" spc="-1" strike="noStrike">
                <a:solidFill>
                  <a:srgbClr val="000000"/>
                </a:solidFill>
                <a:latin typeface="Calibri"/>
              </a:rPr>
              <a:t>, 14</a:t>
            </a:r>
            <a:r>
              <a:rPr b="0" lang="en-US" sz="1200" spc="-1" strike="noStrike" baseline="30000">
                <a:solidFill>
                  <a:srgbClr val="000000"/>
                </a:solidFill>
                <a:latin typeface="Calibri"/>
              </a:rPr>
              <a:t>th</a:t>
            </a:r>
            <a:r>
              <a:rPr b="0" lang="en-US" sz="1200" spc="-1" strike="noStrike">
                <a:solidFill>
                  <a:srgbClr val="000000"/>
                </a:solidFill>
                <a:latin typeface="Calibri"/>
              </a:rPr>
              <a:t>, 30</a:t>
            </a:r>
            <a:r>
              <a:rPr b="0" lang="en-US" sz="1200" spc="-1" strike="noStrike" baseline="30000">
                <a:solidFill>
                  <a:srgbClr val="000000"/>
                </a:solidFill>
                <a:latin typeface="Calibri"/>
              </a:rPr>
              <a:t>th</a:t>
            </a:r>
            <a:r>
              <a:rPr b="0" lang="en-US" sz="1200" spc="-1" strike="noStrike">
                <a:solidFill>
                  <a:srgbClr val="000000"/>
                </a:solidFill>
                <a:latin typeface="Calibri"/>
              </a:rPr>
              <a:t>, 60</a:t>
            </a:r>
            <a:r>
              <a:rPr b="0" lang="en-US" sz="1200" spc="-1" strike="noStrike" baseline="30000">
                <a:solidFill>
                  <a:srgbClr val="000000"/>
                </a:solidFill>
                <a:latin typeface="Calibri"/>
              </a:rPr>
              <a:t>th</a:t>
            </a:r>
            <a:r>
              <a:rPr b="0" lang="en-US" sz="1200" spc="-1" strike="noStrike">
                <a:solidFill>
                  <a:srgbClr val="000000"/>
                </a:solidFill>
                <a:latin typeface="Calibri"/>
              </a:rPr>
              <a:t>, and 90</a:t>
            </a:r>
            <a:r>
              <a:rPr b="0" lang="en-US" sz="1200" spc="-1" strike="noStrike" baseline="30000">
                <a:solidFill>
                  <a:srgbClr val="000000"/>
                </a:solidFill>
                <a:latin typeface="Calibri"/>
              </a:rPr>
              <a:t>th</a:t>
            </a:r>
            <a:r>
              <a:rPr b="0" lang="en-US" sz="1200" spc="-1" strike="noStrike">
                <a:solidFill>
                  <a:srgbClr val="000000"/>
                </a:solidFill>
                <a:latin typeface="Calibri"/>
              </a:rPr>
              <a:t> days of a patient stay at the SAR faci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the 30-day ARD will determine the rate of pay for days 30-60 of a patients st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apy provided is included in the ARD based on # of disciplies (OT, PT, SLP) days/weeks of treatment, and total number of therapy minutes.</a:t>
            </a: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80767-E3E3-4E9F-8ABB-680066A413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PS works by creating tiers of payment based on level of nursing care, room considerations and minutes of therapy provi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e mix assignment – patient condition and care nee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urse or therapist from the HHA uses the Outcome and Assessment Information Set (OASIS) instrument to assess the patient's condition. (All HHAs have been using OASIS since July 19, 1999.) OASIS items describing the patient's condition, as well as the expected therapy needs (physical, speech-language pathology, or occupational) are used to determine the case-mix adjustment to the standard payment rate</a:t>
            </a: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D50F6-9AEE-457D-8E12-7B2A3B3FC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ual medical review -  determines whether facilities can be reimbursed for the amount over the ca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ductible and coinsurance amounts applied to therapy services count towards the amount accured before a cap is reach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n exception process to the therapy caps. For claims over the cap, therapy service providers may continue to submit claims with the KX modifier, when an exception is appropriate, for services furnished through 12/13/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use of the KX modifier, the therapist is attesting that the service are reasonable and necessary and that there is documentation of medical necessity in the beneficiary’s medical re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ual medical review who determines whether facilities can be reimbursed for the amount over the ca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ual medical review is performed by medicare administrator contractor and recovery audi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states participate in this – Michigan is one of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claims at or exceeding the $3700 threshold are required to be review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0EB8C-8ABE-4175-A047-DB4C9279F5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539224-EB72-4E8C-AA14-EDB1D2CEA3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AA183-F316-4DDA-8DD4-C0CBDAF48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CE73A4-DE3F-4EA2-914E-20E3D59BB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4F32E-4AAD-4225-991B-218A1C9DD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1556BD-ADAC-457F-A9C9-CC144897E2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4B886-F5B5-4697-B26D-94B7343F4F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DD4EA-C802-4D81-88DF-C16C34FB38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402468-D396-4B17-A6E0-AF438EA6AF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F59223-59F4-4704-A7C0-604370DBAC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D378B5-2490-4EE8-B0C5-8EC25CA9B4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C1307-836A-43AD-BB5C-B88D3AE37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E078F-CFAB-4F8F-838E-C2E64425F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9ACE4-9E01-4852-8942-177299577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8F97F-D84B-40D2-8ADD-0F19FA1D6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312BD9-464B-4EC4-9CB2-9A698D96C8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080E22-64F3-42AA-9690-2923246BCE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8FC9DA-B061-4F66-9AAB-DF6F51BA61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549A6C-A5CF-4A74-8B94-257328A9DC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6283BC-E0EA-4A76-86F2-A5EFECE915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0A3F00-A086-4C58-A86F-8587561EC6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826DC4-1440-46D5-902B-57FF9FD1AD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559CB4-847D-4B5F-9B49-44CA3E975E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074FA-6DFB-488B-8632-8E23475BE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450BB8-BF78-4CE2-A33D-9385FED394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BCAE0F-F90E-47C2-94A2-C58BB45259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749184-DFB5-4A4E-B678-A6AC28B597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5C1385-8127-4DDE-8FB6-4F25DEC1AD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0C62B6-FF19-4435-B290-236F9C6814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2666AF-738D-471B-B7E5-AB4087E15A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DDA66E-6C3A-4BF5-8A04-203E6C6A9F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95EC3B-70A9-4995-8AD6-F473C88DB5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D00180-7749-4723-86BF-3D810516C3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197B63-1E7C-4568-BC66-C63316506B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A00E9-6B7C-4F5A-B664-82EEA5E5F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43971F-91D7-44BB-9EF7-22ACB68020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04461D-7224-448D-B871-7AD846EAB0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BFD8A6-5D43-4450-9F2E-C3F61FC39C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94DAB0-A84F-4102-9ADE-FC31E8EDE6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CF4C25-39F4-45C1-B494-B16052329A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50EC48-1A01-44C5-B58D-6E72D7E675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EA01AC-2915-44A8-83B8-109B169D67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9094DC-9B04-4581-93E3-4848398414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799479-1E9E-4AAB-9BE5-541B58A6F8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21E5C3-66A1-495F-89BF-18748F6986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60CBA-D313-48ED-B731-7AB669D26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E812FD-9D2A-4D3C-8F8A-CD7A147EEA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4E813F-28E5-40BC-8DA8-68F987F0E2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9F7E01-FF25-4C57-9A2B-57BFF40BBD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727FC3-E6FC-420E-9CA5-A108093723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BC4A66-7662-4F09-8690-7D9C5C2635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78A137-D2F0-4609-A8D9-2B857D8413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72BBD5-1E99-433E-93FB-5B2DF90BC3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C0B936-34D1-4F9E-8B7A-D6418672B9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340890-8CF5-4857-A065-A190F26CE4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B3CEE1-5523-4768-9587-97E1C0E42C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C853F-440B-4159-9C2C-A08A7D951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7FA130-C9F9-4C08-8531-54CE2A2C5B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1566C9-7658-4742-B17E-0C256FF80A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10C7C7-53A2-44EA-9C27-3D82C72BE2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18324D-5908-4601-A652-F2F81C685E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269AFD-A493-4EA0-9897-4E70D51F22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62F4E1-94ED-43E3-9008-4AD1AEE818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F3A0C7-B34F-4A2E-A800-FC409C2B77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0457BC-0E3F-4DC0-A795-26A558D488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479CA9-D10A-41AE-8F5F-C7392F52D6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011476-2EEC-42CC-851F-F90961DA67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945FB-C314-44BA-8728-0317266FE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DC27B1-1312-4389-A43F-57E33C0853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CF5D5D-A331-4A35-8132-020FF4AE9F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BD8021-D03F-45C1-8940-4BA878D695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7D3DB8-1C21-40F3-A7AA-5D2A297CD6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2EBCE2-625A-4902-A899-EF833E633D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B8BFAA-0E9D-41FA-A676-2EF90DBA09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188929-A362-4FB1-A797-76982CD603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439700-82CA-43FD-9C47-C7A25800A3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3F7C24-C4D7-4169-A8BF-DA52E1C004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80B1AE-5F84-40AA-B0E0-B1168E2F40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024BA-BA31-4A4F-92FD-0BF1ADC3F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4C7416-6B36-4E5A-8412-B51E8FFA7C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316A00-3665-434F-B1D1-11AB3A4092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E88B3E-1622-49D1-96C0-D06DBBCA39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BD1A59-62CD-48FD-AE0E-FC32B9B86F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723D3A-DF71-4A49-89F1-9A16FC69E6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E88C79-0F16-4605-9C8D-3084255156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0D3A39-B1D4-404F-9CF1-7920530F1B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7F9838-5EE3-4F04-80E0-CECBD627F8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2814AE-4655-4B4C-B393-C440B267E2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6B8975-1D2A-4F8F-BA36-1E3DD19094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055DF-CB27-4260-8B76-8868A77D8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CA691C-3878-4D4C-8F9E-1CAB5175DC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8AE33C-F485-424C-924F-8C7473F3BA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9C9D17-5ED6-41D8-9AFE-F0C962831C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FA8E37-51B2-4E56-AEEA-404A451BE5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3E2863-CD88-448B-B819-9046AB6FFB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9B630B6-BA2F-489B-BE7C-15D3F2E914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66FBC5-749A-4652-9A9F-7BEF0073FFB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E8B6F-E656-4FBF-B5BC-3540131C031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834A5-5556-42AA-B46C-7DF3A27CC90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FD673-4233-457C-92E4-44424246101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49D80-6B4A-4923-A0C8-BADBE2DAE08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8059A-1CBE-48BE-A70A-AB3A9FA759F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835EB-F1B4-480F-88C7-AD937B4AFA7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BAE82-CA6E-4C51-B05C-CAFB2D1350F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1460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71B70-7448-49A8-BCE9-D17EAF83CEF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healthinsurance.about.com/od/healthinsurancetermso/g/out_of_pocket_costs_definition.htm" TargetMode="External"/><Relationship Id="rId2" Type="http://schemas.openxmlformats.org/officeDocument/2006/relationships/hyperlink" Target="http://healthinsurance.about.com/od/healthinsurancedictionary/g/deductible_definition.htm" TargetMode="External"/><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apta.org/reimb/coding2005" TargetMode="External"/><Relationship Id="rId2" Type="http://schemas.openxmlformats.org/officeDocument/2006/relationships/hyperlink" Target="http://www.apta.org/reimb/about" TargetMode="External"/><Relationship Id="rId3" Type="http://schemas.openxmlformats.org/officeDocument/2006/relationships/hyperlink" Target="http://www.apta.org/reimb/coding" TargetMode="External"/><Relationship Id="rId4" Type="http://schemas.openxmlformats.org/officeDocument/2006/relationships/image" Target="../media/image29.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Rectangle 2" descr=""/>
          <p:cNvPicPr/>
          <p:nvPr/>
        </p:nvPicPr>
        <p:blipFill>
          <a:blip r:embed="rId1"/>
          <a:stretch/>
        </p:blipFill>
        <p:spPr>
          <a:xfrm>
            <a:off x="689040" y="1755720"/>
            <a:ext cx="7772400" cy="220032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Alyssa Trotsky, DPT</a:t>
            </a:r>
            <a:endParaRPr b="0" lang="en-US" sz="27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University of Michigan Hospital</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dicar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dicaid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CB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ign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uman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ighmark</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orkers’ Compensa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utomobile Insuranc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ricare &amp; VA</a:t>
            </a:r>
            <a:endParaRPr b="0" lang="en-US" sz="2700" spc="-1" strike="noStrike">
              <a:solidFill>
                <a:srgbClr val="000000"/>
              </a:solidFill>
              <a:latin typeface="Lucida Sans Unicode"/>
            </a:endParaRPr>
          </a:p>
        </p:txBody>
      </p:sp>
      <p:pic>
        <p:nvPicPr>
          <p:cNvPr id="405" name="Title 2"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art A &amp; B</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Qualifications:  </a:t>
            </a:r>
            <a:endParaRPr b="0" lang="en-US" sz="2700" spc="-1" strike="noStrike">
              <a:solidFill>
                <a:srgbClr val="000000"/>
              </a:solidFill>
              <a:latin typeface="Lucida Sans Unicode"/>
            </a:endParaRPr>
          </a:p>
          <a:p>
            <a:pPr lvl="1" marL="879480" indent="-514440">
              <a:spcBef>
                <a:spcPts val="326"/>
              </a:spcBef>
              <a:buClr>
                <a:srgbClr val="2da2bf"/>
              </a:buClr>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gt;65 years </a:t>
            </a:r>
            <a:endParaRPr b="0" lang="en-US" sz="2300" spc="-1" strike="noStrike">
              <a:solidFill>
                <a:srgbClr val="000000"/>
              </a:solidFill>
              <a:latin typeface="Lucida Sans Unicode"/>
            </a:endParaRPr>
          </a:p>
          <a:p>
            <a:pPr lvl="1" marL="879480" indent="-514440">
              <a:spcBef>
                <a:spcPts val="326"/>
              </a:spcBef>
              <a:buClr>
                <a:srgbClr val="2da2bf"/>
              </a:buClr>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nder 65 with certain diagnoses </a:t>
            </a:r>
            <a:endParaRPr b="0" lang="en-US" sz="2300" spc="-1" strike="noStrike">
              <a:solidFill>
                <a:srgbClr val="000000"/>
              </a:solidFill>
              <a:latin typeface="Lucida Sans Unicode"/>
            </a:endParaRPr>
          </a:p>
          <a:p>
            <a:pPr lvl="1" marL="879480" indent="-514440">
              <a:spcBef>
                <a:spcPts val="326"/>
              </a:spcBef>
              <a:buClr>
                <a:srgbClr val="2da2bf"/>
              </a:buClr>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ople with end stage renal disease </a:t>
            </a:r>
            <a:endParaRPr b="0" lang="en-US" sz="2300" spc="-1" strike="noStrike">
              <a:solidFill>
                <a:srgbClr val="000000"/>
              </a:solidFill>
              <a:latin typeface="Lucida Sans Unicode"/>
            </a:endParaRPr>
          </a:p>
          <a:p>
            <a:pPr lvl="1" marL="879480" indent="-51444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07" name="Title 2"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8 Minute Rul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8 to &lt; 23               </a:t>
            </a:r>
            <a:r>
              <a:rPr b="1" lang="en-US" sz="2300" spc="-1" strike="noStrike">
                <a:solidFill>
                  <a:srgbClr val="00b0f0"/>
                </a:solidFill>
                <a:latin typeface="Lucida Sans Unicode"/>
              </a:rPr>
              <a:t>1 unit </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23 to &lt; 38             </a:t>
            </a:r>
            <a:r>
              <a:rPr b="1" lang="en-US" sz="2300" spc="-1" strike="noStrike">
                <a:solidFill>
                  <a:srgbClr val="00b0f0"/>
                </a:solidFill>
                <a:latin typeface="Lucida Sans Unicode"/>
              </a:rPr>
              <a:t>2 unit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38 to &lt; 53             </a:t>
            </a:r>
            <a:r>
              <a:rPr b="1" lang="en-US" sz="2300" spc="-1" strike="noStrike">
                <a:solidFill>
                  <a:srgbClr val="00b0f0"/>
                </a:solidFill>
                <a:latin typeface="Lucida Sans Unicode"/>
              </a:rPr>
              <a:t>3 unit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53 to &lt; 68             </a:t>
            </a:r>
            <a:r>
              <a:rPr b="1" lang="en-US" sz="2300" spc="-1" strike="noStrike">
                <a:solidFill>
                  <a:srgbClr val="00b0f0"/>
                </a:solidFill>
                <a:latin typeface="Lucida Sans Unicode"/>
              </a:rPr>
              <a:t>4 units </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68 to &lt; 83             </a:t>
            </a:r>
            <a:r>
              <a:rPr b="1" lang="en-US" sz="2300" spc="-1" strike="noStrike">
                <a:solidFill>
                  <a:srgbClr val="00b0f0"/>
                </a:solidFill>
                <a:latin typeface="Lucida Sans Unicode"/>
              </a:rPr>
              <a:t>5 unit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83 to &lt; 98             </a:t>
            </a:r>
            <a:r>
              <a:rPr b="1" lang="en-US" sz="2300" spc="-1" strike="noStrike">
                <a:solidFill>
                  <a:srgbClr val="00b0f0"/>
                </a:solidFill>
                <a:latin typeface="Lucida Sans Unicode"/>
              </a:rPr>
              <a:t>6 unit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98 to &lt; 113           </a:t>
            </a:r>
            <a:r>
              <a:rPr b="1" lang="en-US" sz="2300" spc="-1" strike="noStrike">
                <a:solidFill>
                  <a:srgbClr val="00b0f0"/>
                </a:solidFill>
                <a:latin typeface="Lucida Sans Unicode"/>
              </a:rPr>
              <a:t>7 unit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113 to &lt; 128         </a:t>
            </a:r>
            <a:r>
              <a:rPr b="1" lang="en-US" sz="2300" spc="-1" strike="noStrike">
                <a:solidFill>
                  <a:srgbClr val="00b0f0"/>
                </a:solidFill>
                <a:latin typeface="Lucida Sans Unicode"/>
              </a:rPr>
              <a:t>8 units</a:t>
            </a:r>
            <a:endParaRPr b="0" lang="en-US" sz="23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9" name="Title 2"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CD-9 Cod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oon to be replaced by ICD-10 codes</a:t>
            </a:r>
            <a:endParaRPr b="0" lang="en-US" sz="27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ore specific </a:t>
            </a:r>
            <a:endParaRPr b="0" lang="en-US" sz="23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  ICD-9 – angioplasty</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ICD-10 – dilation of right femoral artery with drug-eluting intraluminal device, open approach</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 dilation of right femoral artery with intraluminal device, open approach</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Codes for patients with Medicare only in July 2013</a:t>
            </a:r>
            <a:endParaRPr b="0" lang="en-US" sz="2700" spc="-1" strike="noStrike">
              <a:solidFill>
                <a:srgbClr val="000000"/>
              </a:solidFill>
              <a:latin typeface="Lucida Sans Unicode"/>
            </a:endParaRPr>
          </a:p>
        </p:txBody>
      </p:sp>
      <p:pic>
        <p:nvPicPr>
          <p:cNvPr id="411" name="Title 2"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7030a0"/>
                </a:solidFill>
                <a:latin typeface="Lucida Sans Unicode"/>
              </a:rPr>
              <a:t>Initial Evaluation </a:t>
            </a:r>
            <a:r>
              <a:rPr b="0" lang="en-US" sz="2500" spc="-1" strike="noStrike">
                <a:solidFill>
                  <a:srgbClr val="7030a0"/>
                </a:solidFill>
                <a:latin typeface="Lucida Sans Unicode"/>
              </a:rPr>
              <a:t>(97001)</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7030a0"/>
                </a:solidFill>
                <a:latin typeface="Lucida Sans Unicode"/>
              </a:rPr>
              <a:t>Aquatic Therapy </a:t>
            </a:r>
            <a:r>
              <a:rPr b="0" lang="en-US" sz="2500" spc="-1" strike="noStrike">
                <a:solidFill>
                  <a:srgbClr val="7030a0"/>
                </a:solidFill>
                <a:latin typeface="Lucida Sans Unicode"/>
              </a:rPr>
              <a:t>(97598)</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7030a0"/>
                </a:solidFill>
                <a:latin typeface="Lucida Sans Unicode"/>
              </a:rPr>
              <a:t>Orthotic Management and Training </a:t>
            </a:r>
            <a:r>
              <a:rPr b="0" lang="en-US" sz="2500" spc="-1" strike="noStrike">
                <a:solidFill>
                  <a:srgbClr val="7030a0"/>
                </a:solidFill>
                <a:latin typeface="Lucida Sans Unicode"/>
              </a:rPr>
              <a:t>(97113)</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7030a0"/>
                </a:solidFill>
                <a:latin typeface="Lucida Sans Unicode"/>
              </a:rPr>
              <a:t>Physical Performance Test and Report </a:t>
            </a:r>
            <a:r>
              <a:rPr b="0" lang="en-US" sz="2500" spc="-1" strike="noStrike">
                <a:solidFill>
                  <a:srgbClr val="7030a0"/>
                </a:solidFill>
                <a:latin typeface="Lucida Sans Unicode"/>
              </a:rPr>
              <a:t>(97750)</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7030a0"/>
                </a:solidFill>
                <a:latin typeface="Lucida Sans Unicode"/>
              </a:rPr>
              <a:t>Therapeutic Activities:  </a:t>
            </a:r>
            <a:r>
              <a:rPr b="0" lang="en-US" sz="2500" spc="-1" strike="noStrike">
                <a:solidFill>
                  <a:srgbClr val="000000"/>
                </a:solidFill>
                <a:latin typeface="Lucida Sans Unicode"/>
              </a:rPr>
              <a:t>any activity to imrpove function including positioning, bed mobility, tilt table, proper body mechanics in the performance of ADL’s, and transfer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7030a0"/>
                </a:solidFill>
                <a:latin typeface="Lucida Sans Unicode"/>
              </a:rPr>
              <a:t>Neuromuscular Re-Education:  </a:t>
            </a:r>
            <a:r>
              <a:rPr b="0" lang="en-US" sz="2500" spc="-1" strike="noStrike">
                <a:solidFill>
                  <a:srgbClr val="000000"/>
                </a:solidFill>
                <a:latin typeface="Lucida Sans Unicode"/>
              </a:rPr>
              <a:t>re-education of movement, balance, coordination, kinesthetic sense, posture, and proprioception.</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7030a0"/>
                </a:solidFill>
                <a:latin typeface="Lucida Sans Unicode"/>
              </a:rPr>
              <a:t>Prosthetic Training</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413" name="Title 2"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7030a0"/>
                </a:solidFill>
                <a:latin typeface="Lucida Sans Unicode"/>
              </a:rPr>
              <a:t>Therapeutic Exercise:  </a:t>
            </a:r>
            <a:r>
              <a:rPr b="0" lang="en-US" sz="2500" spc="-1" strike="noStrike">
                <a:solidFill>
                  <a:srgbClr val="000000"/>
                </a:solidFill>
                <a:latin typeface="Lucida Sans Unicode"/>
              </a:rPr>
              <a:t>exercise to improve breathing, endurance, oral-motor function, posture, ROM, and/or strength, stretching/flexibility exercises, and neuromobilizatio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7030a0"/>
                </a:solidFill>
                <a:latin typeface="Lucida Sans Unicode"/>
              </a:rPr>
              <a:t>Wheelchair Management </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7030a0"/>
                </a:solidFill>
                <a:latin typeface="Lucida Sans Unicode"/>
              </a:rPr>
              <a:t>Community Re-Entry</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7030a0"/>
                </a:solidFill>
                <a:latin typeface="Lucida Sans Unicode"/>
              </a:rPr>
              <a:t>Manual Therapy Techniques</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7030a0"/>
                </a:solidFill>
                <a:latin typeface="Lucida Sans Unicode"/>
              </a:rPr>
              <a:t>Gait Training</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7030a0"/>
                </a:solidFill>
                <a:latin typeface="Lucida Sans Unicode"/>
              </a:rPr>
              <a:t>Iontophoresis</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7030a0"/>
                </a:solidFill>
                <a:latin typeface="Lucida Sans Unicode"/>
              </a:rPr>
              <a:t>Airway Clearance Techniques</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7030a0"/>
                </a:solidFill>
                <a:latin typeface="Lucida Sans Unicode"/>
              </a:rPr>
              <a:t>Electrical Stimulation VS. Unattended Electrical Stimulation</a:t>
            </a:r>
            <a:endParaRPr b="0" lang="en-US" sz="2500" spc="-1" strike="noStrike">
              <a:solidFill>
                <a:srgbClr val="000000"/>
              </a:solidFill>
              <a:latin typeface="Lucida Sans Unicode"/>
            </a:endParaRPr>
          </a:p>
        </p:txBody>
      </p:sp>
      <p:pic>
        <p:nvPicPr>
          <p:cNvPr id="415" name="Title 2"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mart Billi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imbursed different amounts for each procedure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  Initial Evaluation ($224.00)</a:t>
            </a:r>
            <a:endParaRPr b="0" lang="en-US" sz="2300" spc="-1" strike="noStrike">
              <a:solidFill>
                <a:srgbClr val="000000"/>
              </a:solidFill>
              <a:latin typeface="Lucida Sans Unicode"/>
            </a:endParaRPr>
          </a:p>
        </p:txBody>
      </p:sp>
      <p:pic>
        <p:nvPicPr>
          <p:cNvPr id="417" name="Title 2"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patient Rehab, Skilled Nursing Facility (Part A), Acute Care:</a:t>
            </a:r>
            <a:endParaRPr b="0" lang="en-US" sz="2700" spc="-1" strike="noStrike">
              <a:solidFill>
                <a:srgbClr val="000000"/>
              </a:solidFill>
              <a:latin typeface="Lucida Sans Unicode"/>
            </a:endParaRPr>
          </a:p>
          <a:p>
            <a:pPr lvl="1" marL="620640" indent="-228600">
              <a:spcBef>
                <a:spcPts val="326"/>
              </a:spcBef>
              <a:buClr>
                <a:srgbClr val="2da2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can bill separately for the distinct services provided at the same time</a:t>
            </a:r>
            <a:endParaRPr b="0" lang="en-US" sz="2300" spc="-1" strike="noStrike">
              <a:solidFill>
                <a:srgbClr val="000000"/>
              </a:solidFill>
              <a:latin typeface="Lucida Sans Unicode"/>
            </a:endParaRPr>
          </a:p>
          <a:p>
            <a:pPr lvl="1" marL="620640" indent="-228600">
              <a:spcBef>
                <a:spcPts val="326"/>
              </a:spcBef>
              <a:buClr>
                <a:srgbClr val="2da2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ensure co-treatment is clinically appropriate and provided for the sole benefit of the patien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ome Health Care:</a:t>
            </a:r>
            <a:endParaRPr b="0" lang="en-US" sz="2700" spc="-1" strike="noStrike">
              <a:solidFill>
                <a:srgbClr val="000000"/>
              </a:solidFill>
              <a:latin typeface="Lucida Sans Unicode"/>
            </a:endParaRPr>
          </a:p>
          <a:p>
            <a:pPr lvl="1" marL="620640" indent="-228600">
              <a:spcBef>
                <a:spcPts val="326"/>
              </a:spcBef>
              <a:buClr>
                <a:srgbClr val="2da2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only one therapist could bill</a:t>
            </a:r>
            <a:endParaRPr b="0" lang="en-US" sz="2300" spc="-1" strike="noStrike">
              <a:solidFill>
                <a:srgbClr val="000000"/>
              </a:solidFill>
              <a:latin typeface="Lucida Sans Unicode"/>
            </a:endParaRPr>
          </a:p>
          <a:p>
            <a:pPr lvl="1" marL="620640" indent="-228600">
              <a:spcBef>
                <a:spcPts val="326"/>
              </a:spcBef>
              <a:buClr>
                <a:srgbClr val="2da2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if both patients were treated same day but separate times, then  both therapists could bill</a:t>
            </a:r>
            <a:endParaRPr b="0" lang="en-US" sz="2300" spc="-1" strike="noStrike">
              <a:solidFill>
                <a:srgbClr val="000000"/>
              </a:solidFill>
              <a:latin typeface="Lucida Sans Unicode"/>
            </a:endParaRPr>
          </a:p>
        </p:txBody>
      </p:sp>
      <p:pic>
        <p:nvPicPr>
          <p:cNvPr id="419" name="Title 2" descr=""/>
          <p:cNvPicPr/>
          <p:nvPr/>
        </p:nvPicPr>
        <p:blipFill>
          <a:blip r:embed="rId1"/>
          <a:stretch/>
        </p:blipFill>
        <p:spPr>
          <a:xfrm>
            <a:off x="457200" y="128520"/>
            <a:ext cx="8229600" cy="1614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killed Nursing Facility (Part B), Outpatient Hospital and Physical Therapists in Private Practice:</a:t>
            </a:r>
            <a:endParaRPr b="0" lang="en-US" sz="2700" spc="-1" strike="noStrike">
              <a:solidFill>
                <a:srgbClr val="000000"/>
              </a:solidFill>
              <a:latin typeface="Lucida Sans Unicode"/>
            </a:endParaRPr>
          </a:p>
          <a:p>
            <a:pPr lvl="1" marL="620640" indent="-228600">
              <a:spcBef>
                <a:spcPts val="326"/>
              </a:spcBef>
              <a:buClr>
                <a:srgbClr val="2da2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Cannot each bill separately for the same service</a:t>
            </a:r>
            <a:endParaRPr b="0" lang="en-US" sz="2300" spc="-1" strike="noStrike">
              <a:solidFill>
                <a:srgbClr val="000000"/>
              </a:solidFill>
              <a:latin typeface="Lucida Sans Unicode"/>
            </a:endParaRPr>
          </a:p>
          <a:p>
            <a:pPr lvl="1" marL="620640" indent="-228600">
              <a:spcBef>
                <a:spcPts val="326"/>
              </a:spcBef>
              <a:buClr>
                <a:srgbClr val="2da2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Cannot bill for different services provided at the same time to the same patient </a:t>
            </a:r>
            <a:endParaRPr b="0" lang="en-US" sz="2300" spc="-1" strike="noStrike">
              <a:solidFill>
                <a:srgbClr val="000000"/>
              </a:solidFill>
              <a:latin typeface="Lucida Sans Unicode"/>
            </a:endParaRPr>
          </a:p>
          <a:p>
            <a:pPr lvl="1" marL="620640" indent="-228600">
              <a:spcBef>
                <a:spcPts val="326"/>
              </a:spcBef>
              <a:buClr>
                <a:srgbClr val="2da2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When two therapists work together, you may split the minutes for timed codes and each bill for part of the treatment minutes, but you may not both bill timed codes for the same minutes.</a:t>
            </a:r>
            <a:endParaRPr b="0" lang="en-US" sz="2300" spc="-1" strike="noStrike">
              <a:solidFill>
                <a:srgbClr val="000000"/>
              </a:solidFill>
              <a:latin typeface="Lucida Sans Unicode"/>
            </a:endParaRPr>
          </a:p>
        </p:txBody>
      </p:sp>
      <p:pic>
        <p:nvPicPr>
          <p:cNvPr id="421" name="Title 2" descr=""/>
          <p:cNvPicPr/>
          <p:nvPr/>
        </p:nvPicPr>
        <p:blipFill>
          <a:blip r:embed="rId1"/>
          <a:stretch/>
        </p:blipFill>
        <p:spPr>
          <a:xfrm>
            <a:off x="457200" y="128520"/>
            <a:ext cx="8229600" cy="1614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imeliness of care.</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Work with utilization management or case management.</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roper utilization of support personnel.</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fficient use of resources:  aware of costs</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What are the payment policies of payer?</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Documentation of skilled intervention.</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423" name="Title 2"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599840"/>
            <a:ext cx="8229600" cy="52578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73% report they were not adequately prepared for managed care and other reimbursement issues by their professional education programs.</a:t>
            </a: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71% do not think they are well informed regarding the government’s fraud and abuse investigations</a:t>
            </a: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31% are aware of situations where a PT was encouraged to provide or document services in an unethical, fraudulent, or illegal manner.</a:t>
            </a:r>
            <a:endParaRPr b="0" lang="en-US" sz="2400" spc="-1" strike="noStrike">
              <a:solidFill>
                <a:srgbClr val="000000"/>
              </a:solidFill>
              <a:latin typeface="Lucida Sans Unicode"/>
            </a:endParaRPr>
          </a:p>
        </p:txBody>
      </p:sp>
      <p:pic>
        <p:nvPicPr>
          <p:cNvPr id="380" name="Rectangle 2" descr=""/>
          <p:cNvPicPr/>
          <p:nvPr/>
        </p:nvPicPr>
        <p:blipFill>
          <a:blip r:embed="rId1"/>
          <a:stretch/>
        </p:blipFill>
        <p:spPr>
          <a:xfrm>
            <a:off x="457200" y="146160"/>
            <a:ext cx="8229600" cy="1573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57200" y="1066680"/>
            <a:ext cx="8229600" cy="56390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xplanation of Benefits (EOB)</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nials and appeals</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rite offs</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Related to tax laws</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Balance billing</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rovider requests more cost than what the health insurance pays</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irst party pay</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hich insurance plan pays first</a:t>
            </a:r>
            <a:endParaRPr b="0" lang="en-US" sz="20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x.  Coordination of benefits</a:t>
            </a:r>
            <a:endParaRPr b="0" lang="en-US" sz="20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 Michigan – Auto pays first, then private pay</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irect contracting</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ompany cuts out the middle man of the insurance company and draw up a contract to directly pay the health care provider</a:t>
            </a:r>
            <a:endParaRPr b="0" lang="en-US" sz="2000" spc="-1" strike="noStrike">
              <a:solidFill>
                <a:srgbClr val="000000"/>
              </a:solidFill>
              <a:latin typeface="Lucida Sans Unicode"/>
            </a:endParaRPr>
          </a:p>
        </p:txBody>
      </p:sp>
      <p:pic>
        <p:nvPicPr>
          <p:cNvPr id="425" name="Rectangle 2" descr=""/>
          <p:cNvPicPr/>
          <p:nvPr/>
        </p:nvPicPr>
        <p:blipFill>
          <a:blip r:embed="rId1"/>
          <a:stretch/>
        </p:blipFill>
        <p:spPr>
          <a:xfrm>
            <a:off x="201600" y="189000"/>
            <a:ext cx="8485200" cy="115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990360"/>
            <a:ext cx="8229600" cy="57150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Lucida Sans Unicode"/>
              </a:rPr>
              <a:t>Patient:</a:t>
            </a:r>
            <a:r>
              <a:rPr b="0" lang="en-US" sz="1300" spc="-1" strike="noStrike">
                <a:solidFill>
                  <a:srgbClr val="000000"/>
                </a:solidFill>
                <a:latin typeface="Lucida Sans Unicode"/>
              </a:rPr>
              <a:t> The name of the person who received the service. This may be you or one of your dependents.</a:t>
            </a:r>
            <a:endParaRPr b="0" lang="en-US" sz="1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Lucida Sans Unicode"/>
              </a:rPr>
              <a:t>Insured ID Number:</a:t>
            </a:r>
            <a:r>
              <a:rPr b="0" lang="en-US" sz="1300" spc="-1" strike="noStrike">
                <a:solidFill>
                  <a:srgbClr val="000000"/>
                </a:solidFill>
                <a:latin typeface="Lucida Sans Unicode"/>
              </a:rPr>
              <a:t> The identification number assigned to you by your insurance company. This should match the number on your insurance card.</a:t>
            </a:r>
            <a:endParaRPr b="0" lang="en-US" sz="1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Lucida Sans Unicode"/>
              </a:rPr>
              <a:t>Claim Number:</a:t>
            </a:r>
            <a:r>
              <a:rPr b="0" lang="en-US" sz="1300" spc="-1" strike="noStrike">
                <a:solidFill>
                  <a:srgbClr val="000000"/>
                </a:solidFill>
                <a:latin typeface="Lucida Sans Unicode"/>
              </a:rPr>
              <a:t> The number that identifies, or refers to the claim that either you or your health provider submitted to the insurance company. Along with your insurance ID number, you will need this claim number if you have any questions for your health plan.</a:t>
            </a:r>
            <a:endParaRPr b="0" lang="en-US" sz="1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Lucida Sans Unicode"/>
              </a:rPr>
              <a:t>Provider:</a:t>
            </a:r>
            <a:r>
              <a:rPr b="0" lang="en-US" sz="1300" spc="-1" strike="noStrike">
                <a:solidFill>
                  <a:srgbClr val="000000"/>
                </a:solidFill>
                <a:latin typeface="Lucida Sans Unicode"/>
              </a:rPr>
              <a:t> The name of the provider who performed the services for you or your dependent. This may be the name of a doctor, a laboratory, a hospital, or other healthcare provider.</a:t>
            </a:r>
            <a:endParaRPr b="0" lang="en-US" sz="1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Lucida Sans Unicode"/>
              </a:rPr>
              <a:t>Type of Service:</a:t>
            </a:r>
            <a:r>
              <a:rPr b="0" lang="en-US" sz="1300" spc="-1" strike="noStrike">
                <a:solidFill>
                  <a:srgbClr val="000000"/>
                </a:solidFill>
                <a:latin typeface="Lucida Sans Unicode"/>
              </a:rPr>
              <a:t> A code and brief description of the health-related service you received from the provider.</a:t>
            </a:r>
            <a:endParaRPr b="0" lang="en-US" sz="1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Lucida Sans Unicode"/>
              </a:rPr>
              <a:t>Date of Service:</a:t>
            </a:r>
            <a:r>
              <a:rPr b="0" lang="en-US" sz="1300" spc="-1" strike="noStrike">
                <a:solidFill>
                  <a:srgbClr val="000000"/>
                </a:solidFill>
                <a:latin typeface="Lucida Sans Unicode"/>
              </a:rPr>
              <a:t> The beginning and end dates of the health-related service you received from the provider. If the claim is for a doctor visit, the beginning and end dates will be the same.</a:t>
            </a:r>
            <a:endParaRPr b="0" lang="en-US" sz="1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Lucida Sans Unicode"/>
              </a:rPr>
              <a:t>Charge (also known as Billed Charges):</a:t>
            </a:r>
            <a:r>
              <a:rPr b="0" lang="en-US" sz="1300" spc="-1" strike="noStrike">
                <a:solidFill>
                  <a:srgbClr val="000000"/>
                </a:solidFill>
                <a:latin typeface="Lucida Sans Unicode"/>
              </a:rPr>
              <a:t> The amount your provider billed your insurance company for the service.</a:t>
            </a:r>
            <a:endParaRPr b="0" lang="en-US" sz="1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Lucida Sans Unicode"/>
              </a:rPr>
              <a:t>Not Covered Amount:</a:t>
            </a:r>
            <a:r>
              <a:rPr b="0" lang="en-US" sz="1300" spc="-1" strike="noStrike">
                <a:solidFill>
                  <a:srgbClr val="000000"/>
                </a:solidFill>
                <a:latin typeface="Lucida Sans Unicode"/>
              </a:rPr>
              <a:t> The amount of money that your insurance company did not pay your provider. Next to this amount you may see a code that gives the reason the doctor was not paid a certain amount. A description of these codes are usually found at the bottom of the EOB, on the back of your EOB or in a note attached to your EOB.</a:t>
            </a:r>
            <a:endParaRPr b="0" lang="en-US" sz="1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Lucida Sans Unicode"/>
              </a:rPr>
              <a:t>Total Patient Cost:</a:t>
            </a:r>
            <a:r>
              <a:rPr b="0" lang="en-US" sz="1300" spc="-1" strike="noStrike">
                <a:solidFill>
                  <a:srgbClr val="000000"/>
                </a:solidFill>
                <a:latin typeface="Lucida Sans Unicode"/>
              </a:rPr>
              <a:t> The amount of money you owe as your share of the bill. This amount depends on your health plan’s </a:t>
            </a:r>
            <a:r>
              <a:rPr b="0" lang="en-US" sz="1300" spc="-1" strike="noStrike" u="sng">
                <a:solidFill>
                  <a:srgbClr val="ff8119"/>
                </a:solidFill>
                <a:uFillTx/>
                <a:latin typeface="Lucida Sans Unicode"/>
                <a:hlinkClick r:id="rId1"/>
              </a:rPr>
              <a:t>out-of-pocket</a:t>
            </a:r>
            <a:r>
              <a:rPr b="0" lang="en-US" sz="1300" spc="-1" strike="noStrike">
                <a:solidFill>
                  <a:srgbClr val="000000"/>
                </a:solidFill>
                <a:latin typeface="Lucida Sans Unicode"/>
              </a:rPr>
              <a:t> requirements, such as an annual deductible, copayments, and coinsurance. Also, you may have received a service that is not covered by your health plan in which case you are responsible to pay the full amount.</a:t>
            </a:r>
            <a:endParaRPr b="0" lang="en-US" sz="1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Additional information may include the amount of payment actually made to your provider and how much of your </a:t>
            </a:r>
            <a:r>
              <a:rPr b="0" lang="en-US" sz="1300" spc="-1" strike="noStrike" u="sng">
                <a:solidFill>
                  <a:srgbClr val="ff8119"/>
                </a:solidFill>
                <a:uFillTx/>
                <a:latin typeface="Lucida Sans Unicode"/>
                <a:hlinkClick r:id="rId2"/>
              </a:rPr>
              <a:t>annual deductible</a:t>
            </a:r>
            <a:r>
              <a:rPr b="0" lang="en-US" sz="1300" spc="-1" strike="noStrike">
                <a:solidFill>
                  <a:srgbClr val="000000"/>
                </a:solidFill>
                <a:latin typeface="Lucida Sans Unicode"/>
              </a:rPr>
              <a:t> has been met.</a:t>
            </a:r>
            <a:endParaRPr b="0" lang="en-US" sz="1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Lucida Sans Unicode"/>
            </a:endParaRPr>
          </a:p>
        </p:txBody>
      </p:sp>
      <p:pic>
        <p:nvPicPr>
          <p:cNvPr id="427" name="Title 1" descr=""/>
          <p:cNvPicPr/>
          <p:nvPr/>
        </p:nvPicPr>
        <p:blipFill>
          <a:blip r:embed="rId3"/>
          <a:stretch/>
        </p:blipFill>
        <p:spPr>
          <a:xfrm>
            <a:off x="201600" y="128520"/>
            <a:ext cx="8485200" cy="1150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d you know your cos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n you be more effici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are your outcomes relative to your expens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as your patient/client satisfi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d your patient/client meet his/her goals?</a:t>
            </a:r>
            <a:endParaRPr b="0" lang="en-US" sz="2700" spc="-1" strike="noStrike">
              <a:solidFill>
                <a:srgbClr val="000000"/>
              </a:solidFill>
              <a:latin typeface="Lucida Sans Unicode"/>
            </a:endParaRPr>
          </a:p>
        </p:txBody>
      </p:sp>
      <p:pic>
        <p:nvPicPr>
          <p:cNvPr id="429"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57200" y="1142640"/>
            <a:ext cx="8229600" cy="571500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Health Care System</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Documentation – Justification/Reviews</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ontract Negotiation</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QI – Outcomes/Best Practice</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Billables for PT</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Basic Terms of Coding</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Link to Ethics/Legal</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Methods of Payment</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Link to Core Values</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History of Medicare/Workers Comp</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Justification – Denials/Appeals</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dvocacy – Political/Professional</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Business for Revenues – Self Pay/POPTS</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tate Law</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Risk Management</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Healthcare for under insured – Pro Bono</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ost Benefit Ratio</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dministration</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eer Review</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Benefit Languages:  Copay/ Deductibles</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431" name="Rectangle 2" descr=""/>
          <p:cNvPicPr/>
          <p:nvPr/>
        </p:nvPicPr>
        <p:blipFill>
          <a:blip r:embed="rId1"/>
          <a:stretch/>
        </p:blipFill>
        <p:spPr>
          <a:xfrm>
            <a:off x="201600" y="237960"/>
            <a:ext cx="8485200" cy="1157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PTA Course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nnual Conference</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oding</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Reversing Denied Claims</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ound Management Evidence for Reimbursement</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ompliance for Medicare</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imbursement Seminar</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3"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838080"/>
            <a:ext cx="8229600" cy="6019920"/>
          </a:xfrm>
          <a:prstGeom prst="rect">
            <a:avLst/>
          </a:prstGeom>
          <a:noFill/>
          <a:ln w="0">
            <a:noFill/>
          </a:ln>
        </p:spPr>
        <p:txBody>
          <a:bodyPr anchor="t">
            <a:normAutofit/>
          </a:bodyPr>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PTA Website</a:t>
            </a:r>
            <a:endParaRPr b="0" lang="en-US" sz="1800" spc="-1" strike="noStrike">
              <a:solidFill>
                <a:srgbClr val="000000"/>
              </a:solidFill>
              <a:latin typeface="Lucida Sans Unicode"/>
            </a:endParaRPr>
          </a:p>
          <a:p>
            <a:pPr lvl="1" marL="620640" indent="-228600">
              <a:lnSpc>
                <a:spcPct val="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8119"/>
                </a:solidFill>
                <a:uFillTx/>
                <a:latin typeface="Lucida Sans Unicode"/>
                <a:hlinkClick r:id="rId1"/>
              </a:rPr>
              <a:t>CPT Coding Changes for 2005</a:t>
            </a: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a:p>
            <a:pPr lvl="1" marL="620640" indent="-228600">
              <a:lnSpc>
                <a:spcPct val="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8119"/>
                </a:solidFill>
                <a:uFillTx/>
                <a:latin typeface="Lucida Sans Unicode"/>
                <a:hlinkClick r:id="rId2"/>
              </a:rPr>
              <a:t>About Reimbursement</a:t>
            </a: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a:p>
            <a:pPr lvl="1" marL="620640" indent="-228600">
              <a:lnSpc>
                <a:spcPct val="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8119"/>
                </a:solidFill>
                <a:uFillTx/>
                <a:latin typeface="Lucida Sans Unicode"/>
                <a:hlinkClick r:id="rId3"/>
              </a:rPr>
              <a:t>Coding, Billing, and Payment</a:t>
            </a:r>
            <a:r>
              <a:rPr b="0" lang="en-US" sz="1800" spc="-1" strike="noStrike">
                <a:solidFill>
                  <a:srgbClr val="000000"/>
                </a:solidFill>
                <a:latin typeface="Lucida Sans Unicode"/>
              </a:rPr>
              <a:t>  Information about how PTs are reimbursed: coding, billing, fees, costs, payment by treatment setting </a:t>
            </a:r>
            <a:endParaRPr b="0" lang="en-US" sz="1800" spc="-1" strike="noStrike">
              <a:solidFill>
                <a:srgbClr val="000000"/>
              </a:solidFill>
              <a:latin typeface="Lucida Sans Unicode"/>
            </a:endParaRPr>
          </a:p>
          <a:p>
            <a:pPr lvl="1" marL="620640" indent="-228600">
              <a:lnSpc>
                <a:spcPct val="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Regulatory Issues: Medicare, HIPAA, and Others</a:t>
            </a:r>
            <a:r>
              <a:rPr b="0" lang="en-US" sz="1800" spc="-1" strike="noStrike">
                <a:solidFill>
                  <a:srgbClr val="000000"/>
                </a:solidFill>
                <a:latin typeface="Lucida Sans Unicode"/>
              </a:rPr>
              <a:t>  Medicare, Medicare fee calculator, Medicaid, HIPAA, workers' compensation, and state insurance commissions. </a:t>
            </a:r>
            <a:endParaRPr b="0" lang="en-US" sz="1800" spc="-1" strike="noStrike">
              <a:solidFill>
                <a:srgbClr val="000000"/>
              </a:solidFill>
              <a:latin typeface="Lucida Sans Unicode"/>
            </a:endParaRPr>
          </a:p>
          <a:p>
            <a:pPr lvl="1" marL="620640" indent="-228600">
              <a:lnSpc>
                <a:spcPct val="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References &amp; Resources for Practice</a:t>
            </a:r>
            <a:r>
              <a:rPr b="0" lang="en-US" sz="1800" spc="-1" strike="noStrike">
                <a:solidFill>
                  <a:srgbClr val="000000"/>
                </a:solidFill>
                <a:latin typeface="Lucida Sans Unicode"/>
              </a:rPr>
              <a:t>  Positions on supervision, legal and ethical issues, reimbursement resources, and educational materials </a:t>
            </a:r>
            <a:endParaRPr b="0" lang="en-US" sz="1800" spc="-1" strike="noStrike">
              <a:solidFill>
                <a:srgbClr val="000000"/>
              </a:solidFill>
              <a:latin typeface="Lucida Sans Unicode"/>
            </a:endParaRPr>
          </a:p>
          <a:p>
            <a:pPr lvl="1" marL="620640" indent="-228600">
              <a:lnSpc>
                <a:spcPct val="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Information for Payers and Employers</a:t>
            </a:r>
            <a:r>
              <a:rPr b="0" lang="en-US" sz="1800" spc="-1" strike="noStrike">
                <a:solidFill>
                  <a:srgbClr val="000000"/>
                </a:solidFill>
                <a:latin typeface="Lucida Sans Unicode"/>
              </a:rPr>
              <a:t>  Payers frequently ask for assistance with CPT coding, state practice acts, direct access, CEUs, and APTA positions and policies - We provide help on these pages. Payers can also sign up to attend one of our annual Insurance Forums. </a:t>
            </a:r>
            <a:endParaRPr b="0" lang="en-US" sz="1800" spc="-1" strike="noStrike">
              <a:solidFill>
                <a:srgbClr val="000000"/>
              </a:solidFill>
              <a:latin typeface="Lucida Sans Unicode"/>
            </a:endParaRPr>
          </a:p>
          <a:p>
            <a:pPr lvl="1" marL="620640" indent="-228600">
              <a:lnSpc>
                <a:spcPct val="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Information for Consumers</a:t>
            </a:r>
            <a:r>
              <a:rPr b="0" lang="en-US" sz="1800" spc="-1" strike="noStrike">
                <a:solidFill>
                  <a:srgbClr val="000000"/>
                </a:solidFill>
                <a:latin typeface="Lucida Sans Unicode"/>
              </a:rPr>
              <a:t>  What you need to know about physical therapy.  </a:t>
            </a:r>
            <a:endParaRPr b="0" lang="en-US" sz="1800" spc="-1" strike="noStrike">
              <a:solidFill>
                <a:srgbClr val="000000"/>
              </a:solidFill>
              <a:latin typeface="Lucida Sans Unicode"/>
            </a:endParaRPr>
          </a:p>
          <a:p>
            <a:pPr lvl="1" marL="620640" indent="-228600">
              <a:lnSpc>
                <a:spcPct val="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Frequently Asked Questions</a:t>
            </a: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a:p>
            <a:pPr lvl="1" marL="620640" indent="-228600">
              <a:lnSpc>
                <a:spcPct val="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Continuing Education</a:t>
            </a:r>
            <a:r>
              <a:rPr b="0" lang="en-US" sz="1800" spc="-1" strike="noStrike">
                <a:solidFill>
                  <a:srgbClr val="000000"/>
                </a:solidFill>
                <a:latin typeface="Lucida Sans Unicode"/>
              </a:rPr>
              <a:t>  APTA offers a variety of seminars, online courses, and publications on reimbursement issues. </a:t>
            </a:r>
            <a:endParaRPr b="0" lang="en-US" sz="1800" spc="-1" strike="noStrike">
              <a:solidFill>
                <a:srgbClr val="000000"/>
              </a:solidFill>
              <a:latin typeface="Lucida Sans Unicode"/>
            </a:endParaRPr>
          </a:p>
          <a:p>
            <a:pPr lvl="1" marL="620640" indent="-228600">
              <a:lnSpc>
                <a:spcPct val="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Reimbursement Message Board</a:t>
            </a: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a:p>
            <a:pPr lvl="1" marL="620640" indent="-228600">
              <a:lnSpc>
                <a:spcPct val="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Subscribe Now to </a:t>
            </a:r>
            <a:r>
              <a:rPr b="1" i="1" lang="en-US" sz="1800" spc="-1" strike="noStrike">
                <a:solidFill>
                  <a:srgbClr val="000000"/>
                </a:solidFill>
                <a:latin typeface="Lucida Sans Unicode"/>
              </a:rPr>
              <a:t>Physical Therapy Reimbursement News</a:t>
            </a: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a:p>
            <a:pPr lvl="1" marL="620640" indent="-228600">
              <a:lnSpc>
                <a:spcPct val="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Opinions Wanted</a:t>
            </a: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a:p>
            <a:pPr lvl="1" marL="620640" indent="-228600">
              <a:lnSpc>
                <a:spcPct val="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ASK REIMBURSEMENT"</a:t>
            </a: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p:txBody>
      </p:sp>
      <p:pic>
        <p:nvPicPr>
          <p:cNvPr id="435" name="Rectangle 2" descr=""/>
          <p:cNvPicPr/>
          <p:nvPr/>
        </p:nvPicPr>
        <p:blipFill>
          <a:blip r:embed="rId4"/>
          <a:stretch/>
        </p:blipFill>
        <p:spPr>
          <a:xfrm>
            <a:off x="201600" y="-49320"/>
            <a:ext cx="8485200" cy="1152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PTA </a:t>
            </a:r>
            <a:r>
              <a:rPr b="0" i="1" lang="en-US" sz="2700" spc="-1" strike="noStrike">
                <a:solidFill>
                  <a:srgbClr val="000000"/>
                </a:solidFill>
                <a:latin typeface="Lucida Sans Unicode"/>
              </a:rPr>
              <a:t>Reimbursement New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79/yr</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overnment Website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www.apta.org/govt_affairs/regulatory/medicare</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www.apta.org/govt_affairs/regulatory/fraud_abuse</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ww.apta.org/govt_affairs/regulatory/regulatory_documentation</a:t>
            </a:r>
            <a:endParaRPr b="0" lang="en-US" sz="2000" spc="-1" strike="noStrike">
              <a:solidFill>
                <a:srgbClr val="000000"/>
              </a:solidFill>
              <a:latin typeface="Lucida Sans Unicode"/>
            </a:endParaRPr>
          </a:p>
        </p:txBody>
      </p:sp>
      <p:pic>
        <p:nvPicPr>
          <p:cNvPr id="437"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7200" y="1600200"/>
            <a:ext cx="8229600" cy="502920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arly - Knowledge</a:t>
            </a:r>
            <a:endParaRPr b="0" lang="en-US" sz="28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ofessional Orientation</a:t>
            </a:r>
            <a:endParaRPr b="0" lang="en-US" sz="2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ofessional Ethics in Health Care</a:t>
            </a:r>
            <a:endParaRPr b="0" lang="en-US" sz="2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Basic Exam Skills</a:t>
            </a:r>
            <a:endParaRPr b="0" lang="en-US" sz="2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IPAA, Documentation, Priority of Interventions</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id – Application</a:t>
            </a:r>
            <a:endParaRPr b="0" lang="en-US" sz="28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eferred Practice Pattern Courses</a:t>
            </a:r>
            <a:endParaRPr b="0" lang="en-US" sz="2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Education – 632 with exposure</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nd – Synthesis</a:t>
            </a:r>
            <a:endParaRPr b="0" lang="en-US" sz="28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anagement – Knowledge through Synthesis</a:t>
            </a:r>
            <a:endParaRPr b="0" lang="en-US" sz="2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urrent Issues</a:t>
            </a:r>
            <a:endParaRPr b="0" lang="en-US" sz="2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mplex Clinical Problems</a:t>
            </a:r>
            <a:endParaRPr b="0" lang="en-US" sz="2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Education III</a:t>
            </a:r>
            <a:endParaRPr b="0" lang="en-US" sz="2400" spc="-1" strike="noStrike">
              <a:solidFill>
                <a:srgbClr val="000000"/>
              </a:solidFill>
              <a:latin typeface="Lucida Sans Unicode"/>
            </a:endParaRPr>
          </a:p>
        </p:txBody>
      </p:sp>
      <p:pic>
        <p:nvPicPr>
          <p:cNvPr id="439"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surance Language/Definition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imelines of benefit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st of PT Service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se of Support Personnel</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PT Codes and ICD9 and HCPC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illing Principle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ee Schedule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nial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1"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7200" y="1447560"/>
            <a:ext cx="8229600" cy="4530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ver services or supplies/equipment that are medical necessary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ervices requiring the skills of a qualified provider</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ervices are safe and effectiv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ervices are consistent with the symptoms or diagnosi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ervices are accepted among the medical or professional standard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ervices are the most appropriate, safe, and effective</a:t>
            </a:r>
            <a:endParaRPr b="0" lang="en-US" sz="2300" spc="-1" strike="noStrike">
              <a:solidFill>
                <a:srgbClr val="000000"/>
              </a:solidFill>
              <a:latin typeface="Lucida Sans Unicode"/>
            </a:endParaRPr>
          </a:p>
        </p:txBody>
      </p:sp>
      <p:pic>
        <p:nvPicPr>
          <p:cNvPr id="443"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142640"/>
            <a:ext cx="8229600" cy="5715000"/>
          </a:xfrm>
          <a:prstGeom prst="rect">
            <a:avLst/>
          </a:prstGeom>
          <a:noFill/>
          <a:ln w="0">
            <a:noFill/>
          </a:ln>
        </p:spPr>
        <p:txBody>
          <a:bodyPr anchor="t">
            <a:normAutofit/>
          </a:bodyPr>
          <a:p>
            <a:pPr lvl="1" marL="39204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39204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2" name="Rectangle 2" descr=""/>
          <p:cNvPicPr/>
          <p:nvPr/>
        </p:nvPicPr>
        <p:blipFill>
          <a:blip r:embed="rId1"/>
          <a:stretch/>
        </p:blipFill>
        <p:spPr>
          <a:xfrm>
            <a:off x="231840" y="237960"/>
            <a:ext cx="8454960" cy="1047960"/>
          </a:xfrm>
          <a:prstGeom prst="rect">
            <a:avLst/>
          </a:prstGeom>
          <a:ln w="0">
            <a:noFill/>
          </a:ln>
        </p:spPr>
      </p:pic>
      <p:sp>
        <p:nvSpPr>
          <p:cNvPr id="383" name="AutoShape 13"/>
          <p:cNvSpPr/>
          <p:nvPr/>
        </p:nvSpPr>
        <p:spPr>
          <a:xfrm>
            <a:off x="609480" y="2733840"/>
            <a:ext cx="914400" cy="609480"/>
          </a:xfrm>
          <a:prstGeom prst="flowChartProcess">
            <a:avLst/>
          </a:prstGeom>
          <a:solidFill>
            <a:srgbClr val="44b9e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ient</a:t>
            </a:r>
            <a:endParaRPr b="0" lang="en-US" sz="1800" spc="-1" strike="noStrike">
              <a:solidFill>
                <a:srgbClr val="000000"/>
              </a:solidFill>
              <a:latin typeface="Arial"/>
            </a:endParaRPr>
          </a:p>
        </p:txBody>
      </p:sp>
      <p:sp>
        <p:nvSpPr>
          <p:cNvPr id="384" name="AutoShape 14"/>
          <p:cNvSpPr/>
          <p:nvPr/>
        </p:nvSpPr>
        <p:spPr>
          <a:xfrm rot="2043000">
            <a:off x="1706040" y="3406680"/>
            <a:ext cx="457200" cy="333360"/>
          </a:xfrm>
          <a:prstGeom prst="rightArrow">
            <a:avLst>
              <a:gd name="adj1" fmla="val 50000"/>
              <a:gd name="adj2" fmla="val 34287"/>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AutoShape 15"/>
          <p:cNvSpPr/>
          <p:nvPr/>
        </p:nvSpPr>
        <p:spPr>
          <a:xfrm>
            <a:off x="2362320" y="3506760"/>
            <a:ext cx="1218960" cy="609480"/>
          </a:xfrm>
          <a:prstGeom prst="flowChartProcess">
            <a:avLst/>
          </a:prstGeom>
          <a:solidFill>
            <a:srgbClr val="44b9e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a:t>
            </a:r>
            <a:endParaRPr b="0" lang="en-US" sz="1800" spc="-1" strike="noStrike">
              <a:solidFill>
                <a:srgbClr val="000000"/>
              </a:solidFill>
              <a:latin typeface="Arial"/>
            </a:endParaRPr>
          </a:p>
        </p:txBody>
      </p:sp>
      <p:sp>
        <p:nvSpPr>
          <p:cNvPr id="386" name="AutoShape 16"/>
          <p:cNvSpPr/>
          <p:nvPr/>
        </p:nvSpPr>
        <p:spPr>
          <a:xfrm rot="19632600">
            <a:off x="3841920" y="3258720"/>
            <a:ext cx="380880" cy="544680"/>
          </a:xfrm>
          <a:prstGeom prst="rightArrow">
            <a:avLst>
              <a:gd name="adj1" fmla="val 34167"/>
              <a:gd name="adj2" fmla="val 25000"/>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AutoShape 17"/>
          <p:cNvSpPr/>
          <p:nvPr/>
        </p:nvSpPr>
        <p:spPr>
          <a:xfrm>
            <a:off x="4340160" y="2833560"/>
            <a:ext cx="914400" cy="609840"/>
          </a:xfrm>
          <a:prstGeom prst="flowChartProcess">
            <a:avLst/>
          </a:prstGeom>
          <a:solidFill>
            <a:srgbClr val="44b9e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ling</a:t>
            </a:r>
            <a:endParaRPr b="0" lang="en-US" sz="1800" spc="-1" strike="noStrike">
              <a:solidFill>
                <a:srgbClr val="000000"/>
              </a:solidFill>
              <a:latin typeface="Arial"/>
            </a:endParaRPr>
          </a:p>
        </p:txBody>
      </p:sp>
      <p:sp>
        <p:nvSpPr>
          <p:cNvPr id="388" name="AutoShape 18"/>
          <p:cNvSpPr/>
          <p:nvPr/>
        </p:nvSpPr>
        <p:spPr>
          <a:xfrm rot="1450800">
            <a:off x="5425560" y="3354480"/>
            <a:ext cx="457200" cy="409320"/>
          </a:xfrm>
          <a:prstGeom prst="rightArrow">
            <a:avLst>
              <a:gd name="adj1" fmla="val 50000"/>
              <a:gd name="adj2" fmla="val 27924"/>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AutoShape 19"/>
          <p:cNvSpPr/>
          <p:nvPr/>
        </p:nvSpPr>
        <p:spPr>
          <a:xfrm>
            <a:off x="6095880" y="3557520"/>
            <a:ext cx="1143000" cy="609840"/>
          </a:xfrm>
          <a:prstGeom prst="flowChartProcess">
            <a:avLst/>
          </a:prstGeom>
          <a:solidFill>
            <a:srgbClr val="44b9e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a:t>
            </a:r>
            <a:endParaRPr b="0" lang="en-US" sz="1800" spc="-1" strike="noStrike">
              <a:solidFill>
                <a:srgbClr val="000000"/>
              </a:solidFill>
              <a:latin typeface="Arial"/>
            </a:endParaRPr>
          </a:p>
        </p:txBody>
      </p:sp>
      <p:sp>
        <p:nvSpPr>
          <p:cNvPr id="390" name="AutoShape 20"/>
          <p:cNvSpPr/>
          <p:nvPr/>
        </p:nvSpPr>
        <p:spPr>
          <a:xfrm rot="19200000">
            <a:off x="7205760" y="2954160"/>
            <a:ext cx="380880" cy="486000"/>
          </a:xfrm>
          <a:prstGeom prst="rightArrow">
            <a:avLst>
              <a:gd name="adj1" fmla="val 50000"/>
              <a:gd name="adj2" fmla="val 25000"/>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AutoShape 21"/>
          <p:cNvSpPr/>
          <p:nvPr/>
        </p:nvSpPr>
        <p:spPr>
          <a:xfrm>
            <a:off x="7696080" y="2362320"/>
            <a:ext cx="914400" cy="609480"/>
          </a:xfrm>
          <a:prstGeom prst="flowChartProcess">
            <a:avLst/>
          </a:prstGeom>
          <a:solidFill>
            <a:srgbClr val="44b9e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 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ust provide support of the services or supplies/equip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service or procedure was render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 what extent the service was render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y the service, procedure, or other item was medically necessary</a:t>
            </a:r>
            <a:endParaRPr b="0" lang="en-US" sz="2700" spc="-1" strike="noStrike">
              <a:solidFill>
                <a:srgbClr val="000000"/>
              </a:solidFill>
              <a:latin typeface="Lucida Sans Unicode"/>
            </a:endParaRPr>
          </a:p>
        </p:txBody>
      </p:sp>
      <p:pic>
        <p:nvPicPr>
          <p:cNvPr id="445"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T and OT are covered only for restorative therapy by Medicare (expectation to restore a patient’s level of function that has been lost due to injury, disease, or illness (no maintenance</a:t>
            </a:r>
            <a:endParaRPr b="0" lang="en-US" sz="2700" spc="-1" strike="noStrike">
              <a:solidFill>
                <a:srgbClr val="000000"/>
              </a:solidFill>
              <a:latin typeface="Lucida Sans Unicode"/>
            </a:endParaRPr>
          </a:p>
        </p:txBody>
      </p:sp>
      <p:pic>
        <p:nvPicPr>
          <p:cNvPr id="447"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rvices furnished could be furnished elsewhe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re that exceeds length of sta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rvices denied or bundl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hysician standby servi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se management services (telephone calls to/from the beneficiar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upplies included in the basic allowance of the procedure</a:t>
            </a:r>
            <a:endParaRPr b="0" lang="en-US" sz="2700" spc="-1" strike="noStrike">
              <a:solidFill>
                <a:srgbClr val="000000"/>
              </a:solidFill>
              <a:latin typeface="Lucida Sans Unicode"/>
            </a:endParaRPr>
          </a:p>
        </p:txBody>
      </p:sp>
      <p:pic>
        <p:nvPicPr>
          <p:cNvPr id="449" name="Title 1" descr=""/>
          <p:cNvPicPr/>
          <p:nvPr/>
        </p:nvPicPr>
        <p:blipFill>
          <a:blip r:embed="rId1"/>
          <a:stretch/>
        </p:blipFill>
        <p:spPr>
          <a:xfrm>
            <a:off x="231840" y="274680"/>
            <a:ext cx="8454960" cy="1189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Billing for services not furnished</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oliciting, offering or receiving a kickback, bribe or rebate</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Violating the physician self referral</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Using an incorrect provider identifier</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elling, sharing or purchasing Medicare health insurance claim number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Offering incentives to Medicare patient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Falsification of any documentation or billing statement</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Using inappropriate codes to get coverage</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51"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Office of Inspector General (OIG)</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partment of Justice (DOJ)</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ederal Bureau of Investigation (FBI)</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edicare Administrative Contractors (MAC)</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ecovery Audit Contractors (RAC)</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Quality Improvement Organizations (QIO)</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rogram Safeguard Contractors (PSC)</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edicare Zone Program Integrity Contractors (ZPIC)</a:t>
            </a:r>
            <a:endParaRPr b="0" lang="en-US" sz="2800" spc="-1" strike="noStrike">
              <a:solidFill>
                <a:srgbClr val="000000"/>
              </a:solidFill>
              <a:latin typeface="Lucida Sans Unicode"/>
            </a:endParaRPr>
          </a:p>
        </p:txBody>
      </p:sp>
      <p:pic>
        <p:nvPicPr>
          <p:cNvPr id="453"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457200" y="1481040"/>
            <a:ext cx="8229600" cy="4525920"/>
          </a:xfrm>
          <a:prstGeom prst="rect">
            <a:avLst/>
          </a:prstGeom>
          <a:noFill/>
          <a:ln w="0">
            <a:noFill/>
          </a:ln>
        </p:spPr>
        <p:txBody>
          <a:bodyPr anchor="t">
            <a:normAutofit fontScale="99000"/>
          </a:bodyPr>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ding and Documentation</a:t>
            </a:r>
            <a:endParaRPr b="0" lang="en-US" sz="2400" spc="-1" strike="noStrike">
              <a:solidFill>
                <a:srgbClr val="000000"/>
              </a:solidFill>
              <a:latin typeface="Lucida Sans Unicode"/>
            </a:endParaRPr>
          </a:p>
          <a:p>
            <a:pPr lvl="1" marL="614160" indent="-2260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stablish continuing ed on CPT and ICD-9 coding</a:t>
            </a:r>
            <a:endParaRPr b="0" lang="en-US" sz="2400" spc="-1" strike="noStrike">
              <a:solidFill>
                <a:srgbClr val="000000"/>
              </a:solidFill>
              <a:latin typeface="Lucida Sans Unicode"/>
            </a:endParaRPr>
          </a:p>
          <a:p>
            <a:pPr lvl="1" marL="614160" indent="-2260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epare a coding policy</a:t>
            </a:r>
            <a:endParaRPr b="0" lang="en-US" sz="2400" spc="-1" strike="noStrike">
              <a:solidFill>
                <a:srgbClr val="000000"/>
              </a:solidFill>
              <a:latin typeface="Lucida Sans Unicode"/>
            </a:endParaRPr>
          </a:p>
          <a:p>
            <a:pPr lvl="1" marL="614160" indent="-2260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ocument services and check documentation</a:t>
            </a:r>
            <a:endParaRPr b="0" lang="en-US" sz="2400" spc="-1" strike="noStrike">
              <a:solidFill>
                <a:srgbClr val="000000"/>
              </a:solidFill>
              <a:latin typeface="Lucida Sans Unicode"/>
            </a:endParaRPr>
          </a:p>
          <a:p>
            <a:pPr lvl="1" marL="614160" indent="-2260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rrange for outside consultant</a:t>
            </a:r>
            <a:endParaRPr b="0" lang="en-US" sz="24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ayer Correspondence</a:t>
            </a:r>
            <a:endParaRPr b="0" lang="en-US" sz="2400" spc="-1" strike="noStrike">
              <a:solidFill>
                <a:srgbClr val="000000"/>
              </a:solidFill>
              <a:latin typeface="Lucida Sans Unicode"/>
            </a:endParaRPr>
          </a:p>
          <a:p>
            <a:pPr lvl="1" marL="614160" indent="-2260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ead all memos and newletters</a:t>
            </a:r>
            <a:endParaRPr b="0" lang="en-US" sz="2400" spc="-1" strike="noStrike">
              <a:solidFill>
                <a:srgbClr val="000000"/>
              </a:solidFill>
              <a:latin typeface="Lucida Sans Unicode"/>
            </a:endParaRPr>
          </a:p>
          <a:p>
            <a:pPr lvl="1" marL="614160" indent="-2260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Keep all written correspondences</a:t>
            </a:r>
            <a:endParaRPr b="0" lang="en-US" sz="24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aims Review</a:t>
            </a:r>
            <a:endParaRPr b="0" lang="en-US" sz="2400" spc="-1" strike="noStrike">
              <a:solidFill>
                <a:srgbClr val="000000"/>
              </a:solidFill>
              <a:latin typeface="Lucida Sans Unicode"/>
            </a:endParaRPr>
          </a:p>
          <a:p>
            <a:pPr lvl="1" marL="614160" indent="-2260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eview and learn why claims are rejected</a:t>
            </a:r>
            <a:endParaRPr b="0" lang="en-US" sz="2400" spc="-1" strike="noStrike">
              <a:solidFill>
                <a:srgbClr val="000000"/>
              </a:solidFill>
              <a:latin typeface="Lucida Sans Unicode"/>
            </a:endParaRPr>
          </a:p>
          <a:p>
            <a:pPr lvl="1" marL="614160" indent="-2260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f a mistake occurs, correct it immediately</a:t>
            </a:r>
            <a:endParaRPr b="0" lang="en-US" sz="2400" spc="-1" strike="noStrike">
              <a:solidFill>
                <a:srgbClr val="000000"/>
              </a:solidFill>
              <a:latin typeface="Lucida Sans Unicode"/>
            </a:endParaRPr>
          </a:p>
        </p:txBody>
      </p:sp>
      <p:pic>
        <p:nvPicPr>
          <p:cNvPr id="455"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PT Symbol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ifferent symbols tell you code is new, revised, or need an “add-on” code as it cannot stand alone (ex. Hotpack needs something else with it)</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ay use several CPT codes but each code cannot exceed total time spent with pati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ocumentation should match CPT code used</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57"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ttp://www.cms.gov/manual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ro</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title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nefit Polic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aims Processi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ary Payer Manua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dicare Program Integrity Manual</a:t>
            </a:r>
            <a:endParaRPr b="0" lang="en-US" sz="2700" spc="-1" strike="noStrike">
              <a:solidFill>
                <a:srgbClr val="000000"/>
              </a:solidFill>
              <a:latin typeface="Lucida Sans Unicode"/>
            </a:endParaRPr>
          </a:p>
        </p:txBody>
      </p:sp>
      <p:pic>
        <p:nvPicPr>
          <p:cNvPr id="459"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cute Care:  DRG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patient Rehab:  PP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killed Nursing Facilities:  PPS &amp; RU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ome Health Care:  PPS &amp; OASI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utpatient:  Individual insurance &amp; Caps</a:t>
            </a:r>
            <a:endParaRPr b="0" lang="en-US" sz="2700" spc="-1" strike="noStrike">
              <a:solidFill>
                <a:srgbClr val="000000"/>
              </a:solidFill>
              <a:latin typeface="Lucida Sans Unicode"/>
            </a:endParaRPr>
          </a:p>
        </p:txBody>
      </p:sp>
      <p:pic>
        <p:nvPicPr>
          <p:cNvPr id="393" name="Title 2" descr=""/>
          <p:cNvPicPr/>
          <p:nvPr/>
        </p:nvPicPr>
        <p:blipFill>
          <a:blip r:embed="rId1"/>
          <a:stretch/>
        </p:blipFill>
        <p:spPr>
          <a:xfrm>
            <a:off x="457200" y="128520"/>
            <a:ext cx="8229600" cy="161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RG:  diagnosis-related group</a:t>
            </a:r>
            <a:endParaRPr b="0" lang="en-US" sz="27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Each case is classified into one of 467 groups</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Specified sum of money is provided to hospital from insurance per patient diagnosis. </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Patients who are uninsured will need to provide costs out of pocket.</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5" name="Title 2"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PS:  prospective payment system</a:t>
            </a:r>
            <a:endParaRPr b="0" lang="en-US" sz="2700" spc="-1" strike="noStrike">
              <a:solidFill>
                <a:srgbClr val="000000"/>
              </a:solidFill>
              <a:latin typeface="Lucida Sans Unicode"/>
            </a:endParaRPr>
          </a:p>
          <a:p>
            <a:pPr lvl="2" marL="858960" indent="-228600">
              <a:spcBef>
                <a:spcPts val="349"/>
              </a:spcBef>
              <a:buClr>
                <a:srgbClr val="da1f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Cases are grouped into Rehabilitation Impairment Categories </a:t>
            </a:r>
            <a:endParaRPr b="0" lang="en-US" sz="2100" spc="-1" strike="noStrike">
              <a:solidFill>
                <a:srgbClr val="000000"/>
              </a:solidFill>
              <a:latin typeface="Lucida Sans Unicode"/>
            </a:endParaRPr>
          </a:p>
          <a:p>
            <a:pPr lvl="2" marL="85896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2" marL="858960" indent="-228600">
              <a:spcBef>
                <a:spcPts val="349"/>
              </a:spcBef>
              <a:buClr>
                <a:srgbClr val="da1f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Further grouped into case-mix groups (CMG)</a:t>
            </a:r>
            <a:endParaRPr b="0" lang="en-US" sz="2100" spc="-1" strike="noStrike">
              <a:solidFill>
                <a:srgbClr val="000000"/>
              </a:solidFill>
              <a:latin typeface="Lucida Sans Unicode"/>
            </a:endParaRPr>
          </a:p>
          <a:p>
            <a:pPr lvl="2" marL="85896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2" marL="858960" indent="-228600">
              <a:spcBef>
                <a:spcPts val="349"/>
              </a:spcBef>
              <a:buClr>
                <a:srgbClr val="da1f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Then grouped into Tier 1-4 within each CMG</a:t>
            </a:r>
            <a:endParaRPr b="0" lang="en-US" sz="2100" spc="-1" strike="noStrike">
              <a:solidFill>
                <a:srgbClr val="000000"/>
              </a:solidFill>
              <a:latin typeface="Lucida Sans Unicode"/>
            </a:endParaRPr>
          </a:p>
          <a:p>
            <a:pPr lvl="2" marL="85896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2" marL="858960" indent="-228600">
              <a:spcBef>
                <a:spcPts val="349"/>
              </a:spcBef>
              <a:buClr>
                <a:srgbClr val="da1f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Additional adjustments are made for interrupted stays, short stays of less than 3 days, short-stay transfers, and high cost outliers. </a:t>
            </a:r>
            <a:endParaRPr b="0" lang="en-US" sz="2100" spc="-1" strike="noStrike">
              <a:solidFill>
                <a:srgbClr val="000000"/>
              </a:solidFill>
              <a:latin typeface="Lucida Sans Unicode"/>
            </a:endParaRPr>
          </a:p>
          <a:p>
            <a:pPr lvl="2" marL="858960" indent="-228600">
              <a:spcBef>
                <a:spcPts val="349"/>
              </a:spcBef>
              <a:buClr>
                <a:srgbClr val="da1f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2" marL="85896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7" name="Title 2" descr=""/>
          <p:cNvPicPr/>
          <p:nvPr/>
        </p:nvPicPr>
        <p:blipFill>
          <a:blip r:embed="rId1"/>
          <a:stretch/>
        </p:blipFill>
        <p:spPr>
          <a:xfrm>
            <a:off x="457200" y="128520"/>
            <a:ext cx="8229600" cy="161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PS:  prospective payment system</a:t>
            </a:r>
            <a:endParaRPr b="0" lang="en-US" sz="2700" spc="-1" strike="noStrike">
              <a:solidFill>
                <a:srgbClr val="000000"/>
              </a:solidFill>
              <a:latin typeface="Lucida Sans Unicode"/>
            </a:endParaRPr>
          </a:p>
          <a:p>
            <a:pPr lvl="1" marL="620640" indent="-228600">
              <a:spcBef>
                <a:spcPts val="32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Lucida Sans Unicode"/>
              </a:rPr>
              <a:t>  </a:t>
            </a:r>
            <a:r>
              <a:rPr b="0" lang="en-US" sz="2700" spc="-1" strike="noStrike">
                <a:solidFill>
                  <a:srgbClr val="000000"/>
                </a:solidFill>
                <a:latin typeface="Lucida Sans Unicode"/>
              </a:rPr>
              <a:t>RUG:  resource utilization group</a:t>
            </a:r>
            <a:endParaRPr b="0" lang="en-US" sz="2700" spc="-1" strike="noStrike">
              <a:solidFill>
                <a:srgbClr val="000000"/>
              </a:solidFill>
              <a:latin typeface="Lucida Sans Unicode"/>
            </a:endParaRPr>
          </a:p>
          <a:p>
            <a:pPr lvl="2" marL="858960" indent="-228600">
              <a:spcBef>
                <a:spcPts val="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  </a:t>
            </a:r>
            <a:r>
              <a:rPr b="0" lang="en-US" sz="2500" spc="-1" strike="noStrike">
                <a:solidFill>
                  <a:srgbClr val="000000"/>
                </a:solidFill>
                <a:latin typeface="Lucida Sans Unicode"/>
              </a:rPr>
              <a:t>creates tiers of payment based on level of nursing care, room considerations, and minutes of therapy provided </a:t>
            </a:r>
            <a:endParaRPr b="0" lang="en-US" sz="2500" spc="-1" strike="noStrike">
              <a:solidFill>
                <a:srgbClr val="000000"/>
              </a:solidFill>
              <a:latin typeface="Lucida Sans Unicode"/>
            </a:endParaRPr>
          </a:p>
          <a:p>
            <a:pPr lvl="2" marL="858960" indent="-228600">
              <a:spcBef>
                <a:spcPts val="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  </a:t>
            </a:r>
            <a:r>
              <a:rPr b="0" lang="en-US" sz="2500" spc="-1" strike="noStrike">
                <a:solidFill>
                  <a:srgbClr val="000000"/>
                </a:solidFill>
                <a:latin typeface="Lucida Sans Unicode"/>
              </a:rPr>
              <a:t>assessment review dates (ARD)</a:t>
            </a:r>
            <a:endParaRPr b="0" lang="en-US" sz="2500" spc="-1" strike="noStrike">
              <a:solidFill>
                <a:srgbClr val="000000"/>
              </a:solidFill>
              <a:latin typeface="Lucida Sans Unicode"/>
            </a:endParaRPr>
          </a:p>
          <a:p>
            <a:pPr lvl="2" marL="858960" indent="-228600">
              <a:spcBef>
                <a:spcPts val="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  </a:t>
            </a:r>
            <a:r>
              <a:rPr b="0" lang="en-US" sz="2500" spc="-1" strike="noStrike">
                <a:solidFill>
                  <a:srgbClr val="000000"/>
                </a:solidFill>
                <a:latin typeface="Lucida Sans Unicode"/>
              </a:rPr>
              <a:t>5 levels – based on number of hours of therapy provided</a:t>
            </a:r>
            <a:endParaRPr b="0" lang="en-US" sz="2500" spc="-1" strike="noStrike">
              <a:solidFill>
                <a:srgbClr val="000000"/>
              </a:solidFill>
              <a:latin typeface="Lucida Sans Unicode"/>
            </a:endParaRPr>
          </a:p>
        </p:txBody>
      </p:sp>
      <p:pic>
        <p:nvPicPr>
          <p:cNvPr id="399" name="Title 2" descr=""/>
          <p:cNvPicPr/>
          <p:nvPr/>
        </p:nvPicPr>
        <p:blipFill>
          <a:blip r:embed="rId1"/>
          <a:stretch/>
        </p:blipFill>
        <p:spPr>
          <a:xfrm>
            <a:off x="457200" y="128520"/>
            <a:ext cx="8229600" cy="16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PS:  prospective payment system</a:t>
            </a:r>
            <a:endParaRPr b="0" lang="en-US" sz="2500" spc="-1" strike="noStrike">
              <a:solidFill>
                <a:srgbClr val="000000"/>
              </a:solidFill>
              <a:latin typeface="Lucida Sans Unicode"/>
            </a:endParaRPr>
          </a:p>
          <a:p>
            <a:pPr lvl="1" marL="620640" indent="-228600">
              <a:spcBef>
                <a:spcPts val="32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Home health agencies are paid a pre-determined rate.</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spcBef>
                <a:spcPts val="32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Health condition, care needs, and geographic location are taken into consideration.</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spcBef>
                <a:spcPts val="32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Payment is for 60 day episodes</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spcBef>
                <a:spcPts val="32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Payment is based on case mix assignment</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spcBef>
                <a:spcPts val="32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Nurse or therapist uses the Outcome and Assessment Information Set (OASIS) to assess patient condition.</a:t>
            </a:r>
            <a:endParaRPr b="0" lang="en-US" sz="2100" spc="-1" strike="noStrike">
              <a:solidFill>
                <a:srgbClr val="000000"/>
              </a:solidFill>
              <a:latin typeface="Lucida Sans Unicode"/>
            </a:endParaRPr>
          </a:p>
        </p:txBody>
      </p:sp>
      <p:pic>
        <p:nvPicPr>
          <p:cNvPr id="401" name="Title 2" descr=""/>
          <p:cNvPicPr/>
          <p:nvPr/>
        </p:nvPicPr>
        <p:blipFill>
          <a:blip r:embed="rId1"/>
          <a:stretch/>
        </p:blipFill>
        <p:spPr>
          <a:xfrm>
            <a:off x="311040" y="274680"/>
            <a:ext cx="8656920" cy="1189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imbursement specific to insuranc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r>
              <a:rPr b="0" lang="en-US" sz="2700" spc="-1" strike="noStrike">
                <a:solidFill>
                  <a:srgbClr val="000000"/>
                </a:solidFill>
                <a:latin typeface="Lucida Sans Unicode"/>
              </a:rPr>
              <a:t>Therapy Caps” for patients with Medicare Part B</a:t>
            </a:r>
            <a:endParaRPr b="0" lang="en-US" sz="2700" spc="-1" strike="noStrike">
              <a:solidFill>
                <a:srgbClr val="000000"/>
              </a:solidFill>
              <a:latin typeface="Lucida Sans Unicode"/>
            </a:endParaRPr>
          </a:p>
          <a:p>
            <a:pPr lvl="1" marL="620640" indent="-228600">
              <a:spcBef>
                <a:spcPts val="32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1,900 for PT/SLP services in 2013</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1,900 for OT services in 2013</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Manual Medical Review</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KX Modifier </a:t>
            </a:r>
            <a:endParaRPr b="0" lang="en-US" sz="2300" spc="-1" strike="noStrike">
              <a:solidFill>
                <a:srgbClr val="000000"/>
              </a:solidFill>
              <a:latin typeface="Lucida Sans Unicode"/>
            </a:endParaRPr>
          </a:p>
          <a:p>
            <a:pPr lvl="1" marL="620640" indent="-228600">
              <a:spcBef>
                <a:spcPts val="32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03" name="Title 2" descr=""/>
          <p:cNvPicPr/>
          <p:nvPr/>
        </p:nvPicPr>
        <p:blipFill>
          <a:blip r:embed="rId1"/>
          <a:stretch/>
        </p:blipFill>
        <p:spPr>
          <a:xfrm>
            <a:off x="457200" y="128520"/>
            <a:ext cx="8229600" cy="161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4T15:38:40Z</dcterms:created>
  <dc:creator>LoVasco, Laura</dc:creator>
  <dc:description/>
  <dc:language>en-US</dc:language>
  <cp:lastModifiedBy>SWEET, CHRISTINA</cp:lastModifiedBy>
  <dcterms:modified xsi:type="dcterms:W3CDTF">2013-05-30T12:07:17Z</dcterms:modified>
  <cp:revision>39</cp:revision>
  <dc:subject/>
  <dc:title>Reimbursement</dc:title>
</cp:coreProperties>
</file>