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3AA-696B-4472-B1BA-7F53EE93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3A4-A897-44EE-9C48-667D4635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660-3930-4156-A3EA-F7208D24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637-02C2-4F5F-808B-78EDE2DF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487-3D96-4EE8-9C45-4EBCC963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4F5-F9D6-41F9-9791-9A9BC344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384-870D-4E38-BC90-13D84EB5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3B7-CDEF-4A49-B2CF-AEC8E83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330-CF7E-472D-ABEC-500CEA48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15E-402C-4F32-97A5-D9E366D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F91-4627-41BD-B1C7-C89CEB3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DEF-47A3-4279-9333-1738FE09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C77B-263A-4A99-BB99-1991F9C413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CF92-66A7-4476-9D13-571A34D29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verbal Communic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ient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is intub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has a 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mentative/Alterna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342880"/>
            <a:ext cx="815328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mentative:  supplements/facilitates existing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native:  no voice, replaces spe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324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lemental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gazing, signing, gestu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ip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Bo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 Choosing a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gni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ystem flexibility and port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ependenc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cial-emotional fa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ancial consider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6:04:52Z</dcterms:created>
  <dc:creator>gooding</dc:creator>
  <dc:description/>
  <dc:language>en-US</dc:language>
  <cp:lastModifiedBy>SWEET, CHRISTINA</cp:lastModifiedBy>
  <dcterms:modified xsi:type="dcterms:W3CDTF">2013-05-30T13:14:03Z</dcterms:modified>
  <cp:revision>3</cp:revision>
  <dc:subject/>
  <dc:title>Nonverbal Communication</dc:title>
</cp:coreProperties>
</file>