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D6B0-0ABF-4D1B-A9AB-EB928DB42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2335-DE4F-42B7-B61C-A29BD8503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DF62-3F57-4A53-AD9B-0BB2DBFD4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619C-9968-4398-A323-7A8B5F070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19DD-5EA0-4362-BC19-0A69D0730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8013-EE93-433A-B65E-B06293E7A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5195-D494-4972-A78E-82CAAE06C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6EBC-F4BE-450A-A55B-34EEBA042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6FDE-466A-42A4-B2A0-8A0384B2D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EC26-56D1-4C4B-955A-BF822AF93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2F83-78AB-43C8-86B3-8CD5C89D5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0A81-CDFA-4F99-A324-47B6D7EAA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09AEE-3552-4142-80E3-64F387EAC0E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4F9E5-6A5A-4CED-8DE5-FA8D8D571B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verbal Communicatio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ient Exam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t is intuba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t has a tra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ugmentative/Alterna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ommunic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3520" y="2342880"/>
            <a:ext cx="8153280" cy="352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ugmentative:  supplements/facilitates existing vo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ternative:  no voice, replaces spee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1"/>
          <a:stretch/>
        </p:blipFill>
        <p:spPr>
          <a:xfrm>
            <a:off x="1143000" y="1828800"/>
            <a:ext cx="632448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pplemental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aid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yegazing, signing, gestur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id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u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lip cha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munication Boar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actors in Choosing a 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g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ognit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Motor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ommunication Skill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ystem flexibility and portabilit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ndependenc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ocial-emotional factor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inancial consideration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Environmen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30T06:04:52Z</dcterms:created>
  <dc:creator>gooding</dc:creator>
  <dc:description/>
  <dc:language>en-US</dc:language>
  <cp:lastModifiedBy>SWEET, CHRISTINA</cp:lastModifiedBy>
  <dcterms:modified xsi:type="dcterms:W3CDTF">2013-05-30T13:14:03Z</dcterms:modified>
  <cp:revision>3</cp:revision>
  <dc:subject/>
  <dc:title>Nonverbal Communication</dc:title>
</cp:coreProperties>
</file>