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20D7-DAF0-4941-B908-38903DC45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L lung: More negative in median, less negative in lateral. Laying on side for a while, then most blood will be in lateral left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piratory kick” in L lateral and R medial, as air will flow here fir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72FE-A485-42C2-BE06-86398267F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ing Volume (i.e. Le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alk about next slide before showing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n forward is great position for lung function as most optimal mid-lung fie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-recline is a relax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ine: lesion in lower lung, and right in mid-line fields will change pt’s vital signs ( Inc. HR, anxiety, etc, decrease in SPO2), therefore can use a pillow to prop patient to manipulate were mid-line field 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8B3A-1BE5-48D0-B854-C81515E1D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pleural effusion, fluid moved to medial lower base of R lung so dependient, while when leaning towards the right he had max airf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closing volu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14EE-89AA-447E-BA14-B2A39C752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ictive and obstructive. Middle is 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70ED-DA4D-4FCC-8393-C03574CE7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ghing, not moving anything from middle ai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ff vs. Cough, rather need to perfrom relaxed tidal inhalation with forced exha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AA7A-065A-4322-926D-C6719AEDA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hesive: fremitus, could hear, able to benefit from suction, quicker, sticks together and moves eas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sive: clear as a bell with auscultation, high peep, sticky to walls, hard to movilize, small, really dee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9170-9625-4644-A563-8AD520799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phram: pressure regulator, changes pressure of thoracic, so air moves. Every respiratory muscle is a postural muscle, vs. ver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EED4-4031-4C4A-9634-A30509AB7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dden impairments: have rights under the ADA, for example a curb c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F177-8FC2-4B88-ABEB-891103539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 All American educated P.T.s be “Physiotherapist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FCD6-C735-4317-93F7-8CFF6C8C2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4042-53E6-450C-ADFF-AD50A7348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Findings to distinguish P.T. Pulmonary Diagno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C905-7FAF-4A62-BE45-CEF599698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exhalation, pressures are layered out in pleura space (-10 to -2, gradient of 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=blood flow, more blood in base of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=airways, apex/top airways are more open at end of exha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=a lot of redundentices and extra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will go to the area with the greatest compliance, so air will be in the lowest part of the lung, that is not stretched yet with no air int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49B7-CAA1-4413-851B-5128A50EC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exhalation in apex, some air not much blood. While in base there is not much air, there is a lot of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inhalation not much blood, but some air in apex,  at end of exhalation there is a lot of air and blood in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 lung fields is parallel to ground, most important some air and blood, where there is matching of air and blood, helps to steady pulse O2, while maintaining steady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piratory kick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DF06-4145-4FC8-8C08-D71D1467D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 of exha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lung green arrows, make changes in pressures in inter-plueral space, when the person starts to inhale, the bases 4+ needs to decrease into negative pressure before air can en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of breathing is 50-80% of energy expedniture, then pt will have difficulty to do anything el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4545-C5B2-4C8D-84E5-BAA0AEC66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pine: anterior portion is the most negative, while posterior is most “postive”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blood in portion of lung, so will have less air.  However with inhalation air will go poste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ing Volume (i.e. C5 Tetraplegia) Green is air, and green arrows are diaphragm pressure that make closing pressure, making it harder to brea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 lung field is much larger runs vertical to counter weight of abd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2773-58E7-4B8E-B861-B40414D9A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B024-721F-490A-A89D-221C4206B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6311-6145-4B83-8F23-85397EA1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EAD8-6255-42B3-A0F9-38EF0E82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C524-2A7E-4B9C-A78B-BE8EDB56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9358-B85D-4468-9B5E-2791E1E2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EFCE-EAFF-4A08-8C01-912138FA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5954-C1C4-4FF9-A75E-63F9C8F0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D63A-4A34-4DC0-835D-50E737C5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A8BA-C976-4A3A-B545-69EE94A9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C434-DB98-4631-8670-02D7464B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D671-2917-4AC1-8182-ADA47581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DFBC-FA86-4BB4-BC45-D350291B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A896-3494-46CC-850E-29825287B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low-volume-loop.svg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.T. Plan of Care for Cardiac and Pulmonary Conditions—PTP 673 –Handout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lmonary  Practice Patterns, Physics, Physiology, &amp; Physical Therapy-Occupational Thera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rb Bernard Butler, PT, MS PT, DP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“Lung Whisperer” per Keri Hutchins, 1976-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Michigan-Fl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ly 11,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C1E4-181A-4D48-A7D9-0B0376F86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13FB-22F4-4DAF-A8D0-D4E8247E1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sidelying -- midlung"/>
          <p:cNvPicPr/>
          <p:nvPr/>
        </p:nvPicPr>
        <p:blipFill>
          <a:blip r:embed="rId1"/>
          <a:stretch/>
        </p:blipFill>
        <p:spPr>
          <a:xfrm>
            <a:off x="963720" y="614520"/>
            <a:ext cx="721512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8E42-8238-4163-B1A6-D3975EC02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ifying Your Intervent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lesions / optimizing results / et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midlung -- RLL lesion supine"/>
          <p:cNvPicPr/>
          <p:nvPr/>
        </p:nvPicPr>
        <p:blipFill>
          <a:blip r:embed="rId1"/>
          <a:stretch/>
        </p:blipFill>
        <p:spPr>
          <a:xfrm>
            <a:off x="457200" y="1778040"/>
            <a:ext cx="4038480" cy="4170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lean forward"/>
          <p:cNvPicPr/>
          <p:nvPr/>
        </p:nvPicPr>
        <p:blipFill>
          <a:blip r:embed="rId2"/>
          <a:stretch/>
        </p:blipFill>
        <p:spPr>
          <a:xfrm>
            <a:off x="5127480" y="1600200"/>
            <a:ext cx="3111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7BE0-D676-405F-9ACC-5113A9025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lignant pleural ef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pt"/>
          <p:cNvPicPr/>
          <p:nvPr/>
        </p:nvPicPr>
        <p:blipFill>
          <a:blip r:embed="rId1"/>
          <a:stretch/>
        </p:blipFill>
        <p:spPr>
          <a:xfrm>
            <a:off x="754200" y="1600200"/>
            <a:ext cx="3443040" cy="4525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pt"/>
          <p:cNvPicPr/>
          <p:nvPr/>
        </p:nvPicPr>
        <p:blipFill>
          <a:blip r:embed="rId2"/>
          <a:stretch/>
        </p:blipFill>
        <p:spPr>
          <a:xfrm>
            <a:off x="4967280" y="1600200"/>
            <a:ext cx="3398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812E-895F-4ADF-97FC-B75FF6B8F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lmonary Function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350px-Flow-volume-loo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1981080"/>
            <a:ext cx="45720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98DC-0835-4A8B-80F6-A27D83D8F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Users\Laurel\Pictures\2010-05-16 course\course 001.jpg"/>
          <p:cNvPicPr/>
          <p:nvPr/>
        </p:nvPicPr>
        <p:blipFill>
          <a:blip r:embed="rId1"/>
          <a:srcRect l="7642" t="11110" r="41936" b="70003"/>
          <a:stretch/>
        </p:blipFill>
        <p:spPr>
          <a:xfrm>
            <a:off x="457200" y="838080"/>
            <a:ext cx="8136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ygen Titra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 rest / with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0892-4749-4A56-AE2F-DAD0430F7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rcRect l="0" t="18614" r="1433" b="21291"/>
          <a:stretch/>
        </p:blipFill>
        <p:spPr>
          <a:xfrm>
            <a:off x="523800" y="1981080"/>
            <a:ext cx="8164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airwa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27 generations glottis to alve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F609-9D0B-4EA3-897D-1280359A2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lamping with cough or huff"/>
          <p:cNvPicPr/>
          <p:nvPr/>
        </p:nvPicPr>
        <p:blipFill>
          <a:blip r:embed="rId1"/>
          <a:stretch/>
        </p:blipFill>
        <p:spPr>
          <a:xfrm>
            <a:off x="1523880" y="1600200"/>
            <a:ext cx="546264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D922-D2A2-4ACB-AC93-7A97D1ECB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ghing and Secretions: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hesive secre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 Adhesive secretions)</a:t>
            </a:r>
            <a:br>
              <a:rPr sz="32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t only from mid-upper airway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trachea deformity with cough"/>
          <p:cNvPicPr/>
          <p:nvPr/>
        </p:nvPicPr>
        <p:blipFill>
          <a:blip r:embed="rId1"/>
          <a:stretch/>
        </p:blipFill>
        <p:spPr>
          <a:xfrm>
            <a:off x="838080" y="3352680"/>
            <a:ext cx="759456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DFF9-D42E-43C0-9512-DE459541A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essed set  /      Calmed se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ympathetic     /  parasympatheti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d exha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ions rattling around, but not coming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ineffective small coug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xed, controlled exhalation with minimal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? Pursed lip breathing if it comes natur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inflation 2-3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ress small coughs / facilitate only strong, effective c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d RR, large, controlled in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 Can / Steel Can Model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rom Mary Mass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act trun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F9E1-0E6E-4257-9F11-3D249A0C7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5219640" y="1692360"/>
            <a:ext cx="289584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0D46-D41A-40F0-B98E-5C19CF147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Job: Improve O2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monary History? Red Flags: “If you can’t breathe, you can’t function” &amp; “Function trumps structur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een Cardio-Vascular-Pulmonary System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g, labs, meds,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, CT scan, vent/perf. scan, blood glucose, coagulation, bronchodilator, ECG, P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idden impair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ural Muscles =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thing Mus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phrag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mazing 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al vs. cent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“pressure regulat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keletal muscle with length : tension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= “radius of curvatur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gthe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ened – flat dome, barrel ch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4DA3-915D-403C-BC28-A7605AB51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EFA235EC"/>
          <p:cNvPicPr/>
          <p:nvPr/>
        </p:nvPicPr>
        <p:blipFill>
          <a:blip r:embed="rId1"/>
          <a:stretch/>
        </p:blipFill>
        <p:spPr>
          <a:xfrm>
            <a:off x="990720" y="1752480"/>
            <a:ext cx="2895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62E0-A332-4C5A-AE79-C3D9120FE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 YOU KNOW YOU DID YOUR JOB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FFECTS OF O2 TRANSPORT FOR THE BETTER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heart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blood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O2 sat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ECG (rhythm &amp; patter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blood 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respiratory rate &amp;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symp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.g., measures of the hidden impair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95BF-8E64-4C37-83F8-F6548A035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lmonary Common Hierarchy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Screen the Hidden Impairmen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ctivity &amp;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Body posi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reathing control maneu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oughing maneu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Relaxation &amp; energy conservation maneu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Exercise throughout the 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Gravity assisted postural drain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Manual / device airway clearance mod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Suc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--adapted from Dean &amp; Frownfelter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udy guide)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3C8F-3EBA-40B0-AC9D-36D326065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ing for your Lung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 position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ed, include prone, ¼ from prone, ¼ from su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tch, twist, b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allow correctly; avoid refl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erobic exercise; lots of fluids; good d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aerosols; avoid airway 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moking; avoid / prevent air pol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hard exhalation / cough spa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relaxed in-bre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4-Point Star 1"/>
          <p:cNvSpPr/>
          <p:nvPr/>
        </p:nvSpPr>
        <p:spPr>
          <a:xfrm>
            <a:off x="609480" y="380880"/>
            <a:ext cx="990720" cy="1067040"/>
          </a:xfrm>
          <a:custGeom>
            <a:avLst/>
            <a:gdLst>
              <a:gd name="textAreaLeft" fmla="*/ 408240 w 990720"/>
              <a:gd name="textAreaRight" fmla="*/ 582480 w 990720"/>
              <a:gd name="textAreaTop" fmla="*/ 439560 h 1067040"/>
              <a:gd name="textAreaBottom" fmla="*/ 62748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259D-C1BE-464C-A2F0-B89CDDAAE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2"/>
          <p:cNvSpPr txBox="1"/>
          <p:nvPr/>
        </p:nvSpPr>
        <p:spPr>
          <a:xfrm>
            <a:off x="1905120" y="1295280"/>
            <a:ext cx="5105160" cy="413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 Love you with</a:t>
            </a:r>
            <a:endParaRPr b="0" lang="en-US" sz="1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oth of my lungs!</a:t>
            </a:r>
            <a:endParaRPr b="0" lang="en-US" sz="1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F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 / Risk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 work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. aerobic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spnea on exer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dentary job / 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vs. peripheral impair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ymphatic System Dis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ived body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y dr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n 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0717-E802-4A1A-8600-39CA2008C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Findings – Pattern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robic Capacity / Endurance – Decondi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rcise / Activity Tol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ived Exe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R, BP, SpO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R, Breathing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ilation”—organ lev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iration”—tissu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7E3D-0A63-44A1-A0F2-376D27CE4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28E4-4702-4A5A-B294-E844006AC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Findings – Pattern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way clea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y mobilizing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th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normal (rubs, absent, distant/diminished,artifa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ntitous (crackles/rales, rhonchi, whee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way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ir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ff/cough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Findings – Pattern 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ovascular Pump Dysfunction, or Failure of Increased O2 Demand (during activ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R, RR, SpO2, &amp;/or resp. pattern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baseline breath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t / falling BP (“failure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tensive (“dysfunction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S (&lt;4-5 = “failure”), (&lt;5-6 = “dysfunction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C8FD-AA15-402D-B18A-185A91891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7456-E741-43F1-A550-17EBC3EB2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Findings – Pattern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ilatory Pump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tilatory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racic bony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way p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piratory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V1 (forced exp vol in 1 sec) &gt;80% p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C (vital capacit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70% p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:R rati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:2 (inspi : expi 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R (resp rate) &amp; pattern  12-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7CEA-87C3-46BA-85B1-77164EBA1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uide to Practic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uloskeletal Scre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omuscular Scre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ne, Reflex,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&amp; 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umentary Scre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ficial Sk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al-thickness Sk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-thickness Sk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 into Fascia or dee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io-vas-pulm scre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nditioning /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way Clea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rt Pump / Lung Pu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ymphat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2DFA-3D1B-4480-8210-BAFC3B0B8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Findings: Pattern 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y Dysfunction / Gas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O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-100% (or age predicted no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O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-45%          “          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35-7.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O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N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5-100% 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Fi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adequ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90% 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Fi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2 retainer: “adequate”=88% 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FiO2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“severe”=&lt;85% 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Fi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81B7-7FEA-40D2-8094-4AD3F499B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v-P Preferred Practice Patter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Prevention / Risk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erobic Capacity / Endu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irway Clea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Cardiovascular P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Ventilatory P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. Respiration / Gas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Neonatal Respi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. Lymphatic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8362-7AB8-4F81-8571-03F563DF4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ysics and Physiology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on lung / human lung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B. West’s te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spiratory Physiology: use of + and – pressure to  fill lungs, “iron lu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spiratory Pathophys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y Massery, PT, DPT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Can’t Breathe, You Can’t Func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b’s Draw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Mechanics—L Lung: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 will preferentially flow to the dependent region fir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B541-115E-4BE5-8724-D3D30603E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36596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lung Field: 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ical for venti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DFFB-A2E5-4492-868F-F7F963913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143000" y="1504800"/>
            <a:ext cx="693432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ing Volume: R lung – more WOB (work of breath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1E5D-A113-4A35-81DC-12EACCB49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143000" y="1504800"/>
            <a:ext cx="662940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6B4C-4400-4BC5-9B31-94E756228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supine -- midlung"/>
          <p:cNvPicPr/>
          <p:nvPr/>
        </p:nvPicPr>
        <p:blipFill>
          <a:blip r:embed="rId1"/>
          <a:stretch/>
        </p:blipFill>
        <p:spPr>
          <a:xfrm>
            <a:off x="1011240" y="914400"/>
            <a:ext cx="7120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14:07:10Z</dcterms:created>
  <dc:creator>Barbara Bernard Butler</dc:creator>
  <dc:description/>
  <dc:language>en-US</dc:language>
  <cp:lastModifiedBy>SWEET, CHRISTINA</cp:lastModifiedBy>
  <cp:lastPrinted>2011-06-21T19:41:04Z</cp:lastPrinted>
  <dcterms:modified xsi:type="dcterms:W3CDTF">2013-07-11T13:32:36Z</dcterms:modified>
  <cp:revision>50</cp:revision>
  <dc:subject/>
  <dc:title>Pulmonary  Practice Patterns, Physics, Physiology &amp; Physical Therapy-Occupational Therapy</dc:title>
</cp:coreProperties>
</file>