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A25-91AE-43F3-B237-CD2F697EE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 lung: More negative in median, less negative in lateral. Laying on side for a while, then most blood will be in lateral left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atory kick” in L lateral and R medial, as air will flow here fir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A37E-49BB-4443-9456-08392FAF6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Volume (i.e. Le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lk about next slide before showing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n forward is great position for lung function as most optimal mid-lung fie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-recline is a relax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ine: lesion in lower lung, and right in mid-line fields will change pt’s vital signs ( Inc. HR, anxiety, etc, decrease in SPO2), therefore can use a pillow to prop patient to manipulate were mid-line field 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B63-6B6F-4D42-A739-20590D7F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pleural effusion, fluid moved to medial lower base of R lung so dependient, while when leaning towards the right he had max airf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losing volu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722-8E48-4B8A-A449-583F68EF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ve and obstructive. Middle is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6A2A-9588-469F-A91B-258099F8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ghing, not moving anything from middle ai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ff vs. Cough, rather need to perfrom relaxed tidal inhalation with forced exha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E19-84A1-49AD-8668-A799A2ED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ve: fremitus, could hear, able to benefit from suction, quicker, sticks together and move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: clear as a bell with auscultation, high peep, sticky to walls, hard to movilize, small, really dee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1A69-3408-47D0-9445-E1E2EC93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phram: pressure regulator, changes pressure of thoracic, so air moves. Every respiratory muscle is a postural muscle, vs. ver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651C-0484-4904-85CD-BF372D00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dden impairments: have rights under the ADA, for example a curb c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99B-A325-4D65-BA01-56F0D8A4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 All American educated P.T.s be “Physiotherapis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6816-4FA4-42C0-A106-2EE281ED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4D0-3F52-4B18-9279-1CFD6380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indings to distinguish P.T. Pulmonary Diagno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A20-7434-47D4-A433-4E234E75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exhalation, pressures are layered out in pleura space (-10 to -2, gradient of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=blood flow, more blood in base of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=airways, apex/top airways are more open at end of exha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=a lot of redundentices and extra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will go to the area with the greatest compliance, so air will be in the lowest part of the lung, that is not stretched yet with no air i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9A0-D8DF-422B-962F-ECEABD60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halation in apex, some air not much blood. While in base there is not much air, there is a lot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nhalation not much blood, but some air in apex,  at end of exhalation there is a lot of air and blood in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 lung fields is parallel to ground, most important some air and blood, where there is matching of air and blood, helps to steady pulse O2, while maintaining stead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atory kic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C8A-0CED-4AB7-A156-3C2440CE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exha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lung green arrows, make changes in pressures in inter-plueral space, when the person starts to inhale, the bases 4+ needs to decrease into negative pressure before air can e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of breathing is 50-80% of energy expedniture, then pt will have difficulty to do anything el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CC08-90F0-4B7E-9906-B9548E56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pine: anterior portion is the most negative, while posterior is most “postiv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blood in portion of lung, so will have less air.  However with inhalation air will go pos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Volume (i.e. C5 Tetraplegia) Green is air, and green arrows are diaphragm pressure that make closing pressure, making it harder to bre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 lung field is much larger runs vertical to counter weight of 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BC81-08B4-4CEA-BCEC-43AF5646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EAD-C609-4188-A9B6-E043C265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3A0-2D26-4F8F-A7C8-A75FA1D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B61-6CE1-4B5C-87CE-F5984C0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FD3-FDFB-4AA2-81D2-8B97B990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B1E-7C20-4070-8CC7-290A7332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332-8206-4D73-9C7C-739EA6A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668-511F-4EE5-BD51-AC9DBEC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C13-A534-4925-93A1-E4251F3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04C-07B7-4EF1-A0CE-AB46BA2E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99F-0250-43B0-A35D-0DB7AFB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D41-79DC-4FB4-8DCA-693EF15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9AD-9A8D-4AA9-9B3A-D8226252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037A-2C85-49DB-BCC8-00929590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ow-volume-loop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T. Plan of Care for Cardiac and Pulmonary Conditions—PTP 673 –Handou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monary  Practice Patterns, Physics, Physiology, &amp; Physical Therapy-Occupational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b Bernard Butler, PT, MS PT, DP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Lung Whisperer” per Keri Hutchins, 1976-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Michigan-Fl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1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A05-0A7E-40BF-A5B8-B218D50CA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B01-00B2-4E28-B412-BE3AA8BA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sidelying -- midlung"/>
          <p:cNvPicPr/>
          <p:nvPr/>
        </p:nvPicPr>
        <p:blipFill>
          <a:blip r:embed="rId1"/>
          <a:stretch/>
        </p:blipFill>
        <p:spPr>
          <a:xfrm>
            <a:off x="963720" y="614520"/>
            <a:ext cx="721512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1B3E-37A6-49CB-8E4A-59750701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ying Your Interven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lesions / optimizing results /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idlung -- RLL lesion supine"/>
          <p:cNvPicPr/>
          <p:nvPr/>
        </p:nvPicPr>
        <p:blipFill>
          <a:blip r:embed="rId1"/>
          <a:stretch/>
        </p:blipFill>
        <p:spPr>
          <a:xfrm>
            <a:off x="457200" y="1778040"/>
            <a:ext cx="4038480" cy="417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lean forward"/>
          <p:cNvPicPr/>
          <p:nvPr/>
        </p:nvPicPr>
        <p:blipFill>
          <a:blip r:embed="rId2"/>
          <a:stretch/>
        </p:blipFill>
        <p:spPr>
          <a:xfrm>
            <a:off x="5127480" y="1600200"/>
            <a:ext cx="311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FC1-E6C3-4354-BF4E-20C085DA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ignant pleural e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pt"/>
          <p:cNvPicPr/>
          <p:nvPr/>
        </p:nvPicPr>
        <p:blipFill>
          <a:blip r:embed="rId1"/>
          <a:stretch/>
        </p:blipFill>
        <p:spPr>
          <a:xfrm>
            <a:off x="754200" y="1600200"/>
            <a:ext cx="344304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pt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50F1-0B67-43ED-9329-EF6C8DDF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 Func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350px-Flow-volume-lo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981080"/>
            <a:ext cx="4572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599D-28D1-40EB-86D2-4E593090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Laurel\Pictures\2010-05-16 course\course 001.jpg"/>
          <p:cNvPicPr/>
          <p:nvPr/>
        </p:nvPicPr>
        <p:blipFill>
          <a:blip r:embed="rId1"/>
          <a:srcRect l="7642" t="11110" r="41936" b="70003"/>
          <a:stretch/>
        </p:blipFill>
        <p:spPr>
          <a:xfrm>
            <a:off x="457200" y="838080"/>
            <a:ext cx="813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Titr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rest / with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74CC-DCBE-4E0C-B92B-DAB84F516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0" t="18614" r="1433" b="21291"/>
          <a:stretch/>
        </p:blipFill>
        <p:spPr>
          <a:xfrm>
            <a:off x="523800" y="1981080"/>
            <a:ext cx="8164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air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27 generations glottis to alve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7B5A-9E1C-4C7F-A5CB-FC87BBD8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lamping with cough or huff"/>
          <p:cNvPicPr/>
          <p:nvPr/>
        </p:nvPicPr>
        <p:blipFill>
          <a:blip r:embed="rId1"/>
          <a:stretch/>
        </p:blipFill>
        <p:spPr>
          <a:xfrm>
            <a:off x="1523880" y="1600200"/>
            <a:ext cx="54626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64B-A663-4BDB-8F43-C1932BB3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ghing and Secretions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hesive secre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Adhesive secretions)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only from mid-upper airway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trachea deformity with cough"/>
          <p:cNvPicPr/>
          <p:nvPr/>
        </p:nvPicPr>
        <p:blipFill>
          <a:blip r:embed="rId1"/>
          <a:stretch/>
        </p:blipFill>
        <p:spPr>
          <a:xfrm>
            <a:off x="838080" y="3352680"/>
            <a:ext cx="75945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F14-24F3-44EF-88A7-5C355CDC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ssed set  /      Calmed s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ympathetic     /  parasympathe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exha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ions rattling around, but not com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effective small c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d, controlled exhalation with minimal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? Pursed lip breathing if it comes natur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inflation 2-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 small coughs / facilitate only strong, effective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RR, large, controlled in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 Can / Steel Can Mode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rom Mary Ma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tru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E6D-1F36-4CC9-AF3B-4B1F1EEC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219640" y="1692360"/>
            <a:ext cx="28958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363-274F-4F51-9465-984D10BB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Job: Improve O2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monary History? Red Flags: “If you can’t breathe, you can’t function” &amp; “Function trumps structu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Cardio-Vascular-Pulmonary Syste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g, labs, meds,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CT scan, vent/perf. scan, blood glucose, coagulation, bronchodilator, ECG, P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dden impair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ral Muscles =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azing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vs. c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pressure regula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keletal muscle with length : tensio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= “radius of curva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ned – flat dome, barrel c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12BD-9B6C-4CF0-AE54-F71FDD66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EFA235EC"/>
          <p:cNvPicPr/>
          <p:nvPr/>
        </p:nvPicPr>
        <p:blipFill>
          <a:blip r:embed="rId1"/>
          <a:stretch/>
        </p:blipFill>
        <p:spPr>
          <a:xfrm>
            <a:off x="990720" y="175248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36E-9C82-418C-8979-B7BA04B4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KNOW YOU DID YOUR JOB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FFECTS OF O2 TRANSPORT FOR THE BETTE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O2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ECG (rhythm &amp;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lood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respiratory rate &amp;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measures of the hidden impair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7BA-C731-46A4-8E24-CEC95142C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monary Common Hierarchy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Screen the Hidden Impairm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tivity &amp;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dy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eathing control maneu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ughing maneu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axation &amp; energy conservation maneu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xercise throughout the 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Gravity assisted postural 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Manual / device airway clearance mod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Su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-adapted from Dean &amp; Frownfelt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udy guide)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2B52-0C0C-432F-91F6-F21A111E7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ing for your Lung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posi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d, include prone, ¼ from prone, ¼ from su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, twist, b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 correctly; avoid re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bic exercise; lots of fluids; good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erosols; avoid airway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moking; avoid / prevent ai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ard exhalation / cough sp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relaxed in-br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-Point Star 1"/>
          <p:cNvSpPr/>
          <p:nvPr/>
        </p:nvSpPr>
        <p:spPr>
          <a:xfrm>
            <a:off x="609480" y="380880"/>
            <a:ext cx="990720" cy="1067040"/>
          </a:xfrm>
          <a:custGeom>
            <a:avLst/>
            <a:gdLst>
              <a:gd name="textAreaLeft" fmla="*/ 408240 w 990720"/>
              <a:gd name="textAreaRight" fmla="*/ 582480 w 990720"/>
              <a:gd name="textAreaTop" fmla="*/ 439560 h 1067040"/>
              <a:gd name="textAreaBottom" fmla="*/ 6274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5A1-A49A-4ED1-98A1-61818399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"/>
          <p:cNvSpPr txBox="1"/>
          <p:nvPr/>
        </p:nvSpPr>
        <p:spPr>
          <a:xfrm>
            <a:off x="1905120" y="1295280"/>
            <a:ext cx="5105160" cy="41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 Love you with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oth of my lungs!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/ Risk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wor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. aerobic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spnea on ex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dentary job /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vs. peripheral impai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atic Syste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ed body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y 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8764-5957-4F45-AA76-62B6ADDF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Capacity / Endurance – De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/ Activity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 Ex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, BP, Sp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, Breathing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”—organ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ion”—tissu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6E5D-FE1D-4870-9998-496E30A6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8DF7-254D-4FF5-A827-E4C3E33E8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way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mobilizing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(rubs, absent, distant/diminished,artif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ntitous (crackles/rales, rhonchi, whee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way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ff/cough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Pump Dysfunction, or Failure of Increased O2 Demand (during ac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, RR, SpO2, &amp;/or resp. patter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baseline breath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/ falling BP (“failur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ve (“dysfunctio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S (&lt;4-5 = “failure”), (&lt;5-6 = “dysfunctio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F03-7B47-4DA6-BBDF-EA228361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496-1480-46AA-9DC8-C54AA2BA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ory Pump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ic bony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way p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or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1 (forced exp vol in 1 sec) &gt;80% p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 (vital capacit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70% p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R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2 (inspi : expi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 (resp rate) &amp; pattern  12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FDE-842C-4BFE-A972-3C242C53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uide to Practi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skeletal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muscular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e, Reflex,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&amp;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umentary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ficial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-thicknes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hicknes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into Fascia or d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-vas-pulm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nditioning /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way Cl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Pump / Lung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mph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4BCE-1925-43EE-A578-ECF6FC2A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: Pattern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Dysfunction /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00% (or age predicted n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-45%          “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-100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dequ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90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2 retainer: “adequate”=88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“severe”=&lt;85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F5E2-BEE3-4528-B285-44220BA9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v-P Preferred Practice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revention / Risk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erobic Capacity / End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irway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Cardiovascular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Ventilatory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Respiration /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Neonatal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904A-9F4F-4AA8-A69D-525AD471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s and Physiology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lung / human lu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B. West’s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iratory Physiology: use of + and – pressure to  fill lungs, “iron lu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iratory Patho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Massery, PT, DPT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’t Breathe, You Can’t Fun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’s Dra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Mechanics—L Lung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will preferentially flow to the dependent region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B2B5-D6D4-4B46-9D57-DF732BAE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659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lung Field: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for venti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1CC-5F18-4244-A36A-2F5AFFE14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43000" y="150480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 Volume: R lung – more WOB (work of breath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A3E-1000-4266-A3EB-24966ABA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143000" y="150480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DB81-9255-4468-B570-551AAC13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supine -- midlung"/>
          <p:cNvPicPr/>
          <p:nvPr/>
        </p:nvPicPr>
        <p:blipFill>
          <a:blip r:embed="rId1"/>
          <a:stretch/>
        </p:blipFill>
        <p:spPr>
          <a:xfrm>
            <a:off x="1011240" y="914400"/>
            <a:ext cx="712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4:07:10Z</dcterms:created>
  <dc:creator>Barbara Bernard Butler</dc:creator>
  <dc:description/>
  <dc:language>en-US</dc:language>
  <cp:lastModifiedBy>SWEET, CHRISTINA</cp:lastModifiedBy>
  <cp:lastPrinted>2011-06-21T19:41:04Z</cp:lastPrinted>
  <dcterms:modified xsi:type="dcterms:W3CDTF">2013-07-11T13:32:36Z</dcterms:modified>
  <cp:revision>50</cp:revision>
  <dc:subject/>
  <dc:title>Pulmonary  Practice Patterns, Physics, Physiology &amp; Physical Therapy-Occupational Therapy</dc:title>
</cp:coreProperties>
</file>