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1B76-6782-46D7-B344-9D30A2170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30EA-89F1-4231-9978-606E38603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4451-4A3A-4F0F-B872-5E01F39F8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8987-F9C3-4B52-B182-8B30313C7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0F13-8040-4CCB-AC3D-8469DA25B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B051-8D91-4E2E-8F33-DF42E908B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CFB3-EB9E-45DD-B983-7142FE09C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6979-4B7C-4A77-9E86-6E78E3874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70CA-FC9B-4F5C-BB49-F93020D38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133C-A618-4B7E-B187-66E7A3070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FF1-877F-4C5B-B184-4F853875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6606-A751-4C07-BE06-D0718D07E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24AD-3F3E-474D-A969-DAF7F0053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8C76-B886-4BAE-B57E-DF16D294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9976-E5F0-4882-B9A2-4DF412DCD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D280-7D9C-419D-B0D5-CDB437470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C774-5FB9-42EA-BA25-B39387C3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DF7C-1A8E-422F-BACB-A581C0E7F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260D-4E71-44E5-9A8E-82ED35D1C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8AE5-D6EF-4D94-BDC0-3F2BD9410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7885-1759-4D27-BEC9-99BC9B4CB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24D1-E045-40D7-A05E-7826B3725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FA64-A868-47F2-B106-846A74F3C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BDEF-D21E-4C5E-94D0-CE5E10D7D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AC45-FD93-4A69-A29D-197370880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137C-043C-43CD-B515-2E792C896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E84A-6D76-46C1-AB8E-1622DA264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1A17-DD74-40A5-B4B8-B0E0765D7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5402-0A32-411A-B30A-F8CD182C4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BA54-98DB-4037-A8F8-EDDC3EDFA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E577-B7D3-4EB3-99A8-7E9C6B50D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1687-709A-4BE1-860C-A76412DE2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2C89-0436-4688-B69B-2606F3F6C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EE0B-64A4-4FB1-B638-8F898B9DB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A567-70CB-4409-9F97-A6E66D574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A9BA-BE21-4518-89A3-58445694E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E7EE-33AC-4AD3-A152-4C80A6943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F908-8054-4E8E-A45D-3B264922B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29C0-DFCF-4F40-88ED-25DA5E07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0DEC-198A-4062-8621-E774D52ED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206B-11D6-43D5-9BF2-E386BA39B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28F7-5921-432B-B844-40CEAA568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6D66-A258-41A9-8BF4-B7318DD51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82E5-4B88-46AA-8C4B-E0B55FA5C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FEBF-0818-4EAF-9565-8C8B15A73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EA84-7DF8-42D8-8B46-43FA78751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9E71-311E-4A7C-BFDA-CCDF997A8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BBFD-EB2B-4F7E-B705-619534407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7922-66F9-4D3D-B30C-7D37191D1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4AF5-53F3-474D-B884-AD4B20EDB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CA2F-9EB2-42D2-A909-A0B567B2E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05F2-55DB-48D6-885D-27A22298F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1D25-9A26-4E03-86F1-58AAA5921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8ABB-0557-4587-A2E3-A5AF1D73F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E07D-B0CC-4C4B-A861-01BB6C2BC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757C-1644-4695-A82A-45EE41F8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1FF95-B4BF-4E8C-84A7-AD0124A88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86BD-41A4-4BA9-BB98-A41EF7C5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8F615-CB70-499D-A01D-D3C77088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712E0-2951-44C2-B8F7-CBF12DAEE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9F100-9E25-47AC-9364-F0C38A038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CC800-E58F-43FD-8C51-2A9FB4C7A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DAF2-E394-4572-895B-B26BA079E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9D56-67F6-4D38-95B0-C335154FA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B0FBC-C5D3-4463-9055-282045DBE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341DD-9CC8-406C-87B4-E077826C6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6815-8FA5-4AA3-9DD1-FDDAA30C2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5866-A90B-4616-8CAE-DC39AD75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01DC-E4F5-4BF4-A3D4-B6BACA627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E9141-D670-4C27-B277-360F9FADF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FFE8C-DE6F-4417-A525-19D285538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D18AB-940B-4047-BC96-22D8A5793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4EF5C-9C05-497E-A961-651B4BC38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5845FF-ADC6-4121-835C-8A625945FE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D50B3-85F6-453F-96B9-CF394C7D4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A66C3-4100-4AAE-978B-79DC5EA76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85976-156F-49D4-A6F4-4FBA0230D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613A2-85F3-4D7F-9B84-4A8AA86EE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1057-EE1B-4B58-842C-09838650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78673-2143-41A6-A962-FB892837A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8644D-B920-4BE8-ACEE-B5BC1BCFC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6489F-E802-4842-BC72-AD9D1BC4D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7FD13-2AC1-4DA0-B7FC-6D3B5B6DE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C67CD-2635-4C49-A20B-EB7C8CCE0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6F2AE-CBAA-4116-9941-CFECA84FB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2A2F2-8211-4BC4-B445-148514F6BA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908A5-A6FC-4A71-B59B-C5E06F8FD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2EA31-4276-47F0-B522-003EE1A4D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394838-B3A0-4BDF-8209-7E4337B76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0FD15-D894-4DEB-BDD0-6FCF7E923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AB689-F49D-4B31-A294-768759A2F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AC05E-8FA8-425D-9334-F66702574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1F763-5297-483A-927E-622B699D8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D2927-0EFC-4D2F-9B11-7E76DD95E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6696C-3DB4-4DC0-801F-C17E2666D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42B04-E70D-494A-8C51-2D1E24326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C31A27-37C3-4B00-AA6A-BF1F74F4F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F9EB2-5E2F-4826-BE55-9396969210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986F2-8425-42B5-BB65-A01977B6F8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08B2-70C5-4DA2-B992-3AA51F346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2EF18-A6F1-4156-8428-984037290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1553-C577-480E-ADD0-5AB00196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4B52-9E41-4D1D-A52D-E86D3520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DE39-78F7-444F-A556-A18560FEB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6237-A7A8-414B-973A-F4DBCE0C3CD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7F83-123D-4A1C-B7B2-B0EED908DFA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66F8-D38F-4931-A5B8-D8AA62E472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86D8-DFDD-4F03-B44B-9483FFCBB6D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proquest.umi.com/pqdweb?index=23&amp;did=1354083031&amp;SrchMode=1&amp;sid=12&amp;Fmt=3&amp;VInst=PROD&amp;VType=PQD&amp;RQT=309&amp;VName=PQD&amp;TS=1245768979&amp;clientId=76575"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proquest.umi.com/pqdweb?RQT=318&amp;pmid=51267&amp;TS=1245772478&amp;clientId=76575&amp;VInst=PROD&amp;VName=PQD&amp;VType=PQD" TargetMode="External"/><Relationship Id="rId2" Type="http://schemas.openxmlformats.org/officeDocument/2006/relationships/hyperlink" Target="http://proquest.umi.com/pqdweb?RQT=572&amp;VType=PQD&amp;VName=PQD&amp;VInst=PROD&amp;pmid=51267&amp;pcid=38680441&amp;SrchMode=3"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proquest.umi.com/pqdweb?index=4&amp;did=1582086551&amp;SrchMode=1&amp;sid=42&amp;Fmt=6&amp;VInst=PROD&amp;VType=PQD&amp;RQT=309&amp;VName=PQD&amp;TS=1245775922&amp;clientId=76575" TargetMode="Externa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6400" y="1371600"/>
            <a:ext cx="7851960" cy="2322360"/>
          </a:xfrm>
          <a:prstGeom prst="rect">
            <a:avLst/>
          </a:prstGeom>
          <a:ln w="0">
            <a:noFill/>
          </a:ln>
        </p:spPr>
      </p:pic>
      <p:sp>
        <p:nvSpPr>
          <p:cNvPr id="203" name="PlaceHolder 1"/>
          <p:cNvSpPr>
            <a:spLocks noGrp="1"/>
          </p:cNvSpPr>
          <p:nvPr>
            <p:ph type="subTitle"/>
          </p:nvPr>
        </p:nvSpPr>
        <p:spPr>
          <a:xfrm>
            <a:off x="533160" y="3352320"/>
            <a:ext cx="7854840" cy="1752840"/>
          </a:xfrm>
          <a:prstGeom prst="rect">
            <a:avLst/>
          </a:prstGeom>
          <a:noFill/>
          <a:ln w="0">
            <a:noFill/>
          </a:ln>
        </p:spPr>
        <p:txBody>
          <a:bodyPr lIns="0" rIns="18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alia Fernandez, PT, MS, MSc, CCS</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University of Michigan Health Care System</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Department of Physical Medicine and Rehabilitatio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Ther Ex</a:t>
            </a:r>
            <a:endParaRPr b="0" lang="en-US" sz="2900" spc="-1" strike="noStrike">
              <a:solidFill>
                <a:srgbClr val="04617b"/>
              </a:solidFill>
              <a:latin typeface="Calibri"/>
            </a:endParaRPr>
          </a:p>
        </p:txBody>
      </p:sp>
      <p:sp>
        <p:nvSpPr>
          <p:cNvPr id="229" name=""/>
          <p:cNvSpPr txBox="1"/>
          <p:nvPr/>
        </p:nvSpPr>
        <p:spPr>
          <a:xfrm>
            <a:off x="457200" y="1143000"/>
            <a:ext cx="8229600" cy="5486400"/>
          </a:xfrm>
          <a:prstGeom prst="rect">
            <a:avLst/>
          </a:prstGeom>
          <a:noFill/>
          <a:ln w="0">
            <a:noFill/>
          </a:ln>
        </p:spPr>
        <p:txBody>
          <a:bodyPr anchor="t">
            <a:normAutofit/>
          </a:bodyPr>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xation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Breathing strategi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ovement strategi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elaxation techniqu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ctive assistive, active, and resistive exercise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luding concentric, dynamic/isotonic,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sometric, and plyometric - manual resistanc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ulleys, weights, hydraulics, elastic resistanc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bands, robotics and mechanical or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lectromechanical devic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 </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Pattern A:  Prevention and Risk </a:t>
            </a:r>
            <a:br>
              <a:rPr sz="3600"/>
            </a:br>
            <a:r>
              <a:rPr b="0" lang="en-US" sz="3600" spc="-1" strike="noStrike">
                <a:solidFill>
                  <a:srgbClr val="04617b"/>
                </a:solidFill>
                <a:latin typeface="Calibri"/>
              </a:rPr>
              <a:t>Patient Education</a:t>
            </a:r>
            <a:endParaRPr b="0" lang="en-US" sz="36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ease</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herosclerosi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lipedemia</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tension</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abetes</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e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ercis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mok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ealth &amp; Wellnes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tness</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828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Inclusion Criteria</a:t>
            </a:r>
            <a:endParaRPr b="0" lang="en-US" sz="3200" spc="-1" strike="noStrike">
              <a:solidFill>
                <a:srgbClr val="04617b"/>
              </a:solidFill>
              <a:latin typeface="Calibri"/>
            </a:endParaRPr>
          </a:p>
        </p:txBody>
      </p:sp>
      <p:sp>
        <p:nvSpPr>
          <p:cNvPr id="233" name=""/>
          <p:cNvSpPr txBox="1"/>
          <p:nvPr/>
        </p:nvSpPr>
        <p:spPr>
          <a:xfrm>
            <a:off x="457200" y="1371600"/>
            <a:ext cx="8229600" cy="5486400"/>
          </a:xfrm>
          <a:prstGeom prst="rect">
            <a:avLst/>
          </a:prstGeom>
          <a:noFill/>
          <a:ln w="0">
            <a:noFill/>
          </a:ln>
        </p:spPr>
        <p:txBody>
          <a:bodyPr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 Factors or Consequences of Pathology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cquired immune deficiency syndrom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ncer</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rdiovascular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hronic system failur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activity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ltisystem impairment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sculoskeletal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Neuromuscular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ulmonary disorders</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airments, Functional Limitations, or Disabilitie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Decreased enduranc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cardiovascular response to low level work load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perceived exertion with functional activitie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pulmonary response to low level work load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ability to perform routine work tasks due to shortness of </a:t>
            </a:r>
            <a:r>
              <a:rPr b="0" lang="en-US" sz="2000" spc="-1" strike="noStrike">
                <a:solidFill>
                  <a:srgbClr val="000000"/>
                </a:solidFill>
                <a:latin typeface="Constantia"/>
              </a:rPr>
              <a:t>	</a:t>
            </a:r>
            <a:r>
              <a:rPr b="0" lang="en-US" sz="2000" spc="-1" strike="noStrike">
                <a:solidFill>
                  <a:srgbClr val="000000"/>
                </a:solidFill>
                <a:latin typeface="Constantia"/>
              </a:rPr>
              <a:t>breath</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35" name=""/>
          <p:cNvSpPr txBox="1"/>
          <p:nvPr/>
        </p:nvSpPr>
        <p:spPr>
          <a:xfrm>
            <a:off x="457200" y="990360"/>
            <a:ext cx="8229600" cy="56386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erobic capacity/endurance activities using ergometers, treadmills, steppers, pulleys, weights, hydraulics, elastic resistance bands, robotics, and mechanical or electromechanical device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quatic programs</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it and locomotion training - Walking and wheelchair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ropulsion program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workload over time</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lance, coordination, and agility trai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Developmental activities training</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Neuromuscular education or reeducation</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andardized, programmatic, complementary exercise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pproach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eathing exercis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dy mechanics, ergonomics,  and postural stabilization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Body mechanics trai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ostural control and awareness training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exibility exercise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scle lengthe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Range of motion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retching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37" name=""/>
          <p:cNvSpPr txBox="1"/>
          <p:nvPr/>
        </p:nvSpPr>
        <p:spPr>
          <a:xfrm>
            <a:off x="457200" y="1219320"/>
            <a:ext cx="8229600" cy="548640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for head and neck, limb, pelvic-floor, trunk, and ventilatory muscl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onditioning and reconditioning  - Strengthening or Resistive</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576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C:  Airway Clearance</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39" name=""/>
          <p:cNvSpPr txBox="1"/>
          <p:nvPr/>
        </p:nvSpPr>
        <p:spPr>
          <a:xfrm>
            <a:off x="457200" y="1143000"/>
            <a:ext cx="8229600" cy="54100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isk Factors or Consequences of Pathology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cute lung disorder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cute or chronic oxygen dependenc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one marrow/stem cell transpla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thoracic surger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breath sound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chest radiograph</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ronic obstructive pulmonary disease (COP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Frequent or recurring pulmonary infec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olid-organ transplants (eg, heart, lung, kidne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Tracheostomy or microtracheostom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airments, Functional Limitations, or Disabiliti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yspnea at rest or with exer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airway clearanc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cough</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gas exchang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ventilatory forces and flow</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ventilatory volum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ability to perform self-care due to dyspnea</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ability to perform work tasks due to dyspnea</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C:  Airway Clearanc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1" name=""/>
          <p:cNvSpPr txBox="1"/>
          <p:nvPr/>
        </p:nvSpPr>
        <p:spPr>
          <a:xfrm>
            <a:off x="457200" y="1371240"/>
            <a:ext cx="8229600" cy="5257800"/>
          </a:xfrm>
          <a:prstGeom prst="rect">
            <a:avLst/>
          </a:prstGeom>
          <a:noFill/>
          <a:ln w="0">
            <a:noFill/>
          </a:ln>
        </p:spPr>
        <p:txBody>
          <a:bodyPr anchor="t">
            <a:normAutofit fontScale="97000"/>
          </a:bodyPr>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conditioning or reconditioning activities using ergometers, treadmills, steppers, pulleys, weights, hydraulics, elastic resistance bands, robotics, and mechanical or electromechanical devic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dy mechanics, ergonomics, and postural stabiliza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e awareness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control train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C:  Airway Clearanc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3" name=""/>
          <p:cNvSpPr txBox="1"/>
          <p:nvPr/>
        </p:nvSpPr>
        <p:spPr>
          <a:xfrm>
            <a:off x="457200" y="1219320"/>
            <a:ext cx="8229600" cy="548640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 for head and neck, limb, pelvic-floor, trunk, and ventilatory muscl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ctive assistive, active, and resistive exercise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luding concentric, dynamic/isotonic,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sometric,and plyometric – using manual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esistance, pulleys, </a:t>
            </a:r>
            <a:r>
              <a:rPr b="0" lang="en-US" sz="2400" spc="-1" strike="noStrike">
                <a:solidFill>
                  <a:srgbClr val="000000"/>
                </a:solidFill>
                <a:latin typeface="Constantia"/>
              </a:rPr>
              <a:t>	</a:t>
            </a:r>
            <a:r>
              <a:rPr b="0" lang="en-US" sz="2400" spc="-1" strike="noStrike">
                <a:solidFill>
                  <a:srgbClr val="000000"/>
                </a:solidFill>
                <a:latin typeface="Constantia"/>
              </a:rPr>
              <a:t>weights, hydraulic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lastic resistance bands, robotics and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echanical or electromechanical </a:t>
            </a:r>
            <a:r>
              <a:rPr b="0" lang="en-US" sz="2400" spc="-1" strike="noStrike">
                <a:solidFill>
                  <a:srgbClr val="000000"/>
                </a:solidFill>
                <a:latin typeface="Constantia"/>
              </a:rPr>
              <a:t>	</a:t>
            </a:r>
            <a:r>
              <a:rPr b="0" lang="en-US" sz="2400" spc="-1" strike="noStrike">
                <a:solidFill>
                  <a:srgbClr val="000000"/>
                </a:solidFill>
                <a:latin typeface="Constantia"/>
              </a:rPr>
              <a:t>devic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lance and coordination training</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mental activities</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uromuscular relaxation, inhibition, and facilit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D:  CV Pump Dysfunction</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45" name=""/>
          <p:cNvSpPr txBox="1"/>
          <p:nvPr/>
        </p:nvSpPr>
        <p:spPr>
          <a:xfrm>
            <a:off x="457200" y="990360"/>
            <a:ext cx="8229600" cy="571500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isk Factors or Consequences of Pathology/Pathophysiology (Disease, Disorder, or Condition)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ngioplast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trioventricular block</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myopath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thoracic surger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mplex ventricular arrhythmia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mplicated MI (failure); uncomplicated MI (dysfunc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ronary artery diseas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crease in ejection fraction (EF) on exercise testing (EF of 30-50% with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ysfunction;  &lt; 30% with failure)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iabet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Hypertensive heart diseas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Valvular heart disease</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airments, Functional Limitations, or Disabiliti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bnormal heart rate response to increased oxygen deman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bnormal pulmonary response to increased oxygen deman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creased ability or the inability to perform activities of daily living (ADL)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ecause of symptom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breath sounds with activit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Flat or falling blood pressure response to increased oxygen demand (failure)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D:  CV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7" name=""/>
          <p:cNvSpPr txBox="1"/>
          <p:nvPr/>
        </p:nvSpPr>
        <p:spPr>
          <a:xfrm>
            <a:off x="457200" y="1219320"/>
            <a:ext cx="8229600" cy="5333760"/>
          </a:xfrm>
          <a:prstGeom prst="rect">
            <a:avLst/>
          </a:prstGeom>
          <a:noFill/>
          <a:ln w="0">
            <a:noFill/>
          </a:ln>
        </p:spPr>
        <p:txBody>
          <a:bodyPr anchor="t">
            <a:normAutofit fontScale="97000"/>
          </a:bodyPr>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activities using ergometers, treadmills, steppers, pulleys, weights, hydraulics, elastic resistance bands, robotic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lance, coordination, and agility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tor function (motor control and motor learning) training or retrai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education or reeduca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eathing exercises</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dy mechanics, ergonomics, and postural stabiliza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ody mechanics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awareness training </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nical Decision Making</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in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agn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n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t up Interven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D:  CV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9" name=""/>
          <p:cNvSpPr txBox="1"/>
          <p:nvPr/>
        </p:nvSpPr>
        <p:spPr>
          <a:xfrm>
            <a:off x="457200" y="1218960"/>
            <a:ext cx="8229600" cy="563868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 and mechanical or electromechanic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ices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E:  Resp Pump Dysfunction</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51" name=""/>
          <p:cNvSpPr txBox="1"/>
          <p:nvPr/>
        </p:nvSpPr>
        <p:spPr>
          <a:xfrm>
            <a:off x="457200" y="1142640"/>
            <a:ext cx="8229600" cy="571500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 or Consequences of Patholog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Elevated diaphragm and volume loss on chest radiograph</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disorder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artial or complete diaphragmatic paraly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liomyelit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ulmonary fibro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trictive lung disease</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evere kyphoscolio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pinal cord injury</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airments, Functional Limitations, or Disabilit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or adventitious breath sound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increased respiratory rate and decreased tidal volume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t</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irway clearance dysfunction secondary to ventilatory pump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airment</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creased to severely impaired strength and endurance of ventilatory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with self-care</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with work task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synchronous or paradoxical breathing at rest or with activity</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E:  Resp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53" name=""/>
          <p:cNvSpPr txBox="1"/>
          <p:nvPr/>
        </p:nvSpPr>
        <p:spPr>
          <a:xfrm>
            <a:off x="457200" y="1295280"/>
            <a:ext cx="8229600" cy="556272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erobic capacity/endurance activities using ergometers, treadmills, steppers, pulleys, weights, hydraulics, elastic resistance bands, robotic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quatic program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Gait and locomotion training - Walking and wheelchair propulsion program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ovement efficiency and energy conservation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creased workload over time</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lance, coordination, and agility training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velopmental activities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otor function (motor control and motor learning) training or re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Neuromuscular education or reeducation</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andardized, programmatic, complementary exercise approache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Task-specific performance training</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reathing exercise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ody mechanics, ergonomics, and postural stabilization</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ody mechanics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control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stabilization activitie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awareness training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lexibility exercise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uscle lengthening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ange of motion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retching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E:  Resp Pump Dysfunction</a:t>
            </a:r>
            <a:br>
              <a:rPr sz="2800"/>
            </a:br>
            <a:r>
              <a:rPr b="0" lang="en-US" sz="2800" spc="-1" strike="noStrike">
                <a:solidFill>
                  <a:srgbClr val="04617b"/>
                </a:solidFill>
                <a:latin typeface="Calibri"/>
              </a:rPr>
              <a:t>Ther Ex</a:t>
            </a:r>
            <a:endParaRPr b="0" lang="en-US" sz="2800" spc="-1" strike="noStrike">
              <a:solidFill>
                <a:srgbClr val="04617b"/>
              </a:solidFill>
              <a:latin typeface="Calibri"/>
            </a:endParaRPr>
          </a:p>
        </p:txBody>
      </p:sp>
      <p:sp>
        <p:nvSpPr>
          <p:cNvPr id="255" name=""/>
          <p:cNvSpPr txBox="1"/>
          <p:nvPr/>
        </p:nvSpPr>
        <p:spPr>
          <a:xfrm>
            <a:off x="457200" y="1143000"/>
            <a:ext cx="8229600" cy="556272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erceptual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for head and neck, limb, pelvic-floor, trunk, and ventilatory muscl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F:  Respiratory Failure</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57" name=""/>
          <p:cNvSpPr txBox="1"/>
          <p:nvPr/>
        </p:nvSpPr>
        <p:spPr>
          <a:xfrm>
            <a:off x="457200" y="1218960"/>
            <a:ext cx="8229600" cy="56386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 or Consequences of Patholog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dult respiratory distress syndrom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alveolar to arterial oxygen tension difference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ardiothoracic surger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hronic obstructive pulmonary disease (COP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ltisystem failur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neumoni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e- and post-lung transplant or rejec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pid rise in arterial carbon dioxide at rest or with activit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epsi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horacic or multisystem trauma</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airments, Functional Limitations, or Disabilitie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or adventitious breath sound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vital capacity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irway clearance dysfunc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at rest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synchronous or paradoxical breathing patter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aired gas exchang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F:  Respiratory Failur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59" name=""/>
          <p:cNvSpPr txBox="1"/>
          <p:nvPr/>
        </p:nvSpPr>
        <p:spPr>
          <a:xfrm>
            <a:off x="457200" y="1294920"/>
            <a:ext cx="8229600" cy="5410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activities using ergometers, treadmills, steppers, pulleys, weights, hydraulics, elastic resistance bands, robotic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efficiency and energy conservation train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lance, coordination, and agility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education or reeduca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e awareness training</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dy mechanics, ergonomics, and postural stabilization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ody mechanics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control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awareness training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F:  Respiratory Failur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61" name=""/>
          <p:cNvSpPr txBox="1"/>
          <p:nvPr/>
        </p:nvSpPr>
        <p:spPr>
          <a:xfrm>
            <a:off x="457200" y="1599840"/>
            <a:ext cx="8229600" cy="52578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axation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Breathing strategi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vement strategi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Relaxation techniqu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andardized, programmatic, complementary exercise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pproach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ngth, power, and endurance training for head and neck, limb, pelvic-floor, trunk, and ventilatory muscl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ctive assistive, active, and resistive exercises (including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oncentric, dynamic/isotonic, isometric, and plyometric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using manual resistance, pulleys, weight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hydraulics, elastic resistance bands, robotics and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echanical or electromechanical device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ask-specific performance train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a:t>
            </a:r>
            <a:endParaRPr b="0" lang="en-US" sz="3600" spc="-1" strike="noStrike">
              <a:solidFill>
                <a:srgbClr val="04617b"/>
              </a:solidFill>
              <a:latin typeface="Calibri"/>
            </a:endParaRPr>
          </a:p>
        </p:txBody>
      </p:sp>
      <p:sp>
        <p:nvSpPr>
          <p:cNvPr id="263" name=""/>
          <p:cNvSpPr txBox="1"/>
          <p:nvPr/>
        </p:nvSpPr>
        <p:spPr>
          <a:xfrm>
            <a:off x="457200" y="1447920"/>
            <a:ext cx="8229600" cy="49528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erobic capacity/endurance conditioning or recondition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quatic program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t and locomotion training – Walk or W/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workload over tim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vement efficiency and energy conservation train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Aerobic Capacity/Endurance Conditioning or Reconditioning</a:t>
            </a:r>
            <a:endParaRPr b="0" lang="en-US" sz="36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ity, specific set up, time</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rove oxygen demand</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of large muscle groups in a rhythmic fashion, over time</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e</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rching, Walking, Bike, Gardening</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nsity</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x HR and take age adjusted</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50-70% depending on exercise test, age</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cy</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5 days per week</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ation</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5-10 min bouts 3x/day</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k up to 30-40 min in one session</a:t>
            </a:r>
            <a:endParaRPr b="0" lang="en-US" sz="2000" spc="-1" strike="noStrike">
              <a:solidFill>
                <a:srgbClr val="000000"/>
              </a:solidFill>
              <a:latin typeface="Constantia"/>
            </a:endParaRPr>
          </a:p>
          <a:p>
            <a:pPr lvl="1" marL="58824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6" name="Text Box 4"/>
          <p:cNvSpPr/>
          <p:nvPr/>
        </p:nvSpPr>
        <p:spPr>
          <a:xfrm>
            <a:off x="457200" y="609588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304920" y="61722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Progression, see DeTurk &amp; Cahalin, pg 447 &amp; 448, Figs 15-7 &amp; 1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erobic Capacity/Endurance -Evidence</a:t>
            </a:r>
            <a:endParaRPr b="0" lang="en-US" sz="4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ient Education on Risk or Disea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ercise, Die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onditio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te of VO2 max decreases greatest the first week of bedrest</a:t>
            </a:r>
            <a:r>
              <a:rPr b="0" lang="en-US" sz="2400" spc="-1" strike="noStrike" baseline="30000">
                <a:solidFill>
                  <a:srgbClr val="000000"/>
                </a:solidFill>
                <a:latin typeface="Constantia"/>
              </a:rPr>
              <a:t>1</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nger the bedrest the more diminished the VO2 max</a:t>
            </a:r>
            <a:r>
              <a:rPr b="0" lang="en-US" sz="2400" spc="-1" strike="noStrike" baseline="30000">
                <a:solidFill>
                  <a:srgbClr val="000000"/>
                </a:solidFill>
                <a:latin typeface="Constantia"/>
              </a:rPr>
              <a:t>1</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of HR, RPE, and ME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Text Box 5"/>
          <p:cNvSpPr/>
          <p:nvPr/>
        </p:nvSpPr>
        <p:spPr>
          <a:xfrm>
            <a:off x="380880" y="63244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vertinao VA, Med Sci Sports Exer, 1997:29: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linical Decision Making</a:t>
            </a:r>
            <a:endParaRPr b="0" lang="en-US" sz="4500" spc="-1" strike="noStrike">
              <a:solidFill>
                <a:srgbClr val="04617b"/>
              </a:solidFill>
              <a:latin typeface="Calibri"/>
            </a:endParaRPr>
          </a:p>
        </p:txBody>
      </p:sp>
      <p:sp>
        <p:nvSpPr>
          <p:cNvPr id="207" name=""/>
          <p:cNvSpPr txBox="1"/>
          <p:nvPr/>
        </p:nvSpPr>
        <p:spPr>
          <a:xfrm>
            <a:off x="457200" y="1066320"/>
            <a:ext cx="8229600" cy="5334120"/>
          </a:xfrm>
          <a:prstGeom prst="rect">
            <a:avLst/>
          </a:prstGeom>
          <a:noFill/>
          <a:ln w="0">
            <a:noFill/>
          </a:ln>
        </p:spPr>
        <p:txBody>
          <a:bodyPr anchor="t">
            <a:normAutofit fontScale="99000"/>
          </a:bodyPr>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d Dx:  CAD</a:t>
            </a: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Med Dx:  COPD</a:t>
            </a:r>
            <a:endParaRPr b="0" lang="en-US" sz="2800" spc="-1" strike="noStrike">
              <a:solidFill>
                <a:srgbClr val="000000"/>
              </a:solidFill>
              <a:latin typeface="Constantia"/>
            </a:endParaRPr>
          </a:p>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of Hypothesis Testing and Algorithms</a:t>
            </a:r>
            <a:endParaRPr b="0" lang="en-US" sz="28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 Dx and History of Cardiopulmonary Disease</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nd Diagnostic Test Results</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T Dx</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ype of activity, specifics of activity, time</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se to exercise/mobility/ADL</a:t>
            </a:r>
            <a:endParaRPr b="0" lang="en-US" sz="24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ital signs – rest, activity, recovery</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KG changes</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ed and time to stop, rest</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bserved signs – color changes</a:t>
            </a:r>
            <a:endParaRPr b="0" lang="en-US" sz="20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jective responses</a:t>
            </a:r>
            <a:endParaRPr b="0" lang="en-US" sz="24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cerns – Fatigue, SOB</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te of Perceived Exertion</a:t>
            </a:r>
            <a:endParaRPr b="0" lang="en-US" sz="2000" spc="-1" strike="noStrike">
              <a:solidFill>
                <a:srgbClr val="000000"/>
              </a:solidFill>
              <a:latin typeface="Constantia"/>
            </a:endParaRPr>
          </a:p>
        </p:txBody>
      </p:sp>
      <p:sp>
        <p:nvSpPr>
          <p:cNvPr id="208" name="Text Box 4"/>
          <p:cNvSpPr/>
          <p:nvPr/>
        </p:nvSpPr>
        <p:spPr>
          <a:xfrm>
            <a:off x="685800" y="64911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urk &amp; Cahalin -  pg 368-369, Fig 12-4 &amp; pg 370, Fig 1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erobic Capacity/Endurance -Evidence</a:t>
            </a:r>
            <a:endParaRPr b="0" lang="en-US" sz="4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oup-based (8-12 patients) simple aerobic dance movements (with music)</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days a week for 4 month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session lasted 50 minutes (including warm-up and cool-down), followed by 15-30 minutes of counseling</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ercise program included three intervals of high intensity, during which patients were encouraged to reach 15-18 on the Borg scale for 5-10 minute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6 min walk, resistance on bike, bike time, MN Living with Heart Failure QOL all increased with significance as compared to the control group for 4 and 12 mn.</a:t>
            </a:r>
            <a:endParaRPr b="0" lang="en-US" sz="2400" spc="-1" strike="noStrike">
              <a:solidFill>
                <a:srgbClr val="000000"/>
              </a:solidFill>
              <a:latin typeface="Constantia"/>
            </a:endParaRPr>
          </a:p>
        </p:txBody>
      </p:sp>
      <p:sp>
        <p:nvSpPr>
          <p:cNvPr id="273" name="Text Box 4"/>
          <p:cNvSpPr/>
          <p:nvPr/>
        </p:nvSpPr>
        <p:spPr>
          <a:xfrm>
            <a:off x="533520" y="6248520"/>
            <a:ext cx="8305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5"/>
          <p:cNvSpPr/>
          <p:nvPr/>
        </p:nvSpPr>
        <p:spPr>
          <a:xfrm>
            <a:off x="0" y="586728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lsson et al, Long-term effects of a group based high intensity aerobic interval training program in patients with chronic heart failure, Am J Cardiol 2008; 102(9):1220-12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rapeutic Exercise</a:t>
            </a:r>
            <a:endParaRPr b="0" lang="en-US" sz="4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lance, coordination, and agility train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mental activities train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ure awareness train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ized, programmatic, complementary exercise approach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sk-specific performance train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lance, Coordination, and Agility Training</a:t>
            </a:r>
            <a:endParaRPr b="0" lang="en-US" sz="36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ssery Techniqu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407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alance - Evidence</a:t>
            </a:r>
            <a:endParaRPr b="0" lang="en-US" sz="2800" spc="-1" strike="noStrike">
              <a:solidFill>
                <a:srgbClr val="04617b"/>
              </a:solidFill>
              <a:latin typeface="Calibri"/>
            </a:endParaRPr>
          </a:p>
        </p:txBody>
      </p:sp>
      <p:sp>
        <p:nvSpPr>
          <p:cNvPr id="280" name=""/>
          <p:cNvSpPr txBox="1"/>
          <p:nvPr/>
        </p:nvSpPr>
        <p:spPr>
          <a:xfrm>
            <a:off x="457200" y="1066320"/>
            <a:ext cx="8229600" cy="49532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sory-specific balance classes were held 3 times per week, for 1 hour each session, over 8-week</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sks included</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anding or walking on various support surfaces, such as a rocker board, foam, or narrow beam</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anding in a tandem position, a semitandem position, on one leg, or in a feet together</a:t>
            </a:r>
            <a:endParaRPr b="0" lang="en-US" sz="16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ogressions to these tasks included simultaneous alterations of visual and vestibular inputs</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ucted to close their eyes, to engage vision with a reading or tracking secondary task</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erform balance tasks with a distracting background</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ucted to tilt their head backward or to quickly move their head side to side and up and down.</a:t>
            </a:r>
            <a:endParaRPr b="0" lang="en-US" sz="16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ults</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ess destabilization within the first 5 seconds following vibration with or without a secondary task than there was at baseline or in the falls prevention education group</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raining effects were not maintained at the 8-week follow-up.</a:t>
            </a:r>
            <a:endParaRPr b="0" lang="en-US" sz="1600" spc="-1" strike="noStrike">
              <a:solidFill>
                <a:srgbClr val="000000"/>
              </a:solidFill>
              <a:latin typeface="Constantia"/>
            </a:endParaRPr>
          </a:p>
        </p:txBody>
      </p:sp>
      <p:sp>
        <p:nvSpPr>
          <p:cNvPr id="281" name="Text Box 4"/>
          <p:cNvSpPr/>
          <p:nvPr/>
        </p:nvSpPr>
        <p:spPr>
          <a:xfrm>
            <a:off x="304920" y="6095880"/>
            <a:ext cx="8610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t>
            </a:r>
            <a:r>
              <a:rPr b="0" i="1" lang="en-US" sz="1400" spc="-1" strike="noStrike">
                <a:solidFill>
                  <a:srgbClr val="000000"/>
                </a:solidFill>
                <a:latin typeface="Arial"/>
              </a:rPr>
              <a:t>stlake &amp; Culham.</a:t>
            </a:r>
            <a:r>
              <a:rPr b="0" lang="en-US" sz="1400" spc="-1" strike="noStrike">
                <a:solidFill>
                  <a:srgbClr val="000000"/>
                </a:solidFill>
                <a:latin typeface="Arial"/>
              </a:rPr>
              <a:t> </a:t>
            </a:r>
            <a:r>
              <a:rPr b="0" lang="en-US" sz="1400" spc="-1" strike="noStrike" u="sng">
                <a:solidFill>
                  <a:srgbClr val="e2d700"/>
                </a:solidFill>
                <a:uFillTx/>
                <a:latin typeface="Arial"/>
                <a:hlinkClick r:id="rId1"/>
              </a:rPr>
              <a:t>Sensory-Specific Balance Training in Older Adults: Effect on Proprioceptive Reintegration and Cognitive Demands</a:t>
            </a:r>
            <a:r>
              <a:rPr b="0" lang="en-US" sz="1400" spc="-1" strike="noStrike">
                <a:solidFill>
                  <a:srgbClr val="000000"/>
                </a:solidFill>
                <a:latin typeface="Arial"/>
              </a:rPr>
              <a:t> </a:t>
            </a:r>
            <a:r>
              <a:rPr b="1" lang="en-US" sz="1400" spc="-1" strike="noStrike">
                <a:solidFill>
                  <a:srgbClr val="000000"/>
                </a:solidFill>
                <a:latin typeface="Arial"/>
              </a:rPr>
              <a:t>Physical Therapy.</a:t>
            </a:r>
            <a:r>
              <a:rPr b="0" lang="en-US" sz="1400" spc="-1" strike="noStrike">
                <a:solidFill>
                  <a:srgbClr val="000000"/>
                </a:solidFill>
                <a:latin typeface="Arial"/>
              </a:rPr>
              <a:t> Oct 2007. Vol. 87, Iss. 10; p. 12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erapeutic Exercise</a:t>
            </a:r>
            <a:endParaRPr b="0" lang="en-US" sz="3200" spc="-1" strike="noStrike">
              <a:solidFill>
                <a:srgbClr val="04617b"/>
              </a:solidFill>
              <a:latin typeface="Calibri"/>
            </a:endParaRPr>
          </a:p>
        </p:txBody>
      </p:sp>
      <p:sp>
        <p:nvSpPr>
          <p:cNvPr id="283" name=""/>
          <p:cNvSpPr txBox="1"/>
          <p:nvPr/>
        </p:nvSpPr>
        <p:spPr>
          <a:xfrm>
            <a:off x="457200" y="1447560"/>
            <a:ext cx="8229600" cy="5181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dy mechanics and postural stabilization</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dy mechanics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al control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al stabilization activiti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e awareness train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ody Mechanics and Postural Stabilization</a:t>
            </a:r>
            <a:endParaRPr b="0" lang="en-US" sz="36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Body Mechanics -Evidence</a:t>
            </a:r>
            <a:endParaRPr b="0" lang="en-US" sz="3200" spc="-1" strike="noStrike">
              <a:solidFill>
                <a:srgbClr val="04617b"/>
              </a:solidFill>
              <a:latin typeface="Calibri"/>
            </a:endParaRPr>
          </a:p>
        </p:txBody>
      </p:sp>
      <p:sp>
        <p:nvSpPr>
          <p:cNvPr id="287" name=""/>
          <p:cNvSpPr txBox="1"/>
          <p:nvPr/>
        </p:nvSpPr>
        <p:spPr>
          <a:xfrm>
            <a:off x="457200" y="1599840"/>
            <a:ext cx="8229600" cy="38098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fusion study in prone and supin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ts were under conditions of</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mal breathing of room ai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assisted breathing of 45% O2</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isted PEEP</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entral, Middle, Dorsal measurements with ventral more perfuse in prone and dorsal more perfuse in supine</a:t>
            </a:r>
            <a:endParaRPr b="0" lang="en-US" sz="2800" spc="-1" strike="noStrike">
              <a:solidFill>
                <a:srgbClr val="000000"/>
              </a:solidFill>
              <a:latin typeface="Constantia"/>
            </a:endParaRPr>
          </a:p>
        </p:txBody>
      </p:sp>
      <p:sp>
        <p:nvSpPr>
          <p:cNvPr id="288" name="Text Box 4"/>
          <p:cNvSpPr/>
          <p:nvPr/>
        </p:nvSpPr>
        <p:spPr>
          <a:xfrm>
            <a:off x="380880" y="6095880"/>
            <a:ext cx="838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ki et al, Perfusion,  </a:t>
            </a:r>
            <a:r>
              <a:rPr b="0" lang="en-US" sz="1800" spc="-1" strike="noStrike" u="sng">
                <a:solidFill>
                  <a:srgbClr val="e2d700"/>
                </a:solidFill>
                <a:uFillTx/>
                <a:latin typeface="Arial"/>
                <a:hlinkClick r:id="rId1"/>
              </a:rPr>
              <a:t>Science Letter</a:t>
            </a:r>
            <a:r>
              <a:rPr b="1" lang="en-US" sz="1800" spc="-1" strike="noStrike">
                <a:solidFill>
                  <a:srgbClr val="000000"/>
                </a:solidFill>
                <a:latin typeface="Arial"/>
              </a:rPr>
              <a:t>. Atlanta: </a:t>
            </a:r>
            <a:r>
              <a:rPr b="0" lang="en-US" sz="1800" spc="-1" strike="noStrike" u="sng">
                <a:solidFill>
                  <a:srgbClr val="e2d700"/>
                </a:solidFill>
                <a:uFillTx/>
                <a:latin typeface="Arial"/>
                <a:hlinkClick r:id="rId2"/>
              </a:rPr>
              <a:t>Mar 25, 2008</a:t>
            </a:r>
            <a:r>
              <a:rPr b="1" lang="en-US" sz="1800" spc="-1" strike="noStrike">
                <a:solidFill>
                  <a:srgbClr val="000000"/>
                </a:solidFill>
                <a:latin typeface="Arial"/>
              </a:rPr>
              <a:t>. pg. 25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Body Mechanics -Evidence</a:t>
            </a:r>
            <a:endParaRPr b="0" lang="en-US" sz="32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 with ischemia of stable and unstable ang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salva and measured QT of EK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th valsalsa showed significant difference of EKG changes of QT seg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thors related to carrying or lifting restrictions of heavy objects with CAD</a:t>
            </a:r>
            <a:endParaRPr b="0" lang="en-US" sz="2600" spc="-1" strike="noStrike">
              <a:solidFill>
                <a:srgbClr val="000000"/>
              </a:solidFill>
              <a:latin typeface="Constantia"/>
            </a:endParaRPr>
          </a:p>
        </p:txBody>
      </p:sp>
      <p:sp>
        <p:nvSpPr>
          <p:cNvPr id="291" name="Text Box 4"/>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bay et al, Effects of valsalva maneuver on QT dispersion in patients with ischemic heart...</a:t>
            </a:r>
            <a:r>
              <a:rPr b="0" i="1" lang="en-US" sz="1800" spc="-1" strike="noStrike">
                <a:solidFill>
                  <a:srgbClr val="000000"/>
                </a:solidFill>
                <a:latin typeface="Arial"/>
              </a:rPr>
              <a:t>Angiology; </a:t>
            </a:r>
            <a:r>
              <a:rPr b="0" lang="en-US" sz="1800" spc="-1" strike="noStrike">
                <a:solidFill>
                  <a:srgbClr val="000000"/>
                </a:solidFill>
                <a:latin typeface="Arial"/>
              </a:rPr>
              <a:t>Nov 2001; 52,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a:t>
            </a:r>
            <a:endParaRPr b="0" lang="en-US" sz="36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 exercises</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rove motion of the chest wall, lengthen anterior chest wall, improve hip and knee flexor shorte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cle lengthe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ge of motion</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tch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lexibility Exercises</a:t>
            </a:r>
            <a:endParaRPr b="0" lang="en-US" sz="4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late muscle or limited join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warmup</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 with no pain for 30 sec</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5 days/week</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usculoskeletal, Integument, &amp; Neuromuscular Considerations</a:t>
            </a:r>
            <a:endParaRPr b="0" lang="en-US" sz="2900" spc="-1" strike="noStrike">
              <a:solidFill>
                <a:srgbClr val="04617b"/>
              </a:solidFill>
              <a:latin typeface="Calibri"/>
            </a:endParaRPr>
          </a:p>
        </p:txBody>
      </p:sp>
      <p:sp>
        <p:nvSpPr>
          <p:cNvPr id="210" name=""/>
          <p:cNvSpPr txBox="1"/>
          <p:nvPr/>
        </p:nvSpPr>
        <p:spPr>
          <a:xfrm>
            <a:off x="457200" y="1066680"/>
            <a:ext cx="8229600" cy="548640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culoskeletal</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steoporosis &amp; Spinal Deformitie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kylosing Spondylit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iopathic Scoli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ctus Deformitie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ulder Hypomobility</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gument</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arcoid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ic Lupus Erythematosu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leroderma</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jogren Syndrome</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uromuscular</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oke</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umatic Brain Injury</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inal Cord Injury</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ltiple Scler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kinson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llain-Barre Syndrome</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 Polio Syndrome</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lexibility - Evidence</a:t>
            </a:r>
            <a:endParaRPr b="0" lang="en-US" sz="4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 with ankylosing spondyl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x/wk for 3 month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 stretching exercises of entire spine and extremities along with aerobic and chest expansion exerci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gnificant improvement in cervical and thoracic spine movement AND chest expansion</a:t>
            </a:r>
            <a:endParaRPr b="0" lang="en-US" sz="2600" spc="-1" strike="noStrike">
              <a:solidFill>
                <a:srgbClr val="000000"/>
              </a:solidFill>
              <a:latin typeface="Constantia"/>
            </a:endParaRPr>
          </a:p>
        </p:txBody>
      </p:sp>
      <p:sp>
        <p:nvSpPr>
          <p:cNvPr id="298" name="Text Box 4"/>
          <p:cNvSpPr/>
          <p:nvPr/>
        </p:nvSpPr>
        <p:spPr>
          <a:xfrm>
            <a:off x="304920" y="6172200"/>
            <a:ext cx="8305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e et al , </a:t>
            </a:r>
            <a:r>
              <a:rPr b="1" lang="en-US" sz="1400" spc="-1" strike="noStrike">
                <a:solidFill>
                  <a:srgbClr val="000000"/>
                </a:solidFill>
                <a:latin typeface="Arial"/>
              </a:rPr>
              <a:t>Effects of a Multimodal Exercise Program for People With Ankylosing Spondylitis, </a:t>
            </a:r>
            <a:r>
              <a:rPr b="0" i="1" lang="en-US" sz="1400" spc="-1" strike="noStrike">
                <a:solidFill>
                  <a:srgbClr val="000000"/>
                </a:solidFill>
                <a:latin typeface="Arial"/>
              </a:rPr>
              <a:t>Physical Therapy; </a:t>
            </a:r>
            <a:r>
              <a:rPr b="0" lang="en-US" sz="1400" spc="-1" strike="noStrike">
                <a:solidFill>
                  <a:srgbClr val="000000"/>
                </a:solidFill>
                <a:latin typeface="Arial"/>
              </a:rPr>
              <a:t>Jul 2006; 86,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rapeutic Exercise</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t and locomotion train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al activities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it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ement and device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Gait and Locomotion Training</a:t>
            </a:r>
            <a:endParaRPr b="0" lang="en-US" sz="4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Gait and Locomotion - Evidence</a:t>
            </a:r>
            <a:endParaRPr b="0" lang="en-US" sz="4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aerobic exerci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ssery Pai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5" name="Picture 4" descr=""/>
          <p:cNvPicPr/>
          <p:nvPr/>
        </p:nvPicPr>
        <p:blipFill>
          <a:blip r:embed="rId1"/>
          <a:stretch/>
        </p:blipFill>
        <p:spPr>
          <a:xfrm>
            <a:off x="1828800" y="2819520"/>
            <a:ext cx="5486400" cy="3047760"/>
          </a:xfrm>
          <a:prstGeom prst="rect">
            <a:avLst/>
          </a:prstGeom>
          <a:ln w="0">
            <a:noFill/>
          </a:ln>
        </p:spPr>
      </p:pic>
      <p:sp>
        <p:nvSpPr>
          <p:cNvPr id="306" name="Text Box 5"/>
          <p:cNvSpPr/>
          <p:nvPr/>
        </p:nvSpPr>
        <p:spPr>
          <a:xfrm>
            <a:off x="762120" y="60199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ery et al, Coordinating transitional movements and breathing in patients with neuromotor dysfunction, NDTA Network, Nov/Dec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Gait and Locomotion - Evidence</a:t>
            </a:r>
            <a:endParaRPr b="0" lang="en-US" sz="36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Report of pt with C6 tetrapleg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ught breathing strategy and reducing  valsalva with tasks with w/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n forwa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t foot on footpla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erior lean for pressure relief</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le to perform tasks with new breathing strate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Text Box 4"/>
          <p:cNvSpPr/>
          <p:nvPr/>
        </p:nvSpPr>
        <p:spPr>
          <a:xfrm>
            <a:off x="304920" y="617220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derson, </a:t>
            </a:r>
            <a:r>
              <a:rPr b="1" lang="en-US" sz="1800" spc="-1" strike="noStrike">
                <a:solidFill>
                  <a:srgbClr val="000000"/>
                </a:solidFill>
                <a:latin typeface="Arial"/>
              </a:rPr>
              <a:t>Application of Ventilatory Strategies to Enhance Functional Activities for an...</a:t>
            </a:r>
            <a:r>
              <a:rPr b="0" i="1" lang="en-US" sz="1800" spc="-1" strike="noStrike">
                <a:solidFill>
                  <a:srgbClr val="000000"/>
                </a:solidFill>
                <a:latin typeface="Arial"/>
              </a:rPr>
              <a:t>Journal of Neurologic Physical Therapy; </a:t>
            </a:r>
            <a:r>
              <a:rPr b="0" lang="en-US" sz="1800" spc="-1" strike="noStrike">
                <a:solidFill>
                  <a:srgbClr val="000000"/>
                </a:solidFill>
                <a:latin typeface="Arial"/>
              </a:rPr>
              <a:t>Jun 2005; 29,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rapeutic Exercise</a:t>
            </a:r>
            <a:endParaRPr b="0" lang="en-US" sz="5000" spc="-1" strike="noStrike">
              <a:solidFill>
                <a:srgbClr val="04617b"/>
              </a:solidFill>
              <a:latin typeface="Calibri"/>
            </a:endParaRPr>
          </a:p>
        </p:txBody>
      </p:sp>
      <p:sp>
        <p:nvSpPr>
          <p:cNvPr id="311" name=""/>
          <p:cNvSpPr txBox="1"/>
          <p:nvPr/>
        </p:nvSpPr>
        <p:spPr>
          <a:xfrm>
            <a:off x="457200" y="1447560"/>
            <a:ext cx="8229600" cy="5257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xation</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eathing strategi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vement strategi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axation techniqu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laxation</a:t>
            </a:r>
            <a:br>
              <a:rPr sz="4000"/>
            </a:br>
            <a:endParaRPr b="0" lang="en-US" sz="4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laxation -Evidence</a:t>
            </a:r>
            <a:endParaRPr b="0" lang="en-US" sz="40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ve 60 minute individual treatments with the Papworth method from a respiratory physiotherapist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significant differences were found between the groups at baselin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GRQ Symptom mean scores were lower in the Papworth method group than in the control group after treatment and at 12 month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ijmegen and HADS scores were also significantly lower in the intervention group than in the control group</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jective respiratory measures did not differ significantly across the groups, apart from breathing rate. </a:t>
            </a:r>
            <a:endParaRPr b="0" lang="en-US" sz="2400" spc="-1" strike="noStrike">
              <a:solidFill>
                <a:srgbClr val="000000"/>
              </a:solidFill>
              <a:latin typeface="Constantia"/>
            </a:endParaRPr>
          </a:p>
        </p:txBody>
      </p:sp>
      <p:sp>
        <p:nvSpPr>
          <p:cNvPr id="316" name="Text Box 4"/>
          <p:cNvSpPr/>
          <p:nvPr/>
        </p:nvSpPr>
        <p:spPr>
          <a:xfrm>
            <a:off x="304920" y="6172200"/>
            <a:ext cx="8534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loway and West, Integrated breathing and relaxation training (the Papworth method) for adults with asthma in primary care: a randomised controlled trial , Thorax 2007; 62(12): 1039-10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rapeutic Exercise</a:t>
            </a:r>
            <a:endParaRPr b="0" lang="en-US" sz="50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 for head, neck, limb, pelvic-floor, trunk, and ventilatory muscles</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efficient motion</a:t>
            </a:r>
            <a:endParaRPr b="0" lang="en-US" sz="20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ive assistive, active, and resistive exercises (including concentric, dynamic/isotonic, eccentric, isokinetic, isometric, and plyometric)</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quatic program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sk-specific performance training</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ength, Power, and Endurance Training for Trunk, Extremities and Ventilatory Muscles</a:t>
            </a:r>
            <a:endParaRPr b="0" lang="en-US" sz="3200" spc="-1" strike="noStrike">
              <a:solidFill>
                <a:srgbClr val="04617b"/>
              </a:solidFill>
              <a:latin typeface="Calibri"/>
            </a:endParaRPr>
          </a:p>
        </p:txBody>
      </p:sp>
      <p:sp>
        <p:nvSpPr>
          <p:cNvPr id="320" name=""/>
          <p:cNvSpPr txBox="1"/>
          <p:nvPr/>
        </p:nvSpPr>
        <p:spPr>
          <a:xfrm>
            <a:off x="457200" y="1600200"/>
            <a:ext cx="8229600" cy="510552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de</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ROM, AROM</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a:t>
            </a:r>
            <a:endParaRPr b="0" lang="en-US" sz="18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nual</a:t>
            </a:r>
            <a:endParaRPr b="0" lang="en-US" sz="18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ights</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tensity</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corporate breathing with resistance</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 may start light and work up</a:t>
            </a:r>
            <a:endParaRPr b="0" lang="en-US" sz="18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12 reps, 1-3 sets</a:t>
            </a:r>
            <a:endParaRPr b="0" lang="en-US" sz="16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 of 1 rep max and then calculate</a:t>
            </a:r>
            <a:endParaRPr b="0" lang="en-US" sz="18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10 reps at 70% of max, 6 reps at 80% of max, 4 reps at 90% of max, 2 reps at 95% max and finally 1 rep at max</a:t>
            </a:r>
            <a:endParaRPr b="0" lang="en-US" sz="16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gh weight, low reps for strength</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w weight, high reps for endurance</a:t>
            </a:r>
            <a:endParaRPr b="0" lang="en-US" sz="1800" spc="-1" strike="noStrike">
              <a:solidFill>
                <a:srgbClr val="000000"/>
              </a:solidFill>
              <a:latin typeface="Constantia"/>
            </a:endParaRPr>
          </a:p>
          <a:p>
            <a:pPr lvl="1" marL="633240" indent="-24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ation</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quency</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ery other day or rotate muscle group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gi (Disablement) Model</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bility                               Inability to shop for family</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limitation              Limited walking distanc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irment                            Impaired aerobic capacity</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hology                              Myocardial Infarction</a:t>
            </a:r>
            <a:endParaRPr b="0" lang="en-US" sz="2400" spc="-1" strike="noStrike">
              <a:solidFill>
                <a:srgbClr val="000000"/>
              </a:solidFill>
              <a:latin typeface="Constantia"/>
            </a:endParaRPr>
          </a:p>
        </p:txBody>
      </p:sp>
      <p:sp>
        <p:nvSpPr>
          <p:cNvPr id="213" name="Down Arrow 6"/>
          <p:cNvSpPr/>
          <p:nvPr/>
        </p:nvSpPr>
        <p:spPr>
          <a:xfrm rot="10800000">
            <a:off x="914040" y="411480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n Arrow 7"/>
          <p:cNvSpPr/>
          <p:nvPr/>
        </p:nvSpPr>
        <p:spPr>
          <a:xfrm rot="10800000">
            <a:off x="985320" y="316224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Down Arrow 8"/>
          <p:cNvSpPr/>
          <p:nvPr/>
        </p:nvSpPr>
        <p:spPr>
          <a:xfrm rot="10800000">
            <a:off x="985320" y="2361960"/>
            <a:ext cx="484200" cy="533160"/>
          </a:xfrm>
          <a:prstGeom prst="downArrow">
            <a:avLst>
              <a:gd name="adj1" fmla="val 50000"/>
              <a:gd name="adj2" fmla="val 50024"/>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n Arrow 9"/>
          <p:cNvSpPr/>
          <p:nvPr/>
        </p:nvSpPr>
        <p:spPr>
          <a:xfrm rot="10800000">
            <a:off x="5714640" y="411156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Down Arrow 10"/>
          <p:cNvSpPr/>
          <p:nvPr/>
        </p:nvSpPr>
        <p:spPr>
          <a:xfrm rot="10800000">
            <a:off x="5714640" y="316224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Down Arrow 11"/>
          <p:cNvSpPr/>
          <p:nvPr/>
        </p:nvSpPr>
        <p:spPr>
          <a:xfrm rot="10800000">
            <a:off x="5714640" y="235908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Strength - Evidence</a:t>
            </a:r>
            <a:endParaRPr b="0" lang="en-US" sz="2800" spc="-1" strike="noStrike">
              <a:solidFill>
                <a:srgbClr val="04617b"/>
              </a:solidFill>
              <a:latin typeface="Calibri"/>
            </a:endParaRPr>
          </a:p>
        </p:txBody>
      </p:sp>
      <p:sp>
        <p:nvSpPr>
          <p:cNvPr id="322" name=""/>
          <p:cNvSpPr txBox="1"/>
          <p:nvPr/>
        </p:nvSpPr>
        <p:spPr>
          <a:xfrm>
            <a:off x="457200" y="1143000"/>
            <a:ext cx="8229600" cy="495288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ystematic review to determine the effect of inspiratory muscle training (IMT) on inspiratory muscle strength and endurance, exercise capacity, dyspnoea and quality of life for adolescents and adults living with cystic fibrosi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rticles were included if:</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1) participants were adolescents or adults with cystic fibrosis (413 years of age)</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2) an IMT group was compared to a sham IMT, no intervention or other intervention group</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3) the study used a randomized controlled trial or cross-over design</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 it was published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sults: The search strategy yielded 36 article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ta-analyses were limited to forced expiratory volume in 1 second (FEV1) and forced vital capacity (FVC)</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 difference in effect between the IMT group and the sham and/or control group.</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dividual study results were inconclusive for improvement in inspiratory muscle strength</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ne study demonstrated improvement in inspiratory muscle endurance.</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clusion: </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benefit of IMT in adolescents and adults with cystic fibrosis for outcomes of inspiratory muscle function is supported by weak evidence. </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ts impact on exercise capacity, dyspnoea and quality of life is not clear</a:t>
            </a:r>
            <a:endParaRPr b="0" lang="en-US" sz="1600" spc="-1" strike="noStrike">
              <a:solidFill>
                <a:srgbClr val="000000"/>
              </a:solidFill>
              <a:latin typeface="Constantia"/>
            </a:endParaRPr>
          </a:p>
        </p:txBody>
      </p:sp>
      <p:sp>
        <p:nvSpPr>
          <p:cNvPr id="323" name="Text Box 4"/>
          <p:cNvSpPr/>
          <p:nvPr/>
        </p:nvSpPr>
        <p:spPr>
          <a:xfrm>
            <a:off x="457200" y="609588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d et al, </a:t>
            </a:r>
            <a:r>
              <a:rPr b="0" lang="en-US" sz="1800" spc="-1" strike="noStrike" u="sng">
                <a:solidFill>
                  <a:srgbClr val="e2d700"/>
                </a:solidFill>
                <a:uFillTx/>
                <a:latin typeface="Arial"/>
                <a:hlinkClick r:id="rId1"/>
              </a:rPr>
              <a:t>Effects of inspiratory muscle training in cystic fibrosis: a systematic review</a:t>
            </a:r>
            <a:r>
              <a:rPr b="0" lang="en-US" sz="1800" spc="-1" strike="noStrike">
                <a:solidFill>
                  <a:srgbClr val="000000"/>
                </a:solidFill>
                <a:latin typeface="Arial"/>
              </a:rPr>
              <a:t>, Cli</a:t>
            </a:r>
            <a:r>
              <a:rPr b="1" lang="en-US" sz="1800" spc="-1" strike="noStrike">
                <a:solidFill>
                  <a:srgbClr val="000000"/>
                </a:solidFill>
                <a:latin typeface="Arial"/>
              </a:rPr>
              <a:t>nical Rehabilitation.</a:t>
            </a:r>
            <a:r>
              <a:rPr b="0" lang="en-US" sz="1800" spc="-1" strike="noStrike">
                <a:solidFill>
                  <a:srgbClr val="000000"/>
                </a:solidFill>
                <a:latin typeface="Arial"/>
              </a:rPr>
              <a:t> London: Oct 2008. Vol. 22, Iss. 1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Goals and Outcomes Impact on Pathology</a:t>
            </a:r>
            <a:endParaRPr b="0" lang="en-US" sz="3200" spc="-1" strike="noStrike">
              <a:solidFill>
                <a:srgbClr val="04617b"/>
              </a:solidFill>
              <a:latin typeface="Calibri"/>
            </a:endParaRPr>
          </a:p>
        </p:txBody>
      </p:sp>
      <p:sp>
        <p:nvSpPr>
          <p:cNvPr id="325" name=""/>
          <p:cNvSpPr txBox="1"/>
          <p:nvPr/>
        </p:nvSpPr>
        <p:spPr>
          <a:xfrm>
            <a:off x="457200" y="1447560"/>
            <a:ext cx="8229600" cy="52578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telectasis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Joint swelling, inflammation, restric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Nutrient delivery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steogenic effects of exercise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ain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hysiological respons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oft tissue swelling, inflammation, restric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reased oxygen demand symptom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issue perfusion and oxygen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04920"/>
            <a:ext cx="8229600" cy="576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en-US" sz="2400" spc="-1" strike="noStrike">
                <a:solidFill>
                  <a:srgbClr val="04617b"/>
                </a:solidFill>
                <a:latin typeface="Calibri"/>
              </a:rPr>
              <a:t>Goals and Outcomes Impact on Impairments</a:t>
            </a:r>
            <a:br>
              <a:rPr sz="2400"/>
            </a:br>
            <a:endParaRPr b="0" lang="en-US" sz="2400" spc="-1" strike="noStrike">
              <a:solidFill>
                <a:srgbClr val="04617b"/>
              </a:solidFill>
              <a:latin typeface="Calibri"/>
            </a:endParaRPr>
          </a:p>
        </p:txBody>
      </p:sp>
      <p:sp>
        <p:nvSpPr>
          <p:cNvPr id="327" name=""/>
          <p:cNvSpPr txBox="1"/>
          <p:nvPr/>
        </p:nvSpPr>
        <p:spPr>
          <a:xfrm>
            <a:off x="457200" y="837720"/>
            <a:ext cx="8229600" cy="5791320"/>
          </a:xfrm>
          <a:prstGeom prst="rect">
            <a:avLst/>
          </a:prstGeom>
          <a:noFill/>
          <a:ln w="0">
            <a:noFill/>
          </a:ln>
        </p:spPr>
        <p:txBody>
          <a:bodyPr anchor="t">
            <a:normAutofit fontScale="95000"/>
          </a:bodyPr>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erobic capacity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irway clearance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alance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ndurance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nergy expenditure per unit of work is decreas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ait, locomotion, and balance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gumentary integrity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oint integrity and mobility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tor function (motor control and motor learning)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uscle performance (strength, power, and endurance)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ostural control is improv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Quality and quantity of movement between and across body </a:t>
            </a:r>
            <a:r>
              <a:rPr b="0" lang="en-US" sz="2000" spc="-1" strike="noStrike">
                <a:solidFill>
                  <a:srgbClr val="000000"/>
                </a:solidFill>
                <a:latin typeface="Constantia"/>
              </a:rPr>
              <a:t>	</a:t>
            </a:r>
            <a:r>
              <a:rPr b="0" lang="en-US" sz="2000" spc="-1" strike="noStrike">
                <a:solidFill>
                  <a:srgbClr val="000000"/>
                </a:solidFill>
                <a:latin typeface="Constantia"/>
              </a:rPr>
              <a:t>segments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ange of motion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laxation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nsory awareness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Ventilation and respiration/gas exchange are improv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eight-bearing status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ork of breathing is decreas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Impact on Functional Limitations and Disabilities</a:t>
            </a:r>
            <a:endParaRPr b="0" lang="en-US" sz="2800" spc="-1" strike="noStrike">
              <a:solidFill>
                <a:srgbClr val="04617b"/>
              </a:solidFill>
              <a:latin typeface="Calibri"/>
            </a:endParaRPr>
          </a:p>
        </p:txBody>
      </p:sp>
      <p:sp>
        <p:nvSpPr>
          <p:cNvPr id="329" name=""/>
          <p:cNvSpPr txBox="1"/>
          <p:nvPr/>
        </p:nvSpPr>
        <p:spPr>
          <a:xfrm>
            <a:off x="457200" y="1676520"/>
            <a:ext cx="8229600" cy="502920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Limitation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bility to perform physical actions, tasks, or activities </a:t>
            </a:r>
            <a:r>
              <a:rPr b="0" lang="en-US" sz="2400" spc="-1" strike="noStrike">
                <a:solidFill>
                  <a:srgbClr val="000000"/>
                </a:solidFill>
                <a:latin typeface="Constantia"/>
              </a:rPr>
              <a:t>	</a:t>
            </a:r>
            <a:r>
              <a:rPr b="0" lang="en-US" sz="2400" spc="-1" strike="noStrike">
                <a:solidFill>
                  <a:srgbClr val="000000"/>
                </a:solidFill>
                <a:latin typeface="Constantia"/>
              </a:rPr>
              <a:t>related to self-care, home management, work </a:t>
            </a:r>
            <a:r>
              <a:rPr b="0" lang="en-US" sz="2400" spc="-1" strike="noStrike">
                <a:solidFill>
                  <a:srgbClr val="000000"/>
                </a:solidFill>
                <a:latin typeface="Constantia"/>
              </a:rPr>
              <a:t>	</a:t>
            </a:r>
            <a:r>
              <a:rPr b="0" lang="en-US" sz="2400" spc="-1" strike="noStrike">
                <a:solidFill>
                  <a:srgbClr val="000000"/>
                </a:solidFill>
                <a:latin typeface="Constantia"/>
              </a:rPr>
              <a:t>(job/school/play), community, and leisure is </a:t>
            </a:r>
            <a:r>
              <a:rPr b="0" lang="en-US" sz="2400" spc="-1" strike="noStrike">
                <a:solidFill>
                  <a:srgbClr val="000000"/>
                </a:solidFill>
                <a:latin typeface="Constantia"/>
              </a:rPr>
              <a:t>	</a:t>
            </a:r>
            <a:r>
              <a:rPr b="0" lang="en-US" sz="2400" spc="-1" strike="noStrike">
                <a:solidFill>
                  <a:srgbClr val="000000"/>
                </a:solidFill>
                <a:latin typeface="Constantia"/>
              </a:rPr>
              <a:t>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evel of supervision required for task performance is </a:t>
            </a:r>
            <a:r>
              <a:rPr b="0" lang="en-US" sz="2400" spc="-1" strike="noStrike">
                <a:solidFill>
                  <a:srgbClr val="000000"/>
                </a:solidFill>
                <a:latin typeface="Constantia"/>
              </a:rPr>
              <a:t>	</a:t>
            </a:r>
            <a:r>
              <a:rPr b="0" lang="en-US" sz="2400" spc="-1" strike="noStrike">
                <a:solidFill>
                  <a:srgbClr val="000000"/>
                </a:solidFill>
                <a:latin typeface="Constantia"/>
              </a:rPr>
              <a:t>de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erformance of and independence in ADL and IADL with </a:t>
            </a:r>
            <a:r>
              <a:rPr b="0" lang="en-US" sz="2400" spc="-1" strike="noStrike">
                <a:solidFill>
                  <a:srgbClr val="000000"/>
                </a:solidFill>
                <a:latin typeface="Constantia"/>
              </a:rPr>
              <a:t>	</a:t>
            </a:r>
            <a:r>
              <a:rPr b="0" lang="en-US" sz="2400" spc="-1" strike="noStrike">
                <a:solidFill>
                  <a:srgbClr val="000000"/>
                </a:solidFill>
                <a:latin typeface="Constantia"/>
              </a:rPr>
              <a:t>or without devices and equipment are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lerance of positions and activities is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n disabiliti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bility to assume or resume required self-care, home </a:t>
            </a:r>
            <a:r>
              <a:rPr b="0" lang="en-US" sz="2400" spc="-1" strike="noStrike">
                <a:solidFill>
                  <a:srgbClr val="000000"/>
                </a:solidFill>
                <a:latin typeface="Constantia"/>
              </a:rPr>
              <a:t>	</a:t>
            </a:r>
            <a:r>
              <a:rPr b="0" lang="en-US" sz="2400" spc="-1" strike="noStrike">
                <a:solidFill>
                  <a:srgbClr val="000000"/>
                </a:solidFill>
                <a:latin typeface="Constantia"/>
              </a:rPr>
              <a:t>management, work (job/school/play), community, </a:t>
            </a:r>
            <a:r>
              <a:rPr b="0" lang="en-US" sz="2400" spc="-1" strike="noStrike">
                <a:solidFill>
                  <a:srgbClr val="000000"/>
                </a:solidFill>
                <a:latin typeface="Constantia"/>
              </a:rPr>
              <a:t>	</a:t>
            </a:r>
            <a:r>
              <a:rPr b="0" lang="en-US" sz="2400" spc="-1" strike="noStrike">
                <a:solidFill>
                  <a:srgbClr val="000000"/>
                </a:solidFill>
                <a:latin typeface="Constantia"/>
              </a:rPr>
              <a:t>and leisure roles is improv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Risk Reduction/Prevention </a:t>
            </a:r>
            <a:br>
              <a:rPr sz="2800"/>
            </a:br>
            <a:r>
              <a:rPr b="0" lang="en-US" sz="2800" spc="-1" strike="noStrike">
                <a:solidFill>
                  <a:srgbClr val="04617b"/>
                </a:solidFill>
                <a:latin typeface="Calibri"/>
              </a:rPr>
              <a:t>Health, Wellness, and Fitness</a:t>
            </a:r>
            <a:endParaRPr b="0" lang="en-US" sz="2800" spc="-1" strike="noStrike">
              <a:solidFill>
                <a:srgbClr val="04617b"/>
              </a:solidFill>
              <a:latin typeface="Calibri"/>
            </a:endParaRPr>
          </a:p>
        </p:txBody>
      </p:sp>
      <p:sp>
        <p:nvSpPr>
          <p:cNvPr id="331" name=""/>
          <p:cNvSpPr txBox="1"/>
          <p:nvPr/>
        </p:nvSpPr>
        <p:spPr>
          <a:xfrm>
            <a:off x="457200" y="1752120"/>
            <a:ext cx="8229600" cy="495324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Reduction/Prevention</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operative and postoperative complications are </a:t>
            </a:r>
            <a:r>
              <a:rPr b="0" lang="en-US" sz="2400" spc="-1" strike="noStrike">
                <a:solidFill>
                  <a:srgbClr val="000000"/>
                </a:solidFill>
                <a:latin typeface="Constantia"/>
              </a:rPr>
              <a:t>	</a:t>
            </a:r>
            <a:r>
              <a:rPr b="0" lang="en-US" sz="2400" spc="-1" strike="noStrike">
                <a:solidFill>
                  <a:srgbClr val="000000"/>
                </a:solidFill>
                <a:latin typeface="Constantia"/>
              </a:rPr>
              <a:t>reduced.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factors are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of recurrence of condition is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of secondary impairment is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afety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elf-management of symptom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n Health, Wellness, and Fitnes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itnes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ealth statu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hysical capacity is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hysical function is improv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927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Impact on Societal Resources</a:t>
            </a:r>
            <a:br>
              <a:rPr sz="2800"/>
            </a:br>
            <a:r>
              <a:rPr b="0" lang="en-US" sz="2800" spc="-1" strike="noStrike">
                <a:solidFill>
                  <a:srgbClr val="04617b"/>
                </a:solidFill>
                <a:latin typeface="Calibri"/>
              </a:rPr>
              <a:t>&amp; Patient Satisfaction</a:t>
            </a:r>
            <a:endParaRPr b="0" lang="en-US" sz="2800" spc="-1" strike="noStrike">
              <a:solidFill>
                <a:srgbClr val="04617b"/>
              </a:solidFill>
              <a:latin typeface="Calibri"/>
            </a:endParaRPr>
          </a:p>
        </p:txBody>
      </p:sp>
      <p:sp>
        <p:nvSpPr>
          <p:cNvPr id="333" name=""/>
          <p:cNvSpPr txBox="1"/>
          <p:nvPr/>
        </p:nvSpPr>
        <p:spPr>
          <a:xfrm>
            <a:off x="457200" y="1371240"/>
            <a:ext cx="8229600" cy="533412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cietal Resourc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tilization of physical therapy services is optimiz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tilization of physical therapy services results in efficient use of </a:t>
            </a:r>
            <a:r>
              <a:rPr b="0" lang="en-US" sz="2000" spc="-1" strike="noStrike">
                <a:solidFill>
                  <a:srgbClr val="000000"/>
                </a:solidFill>
                <a:latin typeface="Constantia"/>
              </a:rPr>
              <a:t>	</a:t>
            </a:r>
            <a:r>
              <a:rPr b="0" lang="en-US" sz="2000" spc="-1" strike="noStrike">
                <a:solidFill>
                  <a:srgbClr val="000000"/>
                </a:solidFill>
                <a:latin typeface="Constantia"/>
              </a:rPr>
              <a:t>health care dollar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tient/client Satisfaction</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ccess, availability, and services provided are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dministrative management of practice is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inical proficiency of physical therapist is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ordination of care is acceptable to 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st of health care services is decreas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nsity of care is decreas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rpersonal skills of physical therapist are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 family, and </a:t>
            </a:r>
            <a:r>
              <a:rPr b="0" lang="en-US" sz="2000" spc="-1" strike="noStrike">
                <a:solidFill>
                  <a:srgbClr val="000000"/>
                </a:solidFill>
                <a:latin typeface="Constantia"/>
              </a:rPr>
              <a:t>	</a:t>
            </a:r>
            <a:r>
              <a:rPr b="0" lang="en-US" sz="2000" spc="-1" strike="noStrike">
                <a:solidFill>
                  <a:srgbClr val="000000"/>
                </a:solidFill>
                <a:latin typeface="Constantia"/>
              </a:rPr>
              <a:t>significant other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nse of well-being is improv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essors are decreas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1143000"/>
            <a:ext cx="82263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0" name="Picture 3" descr=""/>
          <p:cNvPicPr/>
          <p:nvPr/>
        </p:nvPicPr>
        <p:blipFill>
          <a:blip r:embed="rId1"/>
          <a:stretch/>
        </p:blipFill>
        <p:spPr>
          <a:xfrm>
            <a:off x="2001960" y="0"/>
            <a:ext cx="5140080" cy="6858000"/>
          </a:xfrm>
          <a:prstGeom prst="rect">
            <a:avLst/>
          </a:prstGeom>
          <a:ln w="0">
            <a:noFill/>
          </a:ln>
        </p:spPr>
      </p:pic>
      <p:sp>
        <p:nvSpPr>
          <p:cNvPr id="221" name="Rectangle 4"/>
          <p:cNvSpPr/>
          <p:nvPr/>
        </p:nvSpPr>
        <p:spPr>
          <a:xfrm>
            <a:off x="2592360" y="632448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APTA, Guide PT Practice, 1st ed.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 for Cardiopulmonary Practice Patterns</a:t>
            </a:r>
            <a:endParaRPr b="0" lang="en-US" sz="36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erobic capacity/endurance conditioning or reconditio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lance, coordination, and agility trai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ody mechanics and postural stabilizatio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lexibility exercise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ait and locomotion trai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xatio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ength, power, and endurance training for head, neck, limb, pelvic-floor, trunk, and ventilatory musc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90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Inclusion Criteria</a:t>
            </a:r>
            <a:endParaRPr b="0" lang="en-US" sz="2900" spc="-1" strike="noStrike">
              <a:solidFill>
                <a:srgbClr val="04617b"/>
              </a:solidFill>
              <a:latin typeface="Calibri"/>
            </a:endParaRPr>
          </a:p>
        </p:txBody>
      </p:sp>
      <p:sp>
        <p:nvSpPr>
          <p:cNvPr id="225" name=""/>
          <p:cNvSpPr txBox="1"/>
          <p:nvPr/>
        </p:nvSpPr>
        <p:spPr>
          <a:xfrm>
            <a:off x="457200" y="1371240"/>
            <a:ext cx="8229600" cy="52578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Factors or Consequences of Patholog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iabet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Family history of heart diseas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Hypercholesterolemia or hyperlipidemia</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Hypertens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bes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edentary lifesty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mok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irments, Functional Limitations, or Disabiliti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ecreased functional work capac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ecreased maximum aerobic capac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yspnea on exer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edentary job ro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65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Ther Ex</a:t>
            </a:r>
            <a:endParaRPr b="0" lang="en-US" sz="2900" spc="-1" strike="noStrike">
              <a:solidFill>
                <a:srgbClr val="04617b"/>
              </a:solidFill>
              <a:latin typeface="Calibri"/>
            </a:endParaRPr>
          </a:p>
        </p:txBody>
      </p:sp>
      <p:sp>
        <p:nvSpPr>
          <p:cNvPr id="227" name=""/>
          <p:cNvSpPr txBox="1"/>
          <p:nvPr/>
        </p:nvSpPr>
        <p:spPr>
          <a:xfrm>
            <a:off x="457200" y="1219320"/>
            <a:ext cx="8229600" cy="5410080"/>
          </a:xfrm>
          <a:prstGeom prst="rect">
            <a:avLst/>
          </a:prstGeom>
          <a:noFill/>
          <a:ln w="0">
            <a:noFill/>
          </a:ln>
        </p:spPr>
        <p:txBody>
          <a:bodyPr anchor="t">
            <a:normAutofit/>
          </a:bodyPr>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erobic capacity/endurance activities using ergometers, treadmills, steppers, pulleys, weights, hydraulics, elastic resistance bands, robotics, and mechanical or electromechanical devices</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Gait and locomotion training - Walking and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wheelchair propulsion program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reased workload over time</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 exercis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uscle lengthening</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ange of motion</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retching</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dy mechanic and ergonomics training</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thing exercises</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ure awareness train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01:20:05Z</dcterms:created>
  <dc:creator>lovascol</dc:creator>
  <dc:description/>
  <dc:language>en-US</dc:language>
  <cp:lastModifiedBy>SWEET, CHRISTINA</cp:lastModifiedBy>
  <cp:lastPrinted>2013-06-04T15:33:45Z</cp:lastPrinted>
  <dcterms:modified xsi:type="dcterms:W3CDTF">2013-06-06T13:07:52Z</dcterms:modified>
  <cp:revision>29</cp:revision>
  <dc:subject/>
  <dc:title>Therapeutic Exercise</dc:title>
</cp:coreProperties>
</file>