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B790-5852-4164-BEDC-55F22A9EB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497E-7D4B-4141-8142-8699F40DC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43C0-ADDB-421F-8F07-1C852D9D0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BB8F-287A-4D15-AEBB-B918BD6E3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1ADE-2727-424B-B4BF-CA0D8B932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FACF-3C24-47CC-B060-8FB12C6BF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AC3E-694F-44C2-A3FC-C219F86B4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1D67-D86E-443E-9C6C-3C35AFAC6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365F-15D8-445A-8D03-36A41A22D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0869-5D3C-4E34-9AA5-7691146BC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51C1-2C65-4306-82E1-011A4653C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ED48-C601-4654-9952-EC3A056B5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5887-CB0B-4120-8777-AF255AE4D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65BB-DBF0-4059-844F-CEC438D4B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852C-7EF8-46C8-B299-AEC5FFCFF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5DC6-BB4B-4489-8E47-39ED3852C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5F93-CA3D-41EA-9B68-750A75778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0600-C454-4DD1-A67F-7414A6E63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1562-7168-479C-B47D-CCAD2CB17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D5B3-81EE-4A14-B096-C89D8BBA5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C27B-153C-4F15-903A-F13009124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603A-E39E-43B0-B952-40BF579EA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2CB4-009F-474F-A790-D5E8C4A4B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2E03-A4AC-475F-A39F-2755D235E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8D06-E4BA-4CD4-9D2F-010B4171F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ED4B-907C-4ECB-B33A-04ABD9B59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8D0F-7EAA-4B2F-A7EB-6C8D324C3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AD88-2F92-4C12-A295-B7E472953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D666-12E6-40B5-BB64-16E0104EF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A0B2-7A59-4637-B91E-BCA7A8CC4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6DBA-EC9E-487A-B2D3-F7417A428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D1AB-D3F0-474A-8A58-ED649212F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BEC8-2C95-4222-9D8B-0A62DE2D3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83D2-3FEC-44A5-A544-D257F99BA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17CA-51B0-471B-B0F2-0C001930E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FAE2-7BA0-4D7F-AA74-AD4764E76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7D2B-682B-4A57-9018-C5CC14404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8A7C-48A5-482E-8575-3B8D7CD8E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D235-4D72-428F-A2AE-DC9C027D5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9DA4-F736-4E0D-9776-7B2DA182E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54DD-0C34-458A-B09D-A95CF763D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6865-2DFD-4E73-8632-E30922173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0A85-AB4E-439C-A95D-D6CDFA176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9374-04BF-48F0-AC88-AAED7EF87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0B31-9600-491E-9985-8B445B005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D5B4-BE32-48FD-BE79-E89C4B3D8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1DF7-71F0-4BC9-AD66-186E596E3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E8A6-9FB9-4987-B0DB-9116314BA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3A37-B8E2-40FC-9769-3D1DC219A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A6EA-28B3-4CBB-BD59-54481DAA4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47A8-1242-4999-95EB-96157B15E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61F2-2291-499A-841C-274C1BC1D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DB3C-47D9-4F7D-BC55-D90E7C2C5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DD11-E518-456A-903C-F090C5F39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5047-07D5-490C-968A-D51F24BC2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F45E-8132-402A-8152-EB28D2214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D4F1B-99F0-49FF-B416-BD7D2C189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71D36-EA82-4F5B-8BEF-F88EF47CC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7C603-197C-4FF1-9805-911DBB182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BF5EF-C283-4B8B-A4A7-C2C6EA7A1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C35F3-7C73-4FD0-92B7-566192E49A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D13A1-77CB-41DE-9051-DDE18F607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F2F3C-2171-4FEB-8343-F8D8A17C1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B9797-B69E-48EE-AAC0-8E15DF079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95AFC-15E5-42A9-8C4F-F8990E4D7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20594-5B47-48FF-BDBC-5F4B346FC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C7C09-BF09-4457-86B4-E91364ACA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87449-05F9-453F-8E57-0FF4E2F61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79A4F-7A07-4AAE-A7F0-7E16A180A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BD543-5E87-443A-A3DC-C723F199F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03ABE-F132-4D62-BE91-CA560016C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08500-DB71-4301-B4B2-531FEDD1E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FB683-024D-4FAE-B29D-281F2F372F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A67C02-6222-407D-B0CC-09D1D0909B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027F43-9503-4270-B583-4AB4F83281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09B5C-9D8F-4980-8045-B05948E214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BB91B-AC02-4201-8E68-53DE9BC12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C49F9E-0DDE-4731-B681-3B66EA95F5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B0329-FB52-417A-A2D1-BE028F278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929EC-DBE4-4E36-9B93-5EDA11A30B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7D70DC-192E-4298-861C-ECB55AB52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E0957-2B31-4B51-B84A-4CFD8DF8B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21A90-8CB8-42D2-B597-FD6E99CED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2D118-23AF-427B-95CF-9078A409D3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E760AF-C0B0-4B20-BA04-A773853383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63B665-B2CF-4E77-A688-3523C5FE2E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6AF677-2814-4EC3-9D53-A43BA637B1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391A5D-F331-4972-8064-C8FEB419F7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3DAB1-1539-4A63-B14F-CC7A8660A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4B31D-5CEC-4486-B657-3CF4C80C0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96D89-082A-485E-B995-15E83A34E8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BCF2CE-F8CC-4AEC-BFFA-061808D417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8E4920-C624-4C86-AA02-891F4218AE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475C2A-E7DB-4DE6-9155-4E2DAE6D3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CEA7D-E74A-42C2-B510-30A47B29AC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ED4FB-C037-456F-BFF5-EC77E5A4D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DF2338-55DE-4D4B-A47A-16E46A8CA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F05475-6B0B-41E5-9F94-2CDABCD07B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753E17-5104-4B7B-9AD7-3F86638656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D6A0B-0D6E-4D6D-88D9-A0CDFDF47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77290-0273-4EE6-BE91-456490626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9D13E-FF75-42B1-8A95-CE30D3A68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B4C50-3063-4EA4-8C5E-06AB9A9A9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9FEA-A852-49B4-AA17-4FB469462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0E8B-AB71-4302-AEBE-FCAB1C50429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AF36-A341-47FA-AADF-15C7EBB13EA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87B7-DE82-4B92-B0F2-9A598B88CC8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3EF8-4D1D-4488-A779-A6B2EA93AC6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proquest.umi.com/pqdweb?index=23&amp;did=1354083031&amp;SrchMode=1&amp;sid=12&amp;Fmt=3&amp;VInst=PROD&amp;VType=PQD&amp;RQT=309&amp;VName=PQD&amp;TS=1245768979&amp;clientId=76575"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proquest.umi.com/pqdweb?RQT=318&amp;pmid=51267&amp;TS=1245772478&amp;clientId=76575&amp;VInst=PROD&amp;VName=PQD&amp;VType=PQD" TargetMode="External"/><Relationship Id="rId2" Type="http://schemas.openxmlformats.org/officeDocument/2006/relationships/hyperlink" Target="http://proquest.umi.com/pqdweb?RQT=572&amp;VType=PQD&amp;VName=PQD&amp;VInst=PROD&amp;pmid=51267&amp;pcid=38680441&amp;SrchMode=3"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proquest.umi.com/pqdweb?index=4&amp;did=1582086551&amp;SrchMode=1&amp;sid=42&amp;Fmt=6&amp;VInst=PROD&amp;VType=PQD&amp;RQT=309&amp;VName=PQD&amp;TS=1245775922&amp;clientId=76575" TargetMode="External"/><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536400" y="1371600"/>
            <a:ext cx="7851960" cy="2322360"/>
          </a:xfrm>
          <a:prstGeom prst="rect">
            <a:avLst/>
          </a:prstGeom>
          <a:ln w="0">
            <a:noFill/>
          </a:ln>
        </p:spPr>
      </p:pic>
      <p:sp>
        <p:nvSpPr>
          <p:cNvPr id="203" name="PlaceHolder 1"/>
          <p:cNvSpPr>
            <a:spLocks noGrp="1"/>
          </p:cNvSpPr>
          <p:nvPr>
            <p:ph type="subTitle"/>
          </p:nvPr>
        </p:nvSpPr>
        <p:spPr>
          <a:xfrm>
            <a:off x="533160" y="3352320"/>
            <a:ext cx="7854840" cy="1752840"/>
          </a:xfrm>
          <a:prstGeom prst="rect">
            <a:avLst/>
          </a:prstGeom>
          <a:noFill/>
          <a:ln w="0">
            <a:noFill/>
          </a:ln>
        </p:spPr>
        <p:txBody>
          <a:bodyPr lIns="0" rIns="18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Natalia Fernandez, PT, MS, MSc, CCS</a:t>
            </a: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University of Michigan Health Care System</a:t>
            </a: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Department of Physical Medicine and Rehabilitation.</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788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Pattern A:  Prevention and Risk</a:t>
            </a:r>
            <a:br>
              <a:rPr sz="2900"/>
            </a:br>
            <a:r>
              <a:rPr b="0" lang="en-US" sz="2900" spc="-1" strike="noStrike">
                <a:solidFill>
                  <a:srgbClr val="04617b"/>
                </a:solidFill>
                <a:latin typeface="Calibri"/>
              </a:rPr>
              <a:t>Ther Ex</a:t>
            </a:r>
            <a:endParaRPr b="0" lang="en-US" sz="2900" spc="-1" strike="noStrike">
              <a:solidFill>
                <a:srgbClr val="04617b"/>
              </a:solidFill>
              <a:latin typeface="Calibri"/>
            </a:endParaRPr>
          </a:p>
        </p:txBody>
      </p:sp>
      <p:sp>
        <p:nvSpPr>
          <p:cNvPr id="229" name=""/>
          <p:cNvSpPr txBox="1"/>
          <p:nvPr/>
        </p:nvSpPr>
        <p:spPr>
          <a:xfrm>
            <a:off x="457200" y="1143000"/>
            <a:ext cx="8229600" cy="5486400"/>
          </a:xfrm>
          <a:prstGeom prst="rect">
            <a:avLst/>
          </a:prstGeom>
          <a:noFill/>
          <a:ln w="0">
            <a:noFill/>
          </a:ln>
        </p:spPr>
        <p:txBody>
          <a:bodyPr anchor="t">
            <a:normAutofit/>
          </a:bodyPr>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xation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Breathing strategies</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Movement strategies</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Relaxation techniques</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tandardized, programmatic, complementary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exercise approaches</a:t>
            </a: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ength, power, and endurance training</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ctive assistive, active, and resistive exercises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including concentric, dynamic/isotonic,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isometric, and plyometric - manual resistance,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pulleys, weights, hydraulics, elastic resistance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bands, robotics and mechanical or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electromechanical devices)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quatic programs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tandardized, programmatic, complementary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exercise approaches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Task-specific performance training </a:t>
            </a: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Pattern A:  Prevention and Risk </a:t>
            </a:r>
            <a:br>
              <a:rPr sz="3600"/>
            </a:br>
            <a:r>
              <a:rPr b="0" lang="en-US" sz="3600" spc="-1" strike="noStrike">
                <a:solidFill>
                  <a:srgbClr val="04617b"/>
                </a:solidFill>
                <a:latin typeface="Calibri"/>
              </a:rPr>
              <a:t>Patient Education</a:t>
            </a:r>
            <a:endParaRPr b="0" lang="en-US" sz="36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ease</a:t>
            </a:r>
            <a:endParaRPr b="0" lang="en-US" sz="28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herosclerosis</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yperlipedemia</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ypertension</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abetes</a:t>
            </a:r>
            <a:endParaRPr b="0" lang="en-US" sz="24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e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ercise</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moking</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ealth &amp; Wellnes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tness</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828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B:  Deconditioning</a:t>
            </a:r>
            <a:br>
              <a:rPr sz="3200"/>
            </a:br>
            <a:r>
              <a:rPr b="0" lang="en-US" sz="3200" spc="-1" strike="noStrike">
                <a:solidFill>
                  <a:srgbClr val="04617b"/>
                </a:solidFill>
                <a:latin typeface="Calibri"/>
              </a:rPr>
              <a:t>Inclusion Criteria</a:t>
            </a:r>
            <a:endParaRPr b="0" lang="en-US" sz="3200" spc="-1" strike="noStrike">
              <a:solidFill>
                <a:srgbClr val="04617b"/>
              </a:solidFill>
              <a:latin typeface="Calibri"/>
            </a:endParaRPr>
          </a:p>
        </p:txBody>
      </p:sp>
      <p:sp>
        <p:nvSpPr>
          <p:cNvPr id="233" name=""/>
          <p:cNvSpPr txBox="1"/>
          <p:nvPr/>
        </p:nvSpPr>
        <p:spPr>
          <a:xfrm>
            <a:off x="457200" y="1371600"/>
            <a:ext cx="8229600" cy="5486400"/>
          </a:xfrm>
          <a:prstGeom prst="rect">
            <a:avLst/>
          </a:prstGeom>
          <a:noFill/>
          <a:ln w="0">
            <a:noFill/>
          </a:ln>
        </p:spPr>
        <p:txBody>
          <a:bodyPr anchor="t">
            <a:normAutofit fontScale="98000"/>
          </a:bodyPr>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 Factors or Consequences of Pathology </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cquired immune deficiency syndrome</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Cancer</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Cardiovascular disorder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Chronic system failure</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Inactivity </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ultisystem impairment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usculoskeletal disorder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Neuromuscular disorder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Pulmonary disorders</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airments, Functional Limitations, or Disabilitie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Decreased endurance</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Increased cardiovascular response to low level work load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Increased perceived exertion with functional activitie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Increased pulmonary response to low level work load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Inability to perform routine work tasks due to shortness of </a:t>
            </a:r>
            <a:r>
              <a:rPr b="0" lang="en-US" sz="2000" spc="-1" strike="noStrike">
                <a:solidFill>
                  <a:srgbClr val="000000"/>
                </a:solidFill>
                <a:latin typeface="Constantia"/>
              </a:rPr>
              <a:t>	</a:t>
            </a:r>
            <a:r>
              <a:rPr b="0" lang="en-US" sz="2000" spc="-1" strike="noStrike">
                <a:solidFill>
                  <a:srgbClr val="000000"/>
                </a:solidFill>
                <a:latin typeface="Constantia"/>
              </a:rPr>
              <a:t>breath</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66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B:  Deconditioning</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35" name=""/>
          <p:cNvSpPr txBox="1"/>
          <p:nvPr/>
        </p:nvSpPr>
        <p:spPr>
          <a:xfrm>
            <a:off x="457200" y="990360"/>
            <a:ext cx="8229600" cy="56386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erobic capacity/endurance activities using ergometers, treadmills, steppers, pulleys, weights, hydraulics, elastic resistance bands, robotics, and mechanical or electromechanical devices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quatic programs</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Gait and locomotion training - Walking and wheelchair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propulsion programs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Increased workload over time</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alance, coordination, and agility training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Developmental activities training</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Neuromuscular education or reeducation</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Standardized, programmatic, complementary exercise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pproach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reathing exercis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ody mechanics, ergonomics,  and postural stabilization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Body mechanics training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Postural control and awareness training </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lexibility exercises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uscle lengthening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Range of motion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Stretching </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B:  Deconditioning</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37" name=""/>
          <p:cNvSpPr txBox="1"/>
          <p:nvPr/>
        </p:nvSpPr>
        <p:spPr>
          <a:xfrm>
            <a:off x="457200" y="1219320"/>
            <a:ext cx="8229600" cy="5486400"/>
          </a:xfrm>
          <a:prstGeom prst="rect">
            <a:avLst/>
          </a:prstGeom>
          <a:noFill/>
          <a:ln w="0">
            <a:noFill/>
          </a:ln>
        </p:spPr>
        <p:txBody>
          <a:bodyPr anchor="t">
            <a:normAutofit fontScale="95000"/>
          </a:bodyPr>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ait and locomotion training</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evelopmental activities training</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Gait training</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mplement and device training</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Wheelchair training</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laxation </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reathing strategie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ovement strategie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laxation technique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trength, power, and endurance training for head and neck, limb, pelvic-floor, trunk, and ventilatory muscle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ctive assistive, active, and resistive exercises (including concentric, </a:t>
            </a:r>
            <a:r>
              <a:rPr b="0" lang="en-US" sz="1800" spc="-1" strike="noStrike">
                <a:solidFill>
                  <a:srgbClr val="000000"/>
                </a:solidFill>
                <a:latin typeface="Constantia"/>
              </a:rPr>
              <a:t>	</a:t>
            </a:r>
            <a:r>
              <a:rPr b="0" lang="en-US" sz="1800" spc="-1" strike="noStrike">
                <a:solidFill>
                  <a:srgbClr val="000000"/>
                </a:solidFill>
                <a:latin typeface="Constantia"/>
              </a:rPr>
              <a:t>dynamic/isotonic, isometric, and plyometric - using manual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sistance, pulleys, weights, hydraulics, elastic resistance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ands, robotic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quatic programs</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Conditioning and reconditioning  - Strengthening or Resistive</a:t>
            </a:r>
            <a:endParaRPr b="0" lang="en-US" sz="1800" spc="-1" strike="noStrike">
              <a:solidFill>
                <a:srgbClr val="000000"/>
              </a:solidFill>
              <a:latin typeface="Constantia"/>
            </a:endParaRPr>
          </a:p>
          <a:p>
            <a:pPr marL="259200" indent="-259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576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attern C:  Airway Clearance</a:t>
            </a:r>
            <a:br>
              <a:rPr sz="2800"/>
            </a:br>
            <a:r>
              <a:rPr b="0" lang="en-US" sz="2800" spc="-1" strike="noStrike">
                <a:solidFill>
                  <a:srgbClr val="04617b"/>
                </a:solidFill>
                <a:latin typeface="Calibri"/>
              </a:rPr>
              <a:t>Inclusion Criteria</a:t>
            </a:r>
            <a:endParaRPr b="0" lang="en-US" sz="2800" spc="-1" strike="noStrike">
              <a:solidFill>
                <a:srgbClr val="04617b"/>
              </a:solidFill>
              <a:latin typeface="Calibri"/>
            </a:endParaRPr>
          </a:p>
        </p:txBody>
      </p:sp>
      <p:sp>
        <p:nvSpPr>
          <p:cNvPr id="239" name=""/>
          <p:cNvSpPr txBox="1"/>
          <p:nvPr/>
        </p:nvSpPr>
        <p:spPr>
          <a:xfrm>
            <a:off x="457200" y="1143000"/>
            <a:ext cx="8229600" cy="541008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Risk Factors or Consequences of Pathology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cute lung disorder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cute or chronic oxygen dependenc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Bone marrow/stem cell transplant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ardiothoracic surger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hange in baseline breath sound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hange in baseline chest radiograph</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hronic obstructive pulmonary disease (COPD)</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Frequent or recurring pulmonary infection</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Solid-organ transplants (eg, heart, lung, kidne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Tracheostomy or microtracheostomy</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mpairments, Functional Limitations, or Disabilitie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yspnea at rest or with exertion</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mpaired airway clearanc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mpaired cough</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mpaired gas exchang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mpaired ventilatory forces and flow</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mpaired ventilatory volume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nability to perform self-care due to dyspnea</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nability to perform work tasks due to dyspnea</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C:  Airway Clearance</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41" name=""/>
          <p:cNvSpPr txBox="1"/>
          <p:nvPr/>
        </p:nvSpPr>
        <p:spPr>
          <a:xfrm>
            <a:off x="457200" y="1371240"/>
            <a:ext cx="8229600" cy="5257800"/>
          </a:xfrm>
          <a:prstGeom prst="rect">
            <a:avLst/>
          </a:prstGeom>
          <a:noFill/>
          <a:ln w="0">
            <a:noFill/>
          </a:ln>
        </p:spPr>
        <p:txBody>
          <a:bodyPr anchor="t">
            <a:normAutofit fontScale="97000"/>
          </a:bodyPr>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erobic capacity/endurance conditioning or reconditioning activities using ergometers, treadmills, steppers, pulleys, weights, hydraulics, elastic resistance bands, robotics, and mechanical or electromechanical devic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quatic programs</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Gait and locomotion training - Walking and wheelchair propulsion </a:t>
            </a:r>
            <a:r>
              <a:rPr b="0" lang="en-US" sz="1800" spc="-1" strike="noStrike">
                <a:solidFill>
                  <a:srgbClr val="000000"/>
                </a:solidFill>
                <a:latin typeface="Constantia"/>
              </a:rPr>
              <a:t>	</a:t>
            </a:r>
            <a:r>
              <a:rPr b="0" lang="en-US" sz="1800" spc="-1" strike="noStrike">
                <a:solidFill>
                  <a:srgbClr val="000000"/>
                </a:solidFill>
                <a:latin typeface="Constantia"/>
              </a:rPr>
              <a:t>program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ncreased workload over time</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ody mechanics, ergonomics, and postural stabilization</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sture awareness training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stural control training</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exibility exercis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uscle lengthening</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ange of motion</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etching</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laxation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reathing strategi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ovement strategi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laxation techniqu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C:  Airway Clearance</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43" name=""/>
          <p:cNvSpPr txBox="1"/>
          <p:nvPr/>
        </p:nvSpPr>
        <p:spPr>
          <a:xfrm>
            <a:off x="457200" y="1219320"/>
            <a:ext cx="8229600" cy="5486400"/>
          </a:xfrm>
          <a:prstGeom prst="rect">
            <a:avLst/>
          </a:prstGeom>
          <a:noFill/>
          <a:ln w="0">
            <a:noFill/>
          </a:ln>
        </p:spPr>
        <p:txBody>
          <a:bodyPr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ength, power, and endurance training for head and neck, limb, pelvic-floor, trunk, and ventilatory muscle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ctive assistive, active, and resistive exercises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including concentric, dynamic/isotonic,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isometric,and plyometric – using manual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resistance, pulleys, </a:t>
            </a:r>
            <a:r>
              <a:rPr b="0" lang="en-US" sz="2400" spc="-1" strike="noStrike">
                <a:solidFill>
                  <a:srgbClr val="000000"/>
                </a:solidFill>
                <a:latin typeface="Constantia"/>
              </a:rPr>
              <a:t>	</a:t>
            </a:r>
            <a:r>
              <a:rPr b="0" lang="en-US" sz="2400" spc="-1" strike="noStrike">
                <a:solidFill>
                  <a:srgbClr val="000000"/>
                </a:solidFill>
                <a:latin typeface="Constantia"/>
              </a:rPr>
              <a:t>weights, hydraulics,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elastic resistance bands, robotics and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mechanical or electromechanical </a:t>
            </a:r>
            <a:r>
              <a:rPr b="0" lang="en-US" sz="2400" spc="-1" strike="noStrike">
                <a:solidFill>
                  <a:srgbClr val="000000"/>
                </a:solidFill>
                <a:latin typeface="Constantia"/>
              </a:rPr>
              <a:t>	</a:t>
            </a:r>
            <a:r>
              <a:rPr b="0" lang="en-US" sz="2400" spc="-1" strike="noStrike">
                <a:solidFill>
                  <a:srgbClr val="000000"/>
                </a:solidFill>
                <a:latin typeface="Constantia"/>
              </a:rPr>
              <a:t>device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quatic program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tandardized, programmatic, complementary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exercise approache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Task-specific performance training</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lance and coordination training</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mental activities</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uromuscular relaxation, inhibition, and facilit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attern D:  CV Pump Dysfunction</a:t>
            </a:r>
            <a:br>
              <a:rPr sz="2800"/>
            </a:br>
            <a:r>
              <a:rPr b="0" lang="en-US" sz="2800" spc="-1" strike="noStrike">
                <a:solidFill>
                  <a:srgbClr val="04617b"/>
                </a:solidFill>
                <a:latin typeface="Calibri"/>
              </a:rPr>
              <a:t>Inclusion Criteria</a:t>
            </a:r>
            <a:endParaRPr b="0" lang="en-US" sz="2800" spc="-1" strike="noStrike">
              <a:solidFill>
                <a:srgbClr val="04617b"/>
              </a:solidFill>
              <a:latin typeface="Calibri"/>
            </a:endParaRPr>
          </a:p>
        </p:txBody>
      </p:sp>
      <p:sp>
        <p:nvSpPr>
          <p:cNvPr id="245" name=""/>
          <p:cNvSpPr txBox="1"/>
          <p:nvPr/>
        </p:nvSpPr>
        <p:spPr>
          <a:xfrm>
            <a:off x="457200" y="990360"/>
            <a:ext cx="8229600" cy="571500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Risk Factors or Consequences of Pathology/Pathophysiology (Disease, Disorder, or Condition)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ngioplast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trioventricular block</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ardiomyopath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ardiothoracic surger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omplex ventricular arrhythmia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omplicated MI (failure); uncomplicated MI (dysfunction)</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oronary artery diseas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ecrease in ejection fraction (EF) on exercise testing (EF of 30-50% with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ysfunction;  &lt; 30% with failure)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iabete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Hypertensive heart diseas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Valvular heart disease</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mpairments, Functional Limitations, or Disabilitie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bnormal heart rate response to increased oxygen demand</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bnormal pulmonary response to increased oxygen demand</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ecreased ability or the inability to perform activities of daily living (ADL)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because of symptom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Change in baseline breath sounds with activity</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Flat or falling blood pressure response to increased oxygen demand (failure)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865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D:  CV Pump Dysfunction</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47" name=""/>
          <p:cNvSpPr txBox="1"/>
          <p:nvPr/>
        </p:nvSpPr>
        <p:spPr>
          <a:xfrm>
            <a:off x="457200" y="1219320"/>
            <a:ext cx="8229600" cy="5333760"/>
          </a:xfrm>
          <a:prstGeom prst="rect">
            <a:avLst/>
          </a:prstGeom>
          <a:noFill/>
          <a:ln w="0">
            <a:noFill/>
          </a:ln>
        </p:spPr>
        <p:txBody>
          <a:bodyPr anchor="t">
            <a:normAutofit fontScale="97000"/>
          </a:bodyPr>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erobic capacity/endurance activities using ergometers, treadmills, steppers, pulleys, weights, hydraulics, elastic resistance bands, robotics</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quatic programs</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Gait and locomotion training - Walking and wheelchair propulsion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rogram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ncreased workload over time</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lance, coordination, and agility training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evelopmental activities training</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otor function (motor control and motor learning) training or retraining</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Neuromuscular education or reeducation</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Task-specific performance training</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eathing exercises</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ody mechanics, ergonomics, and postural stabilization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ody mechanics training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stural awareness training </a:t>
            </a:r>
            <a:endParaRPr b="0" lang="en-US" sz="1800" spc="-1" strike="noStrike">
              <a:solidFill>
                <a:srgbClr val="000000"/>
              </a:solidFill>
              <a:latin typeface="Constantia"/>
            </a:endParaRPr>
          </a:p>
          <a:p>
            <a:pPr marL="264600" indent="-2646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exibility exercises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uscle lengthening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ange of motion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etching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nical Decision Making</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in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valu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agnosi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gnosi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t up Interven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865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D:  CV Pump Dysfunction</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49" name=""/>
          <p:cNvSpPr txBox="1"/>
          <p:nvPr/>
        </p:nvSpPr>
        <p:spPr>
          <a:xfrm>
            <a:off x="457200" y="1218960"/>
            <a:ext cx="8229600" cy="5638680"/>
          </a:xfrm>
          <a:prstGeom prst="rect">
            <a:avLst/>
          </a:prstGeom>
          <a:noFill/>
          <a:ln w="0">
            <a:noFill/>
          </a:ln>
        </p:spPr>
        <p:txBody>
          <a:bodyPr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ait and locomotion training</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evelopmental activities training</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Gait training</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mplement and device training</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Wheelchair training</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laxation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reathing strategi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ovement strategi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laxation techniqu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trength, power, and endurance training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ctive assistive, active, and resistive exercises (including concentric,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namic/isotonic, isometric, and plyometric - using manual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sistance, pulleys, weights, hydraulics, elastic resistance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ands, robotics and mechanical or electromechanical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evices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Task-specific performance training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788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attern E:  Resp Pump Dysfunction</a:t>
            </a:r>
            <a:br>
              <a:rPr sz="2800"/>
            </a:br>
            <a:r>
              <a:rPr b="0" lang="en-US" sz="2800" spc="-1" strike="noStrike">
                <a:solidFill>
                  <a:srgbClr val="04617b"/>
                </a:solidFill>
                <a:latin typeface="Calibri"/>
              </a:rPr>
              <a:t>Inclusion Criteria</a:t>
            </a:r>
            <a:endParaRPr b="0" lang="en-US" sz="2800" spc="-1" strike="noStrike">
              <a:solidFill>
                <a:srgbClr val="04617b"/>
              </a:solidFill>
              <a:latin typeface="Calibri"/>
            </a:endParaRPr>
          </a:p>
        </p:txBody>
      </p:sp>
      <p:sp>
        <p:nvSpPr>
          <p:cNvPr id="251" name=""/>
          <p:cNvSpPr txBox="1"/>
          <p:nvPr/>
        </p:nvSpPr>
        <p:spPr>
          <a:xfrm>
            <a:off x="457200" y="1142640"/>
            <a:ext cx="8229600" cy="5715000"/>
          </a:xfrm>
          <a:prstGeom prst="rect">
            <a:avLst/>
          </a:prstGeom>
          <a:noFill/>
          <a:ln w="0">
            <a:noFill/>
          </a:ln>
        </p:spPr>
        <p:txBody>
          <a:bodyPr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isk Factors or Consequences of Pathology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Elevated diaphragm and volume loss on chest radiograph</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Neuromuscular disorder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artial or complete diaphragmatic paralysi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liomyeliti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ulmonary fibrosi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strictive lung disease</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evere kyphoscoliosi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pinal cord injury</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airments, Functional Limitations, or Disabiliti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bnormal or adventitious breath sound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bnormal increased respiratory rate and decreased tidal volume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st</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irway clearance dysfunction secondary to ventilatory pump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mpairment</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ecreased to severely impaired strength and endurance of ventilatory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uscle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spnea with self-care</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spnea with work tasks</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s-synchronous or paradoxical breathing at rest or with activity</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865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E:  Resp Pump Dysfunction</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53" name=""/>
          <p:cNvSpPr txBox="1"/>
          <p:nvPr/>
        </p:nvSpPr>
        <p:spPr>
          <a:xfrm>
            <a:off x="457200" y="1295280"/>
            <a:ext cx="8229600" cy="5562720"/>
          </a:xfrm>
          <a:prstGeom prst="rect">
            <a:avLst/>
          </a:prstGeom>
          <a:noFill/>
          <a:ln w="0">
            <a:noFill/>
          </a:ln>
        </p:spPr>
        <p:txBody>
          <a:bodyPr anchor="t">
            <a:normAutofit fontScale="98000"/>
          </a:bodyPr>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erobic capacity/endurance activities using ergometers, treadmills, steppers, pulleys, weights, hydraulics, elastic resistance bands, robotics, </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Aquatic programs</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Gait and locomotion training - Walking and wheelchair propulsion programs </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Movement efficiency and energy conservation training</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Increased workload over time</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alance, coordination, and agility training </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evelopmental activities training</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Motor function (motor control and motor learning) training or retraining</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Neuromuscular education or reeducation</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Standardized, programmatic, complementary exercise approaches</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Task-specific performance training</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reathing exercises</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ody mechanics, ergonomics, and postural stabilization</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Body mechanics training</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Postural control training</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Postural stabilization activities</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Postural awareness training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Flexibility exercises </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Muscle lengthening </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Range of motion </a:t>
            </a:r>
            <a:endParaRPr b="0" lang="en-US" sz="16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Stretching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228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attern E:  Resp Pump Dysfunction</a:t>
            </a:r>
            <a:br>
              <a:rPr sz="2800"/>
            </a:br>
            <a:r>
              <a:rPr b="0" lang="en-US" sz="2800" spc="-1" strike="noStrike">
                <a:solidFill>
                  <a:srgbClr val="04617b"/>
                </a:solidFill>
                <a:latin typeface="Calibri"/>
              </a:rPr>
              <a:t>Ther Ex</a:t>
            </a:r>
            <a:endParaRPr b="0" lang="en-US" sz="2800" spc="-1" strike="noStrike">
              <a:solidFill>
                <a:srgbClr val="04617b"/>
              </a:solidFill>
              <a:latin typeface="Calibri"/>
            </a:endParaRPr>
          </a:p>
        </p:txBody>
      </p:sp>
      <p:sp>
        <p:nvSpPr>
          <p:cNvPr id="255" name=""/>
          <p:cNvSpPr txBox="1"/>
          <p:nvPr/>
        </p:nvSpPr>
        <p:spPr>
          <a:xfrm>
            <a:off x="457200" y="1143000"/>
            <a:ext cx="8229600" cy="5562720"/>
          </a:xfrm>
          <a:prstGeom prst="rect">
            <a:avLst/>
          </a:prstGeom>
          <a:noFill/>
          <a:ln w="0">
            <a:noFill/>
          </a:ln>
        </p:spPr>
        <p:txBody>
          <a:bodyPr anchor="t">
            <a:normAutofit fontScale="96000"/>
          </a:bodyPr>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ait and locomotion training</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evelopmental activities training</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Gait training</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mplement and device training</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erceptual training</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Wheelchair training</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laxation </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reathing strategies</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ovement strategies</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laxation techniques</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trength, power, and endurance training for head and neck, limb, pelvic-floor, trunk, and ventilatory muscles</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ctive assistive, active, and resistive exercises (including concentric,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namic/isotonic, isometric, and plyometric - using manual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esistance, pulleys, weights, hydraulics, elastic resistance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ands, robotics </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andardized, programmatic, complementary exercise approaches</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Task-specific performance training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788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attern F:  Respiratory Failure</a:t>
            </a:r>
            <a:br>
              <a:rPr sz="2800"/>
            </a:br>
            <a:r>
              <a:rPr b="0" lang="en-US" sz="2800" spc="-1" strike="noStrike">
                <a:solidFill>
                  <a:srgbClr val="04617b"/>
                </a:solidFill>
                <a:latin typeface="Calibri"/>
              </a:rPr>
              <a:t>Inclusion Criteria</a:t>
            </a:r>
            <a:endParaRPr b="0" lang="en-US" sz="2800" spc="-1" strike="noStrike">
              <a:solidFill>
                <a:srgbClr val="04617b"/>
              </a:solidFill>
              <a:latin typeface="Calibri"/>
            </a:endParaRPr>
          </a:p>
        </p:txBody>
      </p:sp>
      <p:sp>
        <p:nvSpPr>
          <p:cNvPr id="257" name=""/>
          <p:cNvSpPr txBox="1"/>
          <p:nvPr/>
        </p:nvSpPr>
        <p:spPr>
          <a:xfrm>
            <a:off x="457200" y="1218960"/>
            <a:ext cx="8229600" cy="56386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isk Factors or Consequences of Patholog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dult respiratory distress syndrom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bnormal alveolar to arterial oxygen tension differences</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Cardiothoracic surger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Chronic obstructive pulmonary disease (COP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ultisystem failur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neumonia</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re- and post-lung transplant or rejection</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apid rise in arterial carbon dioxide at rest or with activit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epsis</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Thoracic or multisystem trauma</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airments, Functional Limitations, or Disabilities</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bnormal or adventitious breath sounds</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bnormal vital capacity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irway clearance dysfunction</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spnea at rest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Dyssynchronous or paradoxical breathing pattern</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mpaired gas exchang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F:  Respiratory Failure</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59" name=""/>
          <p:cNvSpPr txBox="1"/>
          <p:nvPr/>
        </p:nvSpPr>
        <p:spPr>
          <a:xfrm>
            <a:off x="457200" y="1294920"/>
            <a:ext cx="8229600" cy="541044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erobic capacity/endurance activities using ergometers, treadmills, steppers, pulleys, weights, hydraulics, elastic resistance bands, robotics</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quatic programs</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Gait and locomotion training - Walking and wheelchair propulsion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rograms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ovement efficiency and energy conservation training</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ncreased workload over tim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lance, coordination, and agility training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Neuromuscular education or reeducation</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sture awareness training</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ody mechanics, ergonomics, and postural stabilization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ody mechanics training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stural control training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stural awareness training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exibility exercises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Muscle lengthening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Range of motion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etching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865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attern F:  Respiratory Failure</a:t>
            </a:r>
            <a:br>
              <a:rPr sz="3200"/>
            </a:br>
            <a:r>
              <a:rPr b="0" lang="en-US" sz="3200" spc="-1" strike="noStrike">
                <a:solidFill>
                  <a:srgbClr val="04617b"/>
                </a:solidFill>
                <a:latin typeface="Calibri"/>
              </a:rPr>
              <a:t>Ther Ex</a:t>
            </a:r>
            <a:endParaRPr b="0" lang="en-US" sz="3200" spc="-1" strike="noStrike">
              <a:solidFill>
                <a:srgbClr val="04617b"/>
              </a:solidFill>
              <a:latin typeface="Calibri"/>
            </a:endParaRPr>
          </a:p>
        </p:txBody>
      </p:sp>
      <p:sp>
        <p:nvSpPr>
          <p:cNvPr id="261" name=""/>
          <p:cNvSpPr txBox="1"/>
          <p:nvPr/>
        </p:nvSpPr>
        <p:spPr>
          <a:xfrm>
            <a:off x="457200" y="1599840"/>
            <a:ext cx="8229600" cy="525780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laxation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Breathing strategi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ovement strategi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Relaxation techniqu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Standardized, programmatic, complementary exercise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pproach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rength, power, and endurance training for head and neck, limb, pelvic-floor, trunk, and ventilatory muscl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ctive assistive, active, and resistive exercises (including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concentric, dynamic/isotonic, isometric, and plyometric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using manual resistance, pulleys, weights,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hydraulics, elastic resistance bands, robotics and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echanical or electromechanical devices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Task-specific performance training</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rapeutic Exercise</a:t>
            </a:r>
            <a:endParaRPr b="0" lang="en-US" sz="3600" spc="-1" strike="noStrike">
              <a:solidFill>
                <a:srgbClr val="04617b"/>
              </a:solidFill>
              <a:latin typeface="Calibri"/>
            </a:endParaRPr>
          </a:p>
        </p:txBody>
      </p:sp>
      <p:sp>
        <p:nvSpPr>
          <p:cNvPr id="263" name=""/>
          <p:cNvSpPr txBox="1"/>
          <p:nvPr/>
        </p:nvSpPr>
        <p:spPr>
          <a:xfrm>
            <a:off x="457200" y="1447920"/>
            <a:ext cx="8229600" cy="49528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erobic capacity/endurance conditioning or reconditioning</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quatic programs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ait and locomotion training – Walk or W/C</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ed workload over tim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vement efficiency and energy conservation training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Aerobic Capacity/Endurance Conditioning or Reconditioning</a:t>
            </a:r>
            <a:endParaRPr b="0" lang="en-US" sz="36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tivity, specific set up, time</a:t>
            </a:r>
            <a:endParaRPr b="0" lang="en-US" sz="24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rove oxygen demand</a:t>
            </a:r>
            <a:endParaRPr b="0" lang="en-US" sz="20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se of large muscle groups in a rhythmic fashion, over time</a:t>
            </a:r>
            <a:endParaRPr b="0" lang="en-US" sz="20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e</a:t>
            </a:r>
            <a:endParaRPr b="0" lang="en-US" sz="24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rching, Walking, Bike, Gardening</a:t>
            </a:r>
            <a:endParaRPr b="0" lang="en-US" sz="20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nsity</a:t>
            </a:r>
            <a:endParaRPr b="0" lang="en-US" sz="24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x HR and take age adjusted</a:t>
            </a:r>
            <a:endParaRPr b="0" lang="en-US" sz="20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50-70% depending on exercise test, age</a:t>
            </a:r>
            <a:endParaRPr b="0" lang="en-US" sz="20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equency</a:t>
            </a:r>
            <a:endParaRPr b="0" lang="en-US" sz="24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5 days per week</a:t>
            </a:r>
            <a:endParaRPr b="0" lang="en-US" sz="20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ration</a:t>
            </a:r>
            <a:endParaRPr b="0" lang="en-US" sz="24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5-10 min bouts 3x/day</a:t>
            </a:r>
            <a:endParaRPr b="0" lang="en-US" sz="2000" spc="-1" strike="noStrike">
              <a:solidFill>
                <a:srgbClr val="000000"/>
              </a:solidFill>
              <a:latin typeface="Constantia"/>
            </a:endParaRPr>
          </a:p>
          <a:p>
            <a:pPr lvl="1" marL="588240" indent="-2260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k up to 30-40 min in one session</a:t>
            </a:r>
            <a:endParaRPr b="0" lang="en-US" sz="2000" spc="-1" strike="noStrike">
              <a:solidFill>
                <a:srgbClr val="000000"/>
              </a:solidFill>
              <a:latin typeface="Constantia"/>
            </a:endParaRPr>
          </a:p>
          <a:p>
            <a:pPr lvl="1" marL="588240" indent="-226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66" name="Text Box 4"/>
          <p:cNvSpPr/>
          <p:nvPr/>
        </p:nvSpPr>
        <p:spPr>
          <a:xfrm>
            <a:off x="457200" y="609588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5"/>
          <p:cNvSpPr/>
          <p:nvPr/>
        </p:nvSpPr>
        <p:spPr>
          <a:xfrm>
            <a:off x="304920" y="61722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Progression, see DeTurk &amp; Cahalin, pg 447 &amp; 448, Figs 15-7 &amp; 15-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erobic Capacity/Endurance -Evidence</a:t>
            </a:r>
            <a:endParaRPr b="0" lang="en-US" sz="4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tient Education on Risk or Diseas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ercise, Die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condition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te of VO2 max decreases greatest the first week of bedrest</a:t>
            </a:r>
            <a:r>
              <a:rPr b="0" lang="en-US" sz="2400" spc="-1" strike="noStrike" baseline="30000">
                <a:solidFill>
                  <a:srgbClr val="000000"/>
                </a:solidFill>
                <a:latin typeface="Constantia"/>
              </a:rPr>
              <a:t>1</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nger the bedrest the more diminished the VO2 max</a:t>
            </a:r>
            <a:r>
              <a:rPr b="0" lang="en-US" sz="2400" spc="-1" strike="noStrike" baseline="30000">
                <a:solidFill>
                  <a:srgbClr val="000000"/>
                </a:solidFill>
                <a:latin typeface="Constantia"/>
              </a:rPr>
              <a:t>1</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of HR, RPE, and MET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Text Box 5"/>
          <p:cNvSpPr/>
          <p:nvPr/>
        </p:nvSpPr>
        <p:spPr>
          <a:xfrm>
            <a:off x="380880" y="63244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nvertinao VA, Med Sci Sports Exer, 1997:29: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linical Decision Making</a:t>
            </a:r>
            <a:endParaRPr b="0" lang="en-US" sz="4500" spc="-1" strike="noStrike">
              <a:solidFill>
                <a:srgbClr val="04617b"/>
              </a:solidFill>
              <a:latin typeface="Calibri"/>
            </a:endParaRPr>
          </a:p>
        </p:txBody>
      </p:sp>
      <p:sp>
        <p:nvSpPr>
          <p:cNvPr id="207" name=""/>
          <p:cNvSpPr txBox="1"/>
          <p:nvPr/>
        </p:nvSpPr>
        <p:spPr>
          <a:xfrm>
            <a:off x="457200" y="1066320"/>
            <a:ext cx="8229600" cy="5334120"/>
          </a:xfrm>
          <a:prstGeom prst="rect">
            <a:avLst/>
          </a:prstGeom>
          <a:noFill/>
          <a:ln w="0">
            <a:noFill/>
          </a:ln>
        </p:spPr>
        <p:txBody>
          <a:bodyPr anchor="t">
            <a:normAutofit fontScale="99000"/>
          </a:bodyPr>
          <a:p>
            <a:pPr marL="270000" indent="-27000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ed Dx:  CAD</a:t>
            </a:r>
            <a:r>
              <a:rPr b="0" lang="en-US" sz="2800" spc="-1" strike="noStrike">
                <a:solidFill>
                  <a:srgbClr val="000000"/>
                </a:solidFill>
                <a:latin typeface="Constantia"/>
              </a:rPr>
              <a:t>	</a:t>
            </a:r>
            <a:r>
              <a:rPr b="0" lang="en-US" sz="2800" spc="-1" strike="noStrike">
                <a:solidFill>
                  <a:srgbClr val="000000"/>
                </a:solidFill>
                <a:latin typeface="Constantia"/>
              </a:rPr>
              <a:t>	</a:t>
            </a:r>
            <a:r>
              <a:rPr b="0" lang="en-US" sz="2800" spc="-1" strike="noStrike">
                <a:solidFill>
                  <a:srgbClr val="000000"/>
                </a:solidFill>
                <a:latin typeface="Constantia"/>
              </a:rPr>
              <a:t>Med Dx:  COPD</a:t>
            </a:r>
            <a:endParaRPr b="0" lang="en-US" sz="2800" spc="-1" strike="noStrike">
              <a:solidFill>
                <a:srgbClr val="000000"/>
              </a:solidFill>
              <a:latin typeface="Constantia"/>
            </a:endParaRPr>
          </a:p>
          <a:p>
            <a:pPr marL="270000" indent="-27000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 of Hypothesis Testing and Algorithms</a:t>
            </a:r>
            <a:endParaRPr b="0" lang="en-US" sz="2800" spc="-1" strike="noStrike">
              <a:solidFill>
                <a:srgbClr val="000000"/>
              </a:solidFill>
              <a:latin typeface="Constantia"/>
            </a:endParaRPr>
          </a:p>
          <a:p>
            <a:pPr lvl="1" marL="63324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d Dx and History of Cardiopulmonary Disease</a:t>
            </a:r>
            <a:endParaRPr b="0" lang="en-US" sz="2400" spc="-1" strike="noStrike">
              <a:solidFill>
                <a:srgbClr val="000000"/>
              </a:solidFill>
              <a:latin typeface="Constantia"/>
            </a:endParaRPr>
          </a:p>
          <a:p>
            <a:pPr lvl="1" marL="63324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b and Diagnostic Test Results</a:t>
            </a:r>
            <a:endParaRPr b="0" lang="en-US" sz="2400" spc="-1" strike="noStrike">
              <a:solidFill>
                <a:srgbClr val="000000"/>
              </a:solidFill>
              <a:latin typeface="Constantia"/>
            </a:endParaRPr>
          </a:p>
          <a:p>
            <a:pPr lvl="1" marL="63324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T Dx</a:t>
            </a:r>
            <a:endParaRPr b="0" lang="en-US" sz="2400" spc="-1" strike="noStrike">
              <a:solidFill>
                <a:srgbClr val="000000"/>
              </a:solidFill>
              <a:latin typeface="Constantia"/>
            </a:endParaRPr>
          </a:p>
          <a:p>
            <a:pPr lvl="1" marL="63324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ype of activity, specifics of activity, time</a:t>
            </a:r>
            <a:endParaRPr b="0" lang="en-US" sz="2400" spc="-1" strike="noStrike">
              <a:solidFill>
                <a:srgbClr val="000000"/>
              </a:solidFill>
              <a:latin typeface="Constantia"/>
            </a:endParaRPr>
          </a:p>
          <a:p>
            <a:pPr lvl="1" marL="63324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ponse to exercise/mobility/ADL</a:t>
            </a:r>
            <a:endParaRPr b="0" lang="en-US" sz="2400" spc="-1" strike="noStrike">
              <a:solidFill>
                <a:srgbClr val="000000"/>
              </a:solidFill>
              <a:latin typeface="Constantia"/>
            </a:endParaRPr>
          </a:p>
          <a:p>
            <a:pPr lvl="2" marL="905040" indent="-24372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Vital signs – rest, activity, recovery</a:t>
            </a:r>
            <a:endParaRPr b="0" lang="en-US" sz="2000" spc="-1" strike="noStrike">
              <a:solidFill>
                <a:srgbClr val="000000"/>
              </a:solidFill>
              <a:latin typeface="Constantia"/>
            </a:endParaRPr>
          </a:p>
          <a:p>
            <a:pPr lvl="2" marL="905040" indent="-24372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KG changes</a:t>
            </a:r>
            <a:endParaRPr b="0" lang="en-US" sz="2000" spc="-1" strike="noStrike">
              <a:solidFill>
                <a:srgbClr val="000000"/>
              </a:solidFill>
              <a:latin typeface="Constantia"/>
            </a:endParaRPr>
          </a:p>
          <a:p>
            <a:pPr lvl="2" marL="905040" indent="-24372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ed and time to stop, rest</a:t>
            </a:r>
            <a:endParaRPr b="0" lang="en-US" sz="2000" spc="-1" strike="noStrike">
              <a:solidFill>
                <a:srgbClr val="000000"/>
              </a:solidFill>
              <a:latin typeface="Constantia"/>
            </a:endParaRPr>
          </a:p>
          <a:p>
            <a:pPr lvl="2" marL="905040" indent="-24372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bserved signs – color changes</a:t>
            </a:r>
            <a:endParaRPr b="0" lang="en-US" sz="2000" spc="-1" strike="noStrike">
              <a:solidFill>
                <a:srgbClr val="000000"/>
              </a:solidFill>
              <a:latin typeface="Constantia"/>
            </a:endParaRPr>
          </a:p>
          <a:p>
            <a:pPr lvl="1" marL="63324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jective responses</a:t>
            </a:r>
            <a:endParaRPr b="0" lang="en-US" sz="2400" spc="-1" strike="noStrike">
              <a:solidFill>
                <a:srgbClr val="000000"/>
              </a:solidFill>
              <a:latin typeface="Constantia"/>
            </a:endParaRPr>
          </a:p>
          <a:p>
            <a:pPr lvl="2" marL="905040" indent="-24372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cerns – Fatigue, SOB</a:t>
            </a:r>
            <a:endParaRPr b="0" lang="en-US" sz="2000" spc="-1" strike="noStrike">
              <a:solidFill>
                <a:srgbClr val="000000"/>
              </a:solidFill>
              <a:latin typeface="Constantia"/>
            </a:endParaRPr>
          </a:p>
          <a:p>
            <a:pPr lvl="2" marL="905040" indent="-24372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te of Perceived Exertion</a:t>
            </a:r>
            <a:endParaRPr b="0" lang="en-US" sz="2000" spc="-1" strike="noStrike">
              <a:solidFill>
                <a:srgbClr val="000000"/>
              </a:solidFill>
              <a:latin typeface="Constantia"/>
            </a:endParaRPr>
          </a:p>
        </p:txBody>
      </p:sp>
      <p:sp>
        <p:nvSpPr>
          <p:cNvPr id="208" name="Text Box 4"/>
          <p:cNvSpPr/>
          <p:nvPr/>
        </p:nvSpPr>
        <p:spPr>
          <a:xfrm>
            <a:off x="685800" y="649116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urk &amp; Cahalin -  pg 368-369, Fig 12-4 &amp; pg 370, Fig 1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erobic Capacity/Endurance -Evidence</a:t>
            </a:r>
            <a:endParaRPr b="0" lang="en-US" sz="4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oup-based (8-12 patients) simple aerobic dance movements (with music)</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days a week for 4 month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session lasted 50 minutes (including warm-up and cool-down), followed by 15-30 minutes of counseling</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xercise program included three intervals of high intensity, during which patients were encouraged to reach 15-18 on the Borg scale for 5-10 minute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6 min walk, resistance on bike, bike time, MN Living with Heart Failure QOL all increased with significance as compared to the control group for 4 and 12 mn.</a:t>
            </a:r>
            <a:endParaRPr b="0" lang="en-US" sz="2400" spc="-1" strike="noStrike">
              <a:solidFill>
                <a:srgbClr val="000000"/>
              </a:solidFill>
              <a:latin typeface="Constantia"/>
            </a:endParaRPr>
          </a:p>
        </p:txBody>
      </p:sp>
      <p:sp>
        <p:nvSpPr>
          <p:cNvPr id="273" name="Text Box 4"/>
          <p:cNvSpPr/>
          <p:nvPr/>
        </p:nvSpPr>
        <p:spPr>
          <a:xfrm>
            <a:off x="533520" y="6248520"/>
            <a:ext cx="8305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5"/>
          <p:cNvSpPr/>
          <p:nvPr/>
        </p:nvSpPr>
        <p:spPr>
          <a:xfrm>
            <a:off x="0" y="586728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lsson et al, Long-term effects of a group based high intensity aerobic interval training program in patients with chronic heart failure, Am J Cardiol 2008; 102(9):1220-12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Therapeutic Exercise</a:t>
            </a:r>
            <a:endParaRPr b="0" lang="en-US" sz="4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lance, coordination, and agility training</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mental activities training</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sture awareness training</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ndardized, programmatic, complementary exercise approach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sk-specific performance train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Balance, Coordination, and Agility Training</a:t>
            </a:r>
            <a:endParaRPr b="0" lang="en-US" sz="36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ssery Techniqu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ns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que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 set paramet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407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Balance - Evidence</a:t>
            </a:r>
            <a:endParaRPr b="0" lang="en-US" sz="2800" spc="-1" strike="noStrike">
              <a:solidFill>
                <a:srgbClr val="04617b"/>
              </a:solidFill>
              <a:latin typeface="Calibri"/>
            </a:endParaRPr>
          </a:p>
        </p:txBody>
      </p:sp>
      <p:sp>
        <p:nvSpPr>
          <p:cNvPr id="280" name=""/>
          <p:cNvSpPr txBox="1"/>
          <p:nvPr/>
        </p:nvSpPr>
        <p:spPr>
          <a:xfrm>
            <a:off x="457200" y="1066320"/>
            <a:ext cx="8229600" cy="495324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nsory-specific balance classes were held 3 times per week, for 1 hour each session, over 8-week</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asks included</a:t>
            </a:r>
            <a:endParaRPr b="0" lang="en-US" sz="18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tanding or walking on various support surfaces, such as a rocker board, foam, or narrow beam</a:t>
            </a:r>
            <a:endParaRPr b="0" lang="en-US" sz="16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tanding in a tandem position, a semitandem position, on one leg, or in a feet together</a:t>
            </a:r>
            <a:endParaRPr b="0" lang="en-US" sz="16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rogressions to these tasks included simultaneous alterations of visual and vestibular inputs</a:t>
            </a:r>
            <a:endParaRPr b="0" lang="en-US" sz="18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nstructed to close their eyes, to engage vision with a reading or tracking secondary task</a:t>
            </a:r>
            <a:endParaRPr b="0" lang="en-US" sz="16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Perform balance tasks with a distracting background</a:t>
            </a:r>
            <a:endParaRPr b="0" lang="en-US" sz="16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nstructed to tilt their head backward or to quickly move their head side to side and up and down.</a:t>
            </a:r>
            <a:endParaRPr b="0" lang="en-US" sz="16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sults</a:t>
            </a:r>
            <a:endParaRPr b="0" lang="en-US" sz="18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ess destabilization within the first 5 seconds following vibration with or without a secondary task than there was at baseline or in the falls prevention education group</a:t>
            </a:r>
            <a:endParaRPr b="0" lang="en-US" sz="1600" spc="-1" strike="noStrike">
              <a:solidFill>
                <a:srgbClr val="000000"/>
              </a:solidFill>
              <a:latin typeface="Constantia"/>
            </a:endParaRPr>
          </a:p>
          <a:p>
            <a:pPr lvl="1" marL="639720" indent="-24588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raining effects were not maintained at the 8-week follow-up.</a:t>
            </a:r>
            <a:endParaRPr b="0" lang="en-US" sz="1600" spc="-1" strike="noStrike">
              <a:solidFill>
                <a:srgbClr val="000000"/>
              </a:solidFill>
              <a:latin typeface="Constantia"/>
            </a:endParaRPr>
          </a:p>
        </p:txBody>
      </p:sp>
      <p:sp>
        <p:nvSpPr>
          <p:cNvPr id="281" name="Text Box 4"/>
          <p:cNvSpPr/>
          <p:nvPr/>
        </p:nvSpPr>
        <p:spPr>
          <a:xfrm>
            <a:off x="304920" y="6095880"/>
            <a:ext cx="86104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t>
            </a:r>
            <a:r>
              <a:rPr b="0" i="1" lang="en-US" sz="1400" spc="-1" strike="noStrike">
                <a:solidFill>
                  <a:srgbClr val="000000"/>
                </a:solidFill>
                <a:latin typeface="Arial"/>
              </a:rPr>
              <a:t>stlake &amp; Culham.</a:t>
            </a:r>
            <a:r>
              <a:rPr b="0" lang="en-US" sz="1400" spc="-1" strike="noStrike">
                <a:solidFill>
                  <a:srgbClr val="000000"/>
                </a:solidFill>
                <a:latin typeface="Arial"/>
              </a:rPr>
              <a:t> </a:t>
            </a:r>
            <a:r>
              <a:rPr b="0" lang="en-US" sz="1400" spc="-1" strike="noStrike" u="sng">
                <a:solidFill>
                  <a:srgbClr val="e2d700"/>
                </a:solidFill>
                <a:uFillTx/>
                <a:latin typeface="Arial"/>
                <a:hlinkClick r:id="rId1"/>
              </a:rPr>
              <a:t>Sensory-Specific Balance Training in Older Adults: Effect on Proprioceptive Reintegration and Cognitive Demands</a:t>
            </a:r>
            <a:r>
              <a:rPr b="0" lang="en-US" sz="1400" spc="-1" strike="noStrike">
                <a:solidFill>
                  <a:srgbClr val="000000"/>
                </a:solidFill>
                <a:latin typeface="Arial"/>
              </a:rPr>
              <a:t> </a:t>
            </a:r>
            <a:r>
              <a:rPr b="1" lang="en-US" sz="1400" spc="-1" strike="noStrike">
                <a:solidFill>
                  <a:srgbClr val="000000"/>
                </a:solidFill>
                <a:latin typeface="Arial"/>
              </a:rPr>
              <a:t>Physical Therapy.</a:t>
            </a:r>
            <a:r>
              <a:rPr b="0" lang="en-US" sz="1400" spc="-1" strike="noStrike">
                <a:solidFill>
                  <a:srgbClr val="000000"/>
                </a:solidFill>
                <a:latin typeface="Arial"/>
              </a:rPr>
              <a:t> Oct 2007. Vol. 87, Iss. 10; p. 12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Therapeutic Exercise</a:t>
            </a:r>
            <a:endParaRPr b="0" lang="en-US" sz="3200" spc="-1" strike="noStrike">
              <a:solidFill>
                <a:srgbClr val="04617b"/>
              </a:solidFill>
              <a:latin typeface="Calibri"/>
            </a:endParaRPr>
          </a:p>
        </p:txBody>
      </p:sp>
      <p:sp>
        <p:nvSpPr>
          <p:cNvPr id="283" name=""/>
          <p:cNvSpPr txBox="1"/>
          <p:nvPr/>
        </p:nvSpPr>
        <p:spPr>
          <a:xfrm>
            <a:off x="457200" y="1447560"/>
            <a:ext cx="8229600" cy="5181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dy mechanics and postural stabilization</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ody mechanics trai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ostural control trai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ostural stabilization activitie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osture awareness training</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Body Mechanics and Postural Stabilization</a:t>
            </a:r>
            <a:endParaRPr b="0" lang="en-US" sz="36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ns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que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 set paramete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Body Mechanics -Evidence</a:t>
            </a:r>
            <a:endParaRPr b="0" lang="en-US" sz="3200" spc="-1" strike="noStrike">
              <a:solidFill>
                <a:srgbClr val="04617b"/>
              </a:solidFill>
              <a:latin typeface="Calibri"/>
            </a:endParaRPr>
          </a:p>
        </p:txBody>
      </p:sp>
      <p:sp>
        <p:nvSpPr>
          <p:cNvPr id="287" name=""/>
          <p:cNvSpPr txBox="1"/>
          <p:nvPr/>
        </p:nvSpPr>
        <p:spPr>
          <a:xfrm>
            <a:off x="457200" y="1599840"/>
            <a:ext cx="8229600" cy="38098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erfusion study in prone and supin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ts were under conditions of</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rmal breathing of room ai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assisted breathing of 45% O2</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isted PEEP</a:t>
            </a:r>
            <a:endParaRPr b="0" lang="en-US" sz="24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Ventral, Middle, Dorsal measurements with ventral more perfuse in prone and dorsal more perfuse in supine</a:t>
            </a:r>
            <a:endParaRPr b="0" lang="en-US" sz="2800" spc="-1" strike="noStrike">
              <a:solidFill>
                <a:srgbClr val="000000"/>
              </a:solidFill>
              <a:latin typeface="Constantia"/>
            </a:endParaRPr>
          </a:p>
        </p:txBody>
      </p:sp>
      <p:sp>
        <p:nvSpPr>
          <p:cNvPr id="288" name="Text Box 4"/>
          <p:cNvSpPr/>
          <p:nvPr/>
        </p:nvSpPr>
        <p:spPr>
          <a:xfrm>
            <a:off x="380880" y="6095880"/>
            <a:ext cx="838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ki et al, Perfusion,  </a:t>
            </a:r>
            <a:r>
              <a:rPr b="0" lang="en-US" sz="1800" spc="-1" strike="noStrike" u="sng">
                <a:solidFill>
                  <a:srgbClr val="e2d700"/>
                </a:solidFill>
                <a:uFillTx/>
                <a:latin typeface="Arial"/>
                <a:hlinkClick r:id="rId1"/>
              </a:rPr>
              <a:t>Science Letter</a:t>
            </a:r>
            <a:r>
              <a:rPr b="1" lang="en-US" sz="1800" spc="-1" strike="noStrike">
                <a:solidFill>
                  <a:srgbClr val="000000"/>
                </a:solidFill>
                <a:latin typeface="Arial"/>
              </a:rPr>
              <a:t>. Atlanta: </a:t>
            </a:r>
            <a:r>
              <a:rPr b="0" lang="en-US" sz="1800" spc="-1" strike="noStrike" u="sng">
                <a:solidFill>
                  <a:srgbClr val="e2d700"/>
                </a:solidFill>
                <a:uFillTx/>
                <a:latin typeface="Arial"/>
                <a:hlinkClick r:id="rId2"/>
              </a:rPr>
              <a:t>Mar 25, 2008</a:t>
            </a:r>
            <a:r>
              <a:rPr b="1" lang="en-US" sz="1800" spc="-1" strike="noStrike">
                <a:solidFill>
                  <a:srgbClr val="000000"/>
                </a:solidFill>
                <a:latin typeface="Arial"/>
              </a:rPr>
              <a:t>. pg. 25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Body Mechanics -Evidence</a:t>
            </a:r>
            <a:endParaRPr b="0" lang="en-US" sz="32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t with ischemia of stable and unstable angin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lsalva and measured QT of EK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th valsalsa showed significant difference of EKG changes of QT seg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uthors related to carrying or lifting restrictions of heavy objects with CAD</a:t>
            </a:r>
            <a:endParaRPr b="0" lang="en-US" sz="2600" spc="-1" strike="noStrike">
              <a:solidFill>
                <a:srgbClr val="000000"/>
              </a:solidFill>
              <a:latin typeface="Constantia"/>
            </a:endParaRPr>
          </a:p>
        </p:txBody>
      </p:sp>
      <p:sp>
        <p:nvSpPr>
          <p:cNvPr id="291" name="Text Box 4"/>
          <p:cNvSpPr/>
          <p:nvPr/>
        </p:nvSpPr>
        <p:spPr>
          <a:xfrm>
            <a:off x="304920" y="601992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bay et al, Effects of valsalva maneuver on QT dispersion in patients with ischemic heart...</a:t>
            </a:r>
            <a:r>
              <a:rPr b="0" i="1" lang="en-US" sz="1800" spc="-1" strike="noStrike">
                <a:solidFill>
                  <a:srgbClr val="000000"/>
                </a:solidFill>
                <a:latin typeface="Arial"/>
              </a:rPr>
              <a:t>Angiology; </a:t>
            </a:r>
            <a:r>
              <a:rPr b="0" lang="en-US" sz="1800" spc="-1" strike="noStrike">
                <a:solidFill>
                  <a:srgbClr val="000000"/>
                </a:solidFill>
                <a:latin typeface="Arial"/>
              </a:rPr>
              <a:t>Nov 2001; 52,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rapeutic Exercise</a:t>
            </a:r>
            <a:endParaRPr b="0" lang="en-US" sz="36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lexibility exercises</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rove motion of the chest wall, lengthen anterior chest wall, improve hip and knee flexor shorte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scle lengthe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nge of motion</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retch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lexibility Exercises</a:t>
            </a:r>
            <a:endParaRPr b="0" lang="en-US" sz="4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olate muscle or limited joint</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nsity</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ter warmup</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ation</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 with no pain for 30 sec</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quency</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5 days/week</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838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Musculoskeletal, Integument, &amp; Neuromuscular Considerations</a:t>
            </a:r>
            <a:endParaRPr b="0" lang="en-US" sz="2900" spc="-1" strike="noStrike">
              <a:solidFill>
                <a:srgbClr val="04617b"/>
              </a:solidFill>
              <a:latin typeface="Calibri"/>
            </a:endParaRPr>
          </a:p>
        </p:txBody>
      </p:sp>
      <p:sp>
        <p:nvSpPr>
          <p:cNvPr id="210" name=""/>
          <p:cNvSpPr txBox="1"/>
          <p:nvPr/>
        </p:nvSpPr>
        <p:spPr>
          <a:xfrm>
            <a:off x="457200" y="1066680"/>
            <a:ext cx="8229600" cy="548640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sculoskeletal</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steoporosis &amp; Spinal Deformitie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kylosing Spondyliti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diopathic Scoliosi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ctus Deformitie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oulder Hypomobility</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egument</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arcoidosi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ystemic Lupus Erythematosu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leroderma</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jogren Syndrome</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uromuscular</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roke</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umatic Brain Injury</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pinal Cord Injury</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ltiple Sclerosi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rkinsons</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uillain-Barre Syndrome</a:t>
            </a:r>
            <a:endParaRPr b="0" lang="en-US" sz="2000" spc="-1" strike="noStrike">
              <a:solidFill>
                <a:srgbClr val="000000"/>
              </a:solidFill>
              <a:latin typeface="Constantia"/>
            </a:endParaRPr>
          </a:p>
          <a:p>
            <a:pPr lvl="1" marL="762120" indent="-30492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ost Polio Syndrome</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lexibility - Evidence</a:t>
            </a:r>
            <a:endParaRPr b="0" lang="en-US" sz="4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t with ankylosing spondylosi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x/wk for 3 month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 stretching exercises of entire spine and extremities along with aerobic and chest expansion exerci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gnificant improvement in cervical and thoracic spine movement AND chest expansion</a:t>
            </a:r>
            <a:endParaRPr b="0" lang="en-US" sz="2600" spc="-1" strike="noStrike">
              <a:solidFill>
                <a:srgbClr val="000000"/>
              </a:solidFill>
              <a:latin typeface="Constantia"/>
            </a:endParaRPr>
          </a:p>
        </p:txBody>
      </p:sp>
      <p:sp>
        <p:nvSpPr>
          <p:cNvPr id="298" name="Text Box 4"/>
          <p:cNvSpPr/>
          <p:nvPr/>
        </p:nvSpPr>
        <p:spPr>
          <a:xfrm>
            <a:off x="304920" y="6172200"/>
            <a:ext cx="8305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e et al , </a:t>
            </a:r>
            <a:r>
              <a:rPr b="1" lang="en-US" sz="1400" spc="-1" strike="noStrike">
                <a:solidFill>
                  <a:srgbClr val="000000"/>
                </a:solidFill>
                <a:latin typeface="Arial"/>
              </a:rPr>
              <a:t>Effects of a Multimodal Exercise Program for People With Ankylosing Spondylitis, </a:t>
            </a:r>
            <a:r>
              <a:rPr b="0" i="1" lang="en-US" sz="1400" spc="-1" strike="noStrike">
                <a:solidFill>
                  <a:srgbClr val="000000"/>
                </a:solidFill>
                <a:latin typeface="Arial"/>
              </a:rPr>
              <a:t>Physical Therapy; </a:t>
            </a:r>
            <a:r>
              <a:rPr b="0" lang="en-US" sz="1400" spc="-1" strike="noStrike">
                <a:solidFill>
                  <a:srgbClr val="000000"/>
                </a:solidFill>
                <a:latin typeface="Arial"/>
              </a:rPr>
              <a:t>Jul 2006; 86,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herapeutic Exercise</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ait and locomotion training</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velopmental activities trai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ait trai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lement and device train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andardized, programmatic, complementary exercise approach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Gait and Locomotion Training</a:t>
            </a:r>
            <a:endParaRPr b="0" lang="en-US" sz="40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ns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que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 set paramete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Gait and Locomotion - Evidence</a:t>
            </a:r>
            <a:endParaRPr b="0" lang="en-US" sz="4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aerobic exerci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ssery Pai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05" name="Picture 4" descr=""/>
          <p:cNvPicPr/>
          <p:nvPr/>
        </p:nvPicPr>
        <p:blipFill>
          <a:blip r:embed="rId1"/>
          <a:stretch/>
        </p:blipFill>
        <p:spPr>
          <a:xfrm>
            <a:off x="1828800" y="2819520"/>
            <a:ext cx="5486400" cy="3047760"/>
          </a:xfrm>
          <a:prstGeom prst="rect">
            <a:avLst/>
          </a:prstGeom>
          <a:ln w="0">
            <a:noFill/>
          </a:ln>
        </p:spPr>
      </p:pic>
      <p:sp>
        <p:nvSpPr>
          <p:cNvPr id="306" name="Text Box 5"/>
          <p:cNvSpPr/>
          <p:nvPr/>
        </p:nvSpPr>
        <p:spPr>
          <a:xfrm>
            <a:off x="762120" y="601992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ery et al, Coordinating transitional movements and breathing in patients with neuromotor dysfunction, NDTA Network, Nov/Dec 1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Gait and Locomotion - Evidence</a:t>
            </a:r>
            <a:endParaRPr b="0" lang="en-US" sz="36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se Report of pt with C6 tetraplegi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aught breathing strategy and reducing  valsalva with tasks with w/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an forwar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t foot on footpla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sterior lean for pressure relief</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ble to perform tasks with new breathing strateg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9" name="Text Box 4"/>
          <p:cNvSpPr/>
          <p:nvPr/>
        </p:nvSpPr>
        <p:spPr>
          <a:xfrm>
            <a:off x="304920" y="617220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derson, </a:t>
            </a:r>
            <a:r>
              <a:rPr b="1" lang="en-US" sz="1800" spc="-1" strike="noStrike">
                <a:solidFill>
                  <a:srgbClr val="000000"/>
                </a:solidFill>
                <a:latin typeface="Arial"/>
              </a:rPr>
              <a:t>Application of Ventilatory Strategies to Enhance Functional Activities for an...</a:t>
            </a:r>
            <a:r>
              <a:rPr b="0" i="1" lang="en-US" sz="1800" spc="-1" strike="noStrike">
                <a:solidFill>
                  <a:srgbClr val="000000"/>
                </a:solidFill>
                <a:latin typeface="Arial"/>
              </a:rPr>
              <a:t>Journal of Neurologic Physical Therapy; </a:t>
            </a:r>
            <a:r>
              <a:rPr b="0" lang="en-US" sz="1800" spc="-1" strike="noStrike">
                <a:solidFill>
                  <a:srgbClr val="000000"/>
                </a:solidFill>
                <a:latin typeface="Arial"/>
              </a:rPr>
              <a:t>Jun 2005; 29,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rapeutic Exercise</a:t>
            </a:r>
            <a:endParaRPr b="0" lang="en-US" sz="5000" spc="-1" strike="noStrike">
              <a:solidFill>
                <a:srgbClr val="04617b"/>
              </a:solidFill>
              <a:latin typeface="Calibri"/>
            </a:endParaRPr>
          </a:p>
        </p:txBody>
      </p:sp>
      <p:sp>
        <p:nvSpPr>
          <p:cNvPr id="311" name=""/>
          <p:cNvSpPr txBox="1"/>
          <p:nvPr/>
        </p:nvSpPr>
        <p:spPr>
          <a:xfrm>
            <a:off x="457200" y="1447560"/>
            <a:ext cx="8229600" cy="52578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xation</a:t>
            </a:r>
            <a:endParaRPr b="0" lang="en-US" sz="24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reathing strategie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vement strategie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laxation technique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andardized, programmatic, complementary exercise approach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Relaxation</a:t>
            </a:r>
            <a:br>
              <a:rPr sz="4000"/>
            </a:br>
            <a:endParaRPr b="0" lang="en-US" sz="4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ns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que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 set paramete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Relaxation -Evidence</a:t>
            </a:r>
            <a:endParaRPr b="0" lang="en-US" sz="40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ve 60 minute individual treatments with the Papworth method from a respiratory physiotherapist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significant differences were found between the groups at baseline</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GRQ Symptom mean scores were lower in the Papworth method group than in the control group after treatment and at 12 month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ijmegen and HADS scores were also significantly lower in the intervention group than in the control group</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bjective respiratory measures did not differ significantly across the groups, apart from breathing rate. </a:t>
            </a:r>
            <a:endParaRPr b="0" lang="en-US" sz="2400" spc="-1" strike="noStrike">
              <a:solidFill>
                <a:srgbClr val="000000"/>
              </a:solidFill>
              <a:latin typeface="Constantia"/>
            </a:endParaRPr>
          </a:p>
        </p:txBody>
      </p:sp>
      <p:sp>
        <p:nvSpPr>
          <p:cNvPr id="316" name="Text Box 4"/>
          <p:cNvSpPr/>
          <p:nvPr/>
        </p:nvSpPr>
        <p:spPr>
          <a:xfrm>
            <a:off x="304920" y="6172200"/>
            <a:ext cx="8534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loway and West, Integrated breathing and relaxation training (the Papworth method) for adults with asthma in primary care: a randomised controlled trial , Thorax 2007; 62(12): 1039-104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rapeutic Exercise</a:t>
            </a:r>
            <a:endParaRPr b="0" lang="en-US" sz="5000" spc="-1" strike="noStrike">
              <a:solidFill>
                <a:srgbClr val="04617b"/>
              </a:solidFill>
              <a:latin typeface="Calibri"/>
            </a:endParaRPr>
          </a:p>
        </p:txBody>
      </p:sp>
      <p:sp>
        <p:nvSpPr>
          <p:cNvPr id="31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ength, power, and endurance training for head, neck, limb, pelvic-floor, trunk, and ventilatory muscles</a:t>
            </a:r>
            <a:endParaRPr b="0" lang="en-US" sz="24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re efficient motion</a:t>
            </a:r>
            <a:endParaRPr b="0" lang="en-US" sz="20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ctive assistive, active, and resistive exercises (including concentric, dynamic/isotonic, eccentric, isokinetic, isometric, and plyometric)</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quatic program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andardized, programmatic, complementary exercise approache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ask-specific performance training</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456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ength, Power, and Endurance Training for Trunk, Extremities and Ventilatory Muscles</a:t>
            </a:r>
            <a:endParaRPr b="0" lang="en-US" sz="3200" spc="-1" strike="noStrike">
              <a:solidFill>
                <a:srgbClr val="04617b"/>
              </a:solidFill>
              <a:latin typeface="Calibri"/>
            </a:endParaRPr>
          </a:p>
        </p:txBody>
      </p:sp>
      <p:sp>
        <p:nvSpPr>
          <p:cNvPr id="320" name=""/>
          <p:cNvSpPr txBox="1"/>
          <p:nvPr/>
        </p:nvSpPr>
        <p:spPr>
          <a:xfrm>
            <a:off x="457200" y="1600200"/>
            <a:ext cx="8229600" cy="5105520"/>
          </a:xfrm>
          <a:prstGeom prst="rect">
            <a:avLst/>
          </a:prstGeom>
          <a:noFill/>
          <a:ln w="0">
            <a:noFill/>
          </a:ln>
        </p:spPr>
        <p:txBody>
          <a:bodyPr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de</a:t>
            </a:r>
            <a:endParaRPr b="0" lang="en-US" sz="18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AROM, AROM</a:t>
            </a:r>
            <a:endParaRPr b="0" lang="en-US" sz="18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sistance</a:t>
            </a:r>
            <a:endParaRPr b="0" lang="en-US" sz="1800" spc="-1" strike="noStrike">
              <a:solidFill>
                <a:srgbClr val="000000"/>
              </a:solidFill>
              <a:latin typeface="Constantia"/>
            </a:endParaRPr>
          </a:p>
          <a:p>
            <a:pPr lvl="2" marL="905040" indent="-24372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nual</a:t>
            </a:r>
            <a:endParaRPr b="0" lang="en-US" sz="1800" spc="-1" strike="noStrike">
              <a:solidFill>
                <a:srgbClr val="000000"/>
              </a:solidFill>
              <a:latin typeface="Constantia"/>
            </a:endParaRPr>
          </a:p>
          <a:p>
            <a:pPr lvl="2" marL="905040" indent="-24372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ights</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tensity</a:t>
            </a:r>
            <a:endParaRPr b="0" lang="en-US" sz="18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corporate breathing with resistance</a:t>
            </a:r>
            <a:endParaRPr b="0" lang="en-US" sz="18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sistance may start light and work up</a:t>
            </a:r>
            <a:endParaRPr b="0" lang="en-US" sz="1800" spc="-1" strike="noStrike">
              <a:solidFill>
                <a:srgbClr val="000000"/>
              </a:solidFill>
              <a:latin typeface="Constantia"/>
            </a:endParaRPr>
          </a:p>
          <a:p>
            <a:pPr lvl="2" marL="905040" indent="-24372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12 reps, 1-3 sets</a:t>
            </a:r>
            <a:endParaRPr b="0" lang="en-US" sz="16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sistance of 1 rep max and then calculate</a:t>
            </a:r>
            <a:endParaRPr b="0" lang="en-US" sz="1800" spc="-1" strike="noStrike">
              <a:solidFill>
                <a:srgbClr val="000000"/>
              </a:solidFill>
              <a:latin typeface="Constantia"/>
            </a:endParaRPr>
          </a:p>
          <a:p>
            <a:pPr lvl="2" marL="905040" indent="-24372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10 reps at 70% of max, 6 reps at 80% of max, 4 reps at 90% of max, 2 reps at 95% max and finally 1 rep at max</a:t>
            </a:r>
            <a:endParaRPr b="0" lang="en-US" sz="16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igh weight, low reps for strength</a:t>
            </a:r>
            <a:endParaRPr b="0" lang="en-US" sz="18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ow weight, high reps for endurance</a:t>
            </a:r>
            <a:endParaRPr b="0" lang="en-US" sz="1800" spc="-1" strike="noStrike">
              <a:solidFill>
                <a:srgbClr val="000000"/>
              </a:solidFill>
              <a:latin typeface="Constantia"/>
            </a:endParaRPr>
          </a:p>
          <a:p>
            <a:pPr lvl="1" marL="633240" indent="-243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uration</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quency</a:t>
            </a:r>
            <a:endParaRPr b="0" lang="en-US" sz="1800" spc="-1" strike="noStrike">
              <a:solidFill>
                <a:srgbClr val="000000"/>
              </a:solidFill>
              <a:latin typeface="Constantia"/>
            </a:endParaRPr>
          </a:p>
          <a:p>
            <a:pPr lvl="1" marL="633240" indent="-24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ery other day or rotate muscle group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agi (Disablement) Model</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ability                               Inability to shop for family</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ctional limitation              Limited walking distance</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irment                            Impaired aerobic capacity</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thology                              Myocardial Infarction</a:t>
            </a:r>
            <a:endParaRPr b="0" lang="en-US" sz="2400" spc="-1" strike="noStrike">
              <a:solidFill>
                <a:srgbClr val="000000"/>
              </a:solidFill>
              <a:latin typeface="Constantia"/>
            </a:endParaRPr>
          </a:p>
        </p:txBody>
      </p:sp>
      <p:sp>
        <p:nvSpPr>
          <p:cNvPr id="213" name="Down Arrow 6"/>
          <p:cNvSpPr/>
          <p:nvPr/>
        </p:nvSpPr>
        <p:spPr>
          <a:xfrm rot="10800000">
            <a:off x="914040" y="4114800"/>
            <a:ext cx="484200" cy="533520"/>
          </a:xfrm>
          <a:prstGeom prst="downArrow">
            <a:avLst>
              <a:gd name="adj1" fmla="val 50000"/>
              <a:gd name="adj2" fmla="val 50058"/>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Down Arrow 7"/>
          <p:cNvSpPr/>
          <p:nvPr/>
        </p:nvSpPr>
        <p:spPr>
          <a:xfrm rot="10800000">
            <a:off x="985320" y="3162240"/>
            <a:ext cx="484200" cy="533520"/>
          </a:xfrm>
          <a:prstGeom prst="downArrow">
            <a:avLst>
              <a:gd name="adj1" fmla="val 50000"/>
              <a:gd name="adj2" fmla="val 50058"/>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Down Arrow 8"/>
          <p:cNvSpPr/>
          <p:nvPr/>
        </p:nvSpPr>
        <p:spPr>
          <a:xfrm rot="10800000">
            <a:off x="985320" y="2361960"/>
            <a:ext cx="484200" cy="533160"/>
          </a:xfrm>
          <a:prstGeom prst="downArrow">
            <a:avLst>
              <a:gd name="adj1" fmla="val 50000"/>
              <a:gd name="adj2" fmla="val 50024"/>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Down Arrow 9"/>
          <p:cNvSpPr/>
          <p:nvPr/>
        </p:nvSpPr>
        <p:spPr>
          <a:xfrm rot="10800000">
            <a:off x="5714640" y="4111560"/>
            <a:ext cx="484200" cy="533520"/>
          </a:xfrm>
          <a:prstGeom prst="downArrow">
            <a:avLst>
              <a:gd name="adj1" fmla="val 50000"/>
              <a:gd name="adj2" fmla="val 50058"/>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Down Arrow 10"/>
          <p:cNvSpPr/>
          <p:nvPr/>
        </p:nvSpPr>
        <p:spPr>
          <a:xfrm rot="10800000">
            <a:off x="5714640" y="3162240"/>
            <a:ext cx="484200" cy="533520"/>
          </a:xfrm>
          <a:prstGeom prst="downArrow">
            <a:avLst>
              <a:gd name="adj1" fmla="val 50000"/>
              <a:gd name="adj2" fmla="val 50058"/>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Down Arrow 11"/>
          <p:cNvSpPr/>
          <p:nvPr/>
        </p:nvSpPr>
        <p:spPr>
          <a:xfrm rot="10800000">
            <a:off x="5714640" y="2359080"/>
            <a:ext cx="484200" cy="533520"/>
          </a:xfrm>
          <a:prstGeom prst="downArrow">
            <a:avLst>
              <a:gd name="adj1" fmla="val 50000"/>
              <a:gd name="adj2" fmla="val 50058"/>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788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Strength - Evidence</a:t>
            </a:r>
            <a:endParaRPr b="0" lang="en-US" sz="2800" spc="-1" strike="noStrike">
              <a:solidFill>
                <a:srgbClr val="04617b"/>
              </a:solidFill>
              <a:latin typeface="Calibri"/>
            </a:endParaRPr>
          </a:p>
        </p:txBody>
      </p:sp>
      <p:sp>
        <p:nvSpPr>
          <p:cNvPr id="322" name=""/>
          <p:cNvSpPr txBox="1"/>
          <p:nvPr/>
        </p:nvSpPr>
        <p:spPr>
          <a:xfrm>
            <a:off x="457200" y="1143000"/>
            <a:ext cx="8229600" cy="4952880"/>
          </a:xfrm>
          <a:prstGeom prst="rect">
            <a:avLst/>
          </a:prstGeom>
          <a:noFill/>
          <a:ln w="0">
            <a:noFill/>
          </a:ln>
        </p:spPr>
        <p:txBody>
          <a:bodyPr anchor="t">
            <a:normAutofit fontScale="98000"/>
          </a:bodyPr>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ystematic review to determine the effect of inspiratory muscle training (IMT) on inspiratory muscle strength and endurance, exercise capacity, dyspnoea and quality of life for adolescents and adults living with cystic fibrosis.</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rticles were included if:</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1) participants were adolescents or adults with cystic fibrosis (413 years of age)</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2) an IMT group was compared to a sham IMT, no intervention or other intervention group</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3) the study used a randomized controlled trial or cross-over design</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4) it was published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Results: The search strategy yielded 36 articles</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Meta-analyses were limited to forced expiratory volume in 1 second (FEV1) and forced vital capacity (FVC)</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No difference in effect between the IMT group and the sham and/or control group.</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ndividual study results were inconclusive for improvement in inspiratory muscle strength</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ne study demonstrated improvement in inspiratory muscle endurance.</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onclusion: </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 benefit of IMT in adolescents and adults with cystic fibrosis for outcomes of inspiratory muscle function is supported by weak evidence. </a:t>
            </a:r>
            <a:endParaRPr b="0" lang="en-US" sz="1600" spc="-1" strike="noStrike">
              <a:solidFill>
                <a:srgbClr val="000000"/>
              </a:solidFill>
              <a:latin typeface="Constantia"/>
            </a:endParaRPr>
          </a:p>
          <a:p>
            <a:pPr lvl="1" marL="626760" indent="-24084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ts impact on exercise capacity, dyspnoea and quality of life is not clear</a:t>
            </a:r>
            <a:endParaRPr b="0" lang="en-US" sz="1600" spc="-1" strike="noStrike">
              <a:solidFill>
                <a:srgbClr val="000000"/>
              </a:solidFill>
              <a:latin typeface="Constantia"/>
            </a:endParaRPr>
          </a:p>
        </p:txBody>
      </p:sp>
      <p:sp>
        <p:nvSpPr>
          <p:cNvPr id="323" name="Text Box 4"/>
          <p:cNvSpPr/>
          <p:nvPr/>
        </p:nvSpPr>
        <p:spPr>
          <a:xfrm>
            <a:off x="457200" y="609588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d et al, </a:t>
            </a:r>
            <a:r>
              <a:rPr b="0" lang="en-US" sz="1800" spc="-1" strike="noStrike" u="sng">
                <a:solidFill>
                  <a:srgbClr val="e2d700"/>
                </a:solidFill>
                <a:uFillTx/>
                <a:latin typeface="Arial"/>
                <a:hlinkClick r:id="rId1"/>
              </a:rPr>
              <a:t>Effects of inspiratory muscle training in cystic fibrosis: a systematic review</a:t>
            </a:r>
            <a:r>
              <a:rPr b="0" lang="en-US" sz="1800" spc="-1" strike="noStrike">
                <a:solidFill>
                  <a:srgbClr val="000000"/>
                </a:solidFill>
                <a:latin typeface="Arial"/>
              </a:rPr>
              <a:t>, Cli</a:t>
            </a:r>
            <a:r>
              <a:rPr b="1" lang="en-US" sz="1800" spc="-1" strike="noStrike">
                <a:solidFill>
                  <a:srgbClr val="000000"/>
                </a:solidFill>
                <a:latin typeface="Arial"/>
              </a:rPr>
              <a:t>nical Rehabilitation.</a:t>
            </a:r>
            <a:r>
              <a:rPr b="0" lang="en-US" sz="1800" spc="-1" strike="noStrike">
                <a:solidFill>
                  <a:srgbClr val="000000"/>
                </a:solidFill>
                <a:latin typeface="Arial"/>
              </a:rPr>
              <a:t> London: Oct 2008. Vol. 22, Iss. 1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Goals and Outcomes Impact on Pathology</a:t>
            </a:r>
            <a:endParaRPr b="0" lang="en-US" sz="3200" spc="-1" strike="noStrike">
              <a:solidFill>
                <a:srgbClr val="04617b"/>
              </a:solidFill>
              <a:latin typeface="Calibri"/>
            </a:endParaRPr>
          </a:p>
        </p:txBody>
      </p:sp>
      <p:sp>
        <p:nvSpPr>
          <p:cNvPr id="325" name=""/>
          <p:cNvSpPr txBox="1"/>
          <p:nvPr/>
        </p:nvSpPr>
        <p:spPr>
          <a:xfrm>
            <a:off x="457200" y="1447560"/>
            <a:ext cx="8229600" cy="525780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telectasis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Joint swelling, inflammation, restricti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Nutrient delivery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Osteogenic effects of exercise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Pain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Physiological respons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oft tissue swelling, inflammation, restricti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Increased oxygen demand symptom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Tissue perfusion and oxygen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04920"/>
            <a:ext cx="8229600" cy="576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0" lang="en-US" sz="2400" spc="-1" strike="noStrike">
                <a:solidFill>
                  <a:srgbClr val="04617b"/>
                </a:solidFill>
                <a:latin typeface="Calibri"/>
              </a:rPr>
              <a:t>Goals and Outcomes Impact on Impairments</a:t>
            </a:r>
            <a:br>
              <a:rPr sz="2400"/>
            </a:br>
            <a:endParaRPr b="0" lang="en-US" sz="2400" spc="-1" strike="noStrike">
              <a:solidFill>
                <a:srgbClr val="04617b"/>
              </a:solidFill>
              <a:latin typeface="Calibri"/>
            </a:endParaRPr>
          </a:p>
        </p:txBody>
      </p:sp>
      <p:sp>
        <p:nvSpPr>
          <p:cNvPr id="327" name=""/>
          <p:cNvSpPr txBox="1"/>
          <p:nvPr/>
        </p:nvSpPr>
        <p:spPr>
          <a:xfrm>
            <a:off x="457200" y="837720"/>
            <a:ext cx="8229600" cy="5791320"/>
          </a:xfrm>
          <a:prstGeom prst="rect">
            <a:avLst/>
          </a:prstGeom>
          <a:noFill/>
          <a:ln w="0">
            <a:noFill/>
          </a:ln>
        </p:spPr>
        <p:txBody>
          <a:bodyPr anchor="t">
            <a:normAutofit fontScale="95000"/>
          </a:bodyPr>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erobic capacity is increas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irway clearance is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Balance is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ndurance is increas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nergy expenditure per unit of work is decreased.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Gait, locomotion, and balance are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tegumentary integrity is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Joint integrity and mobility are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Motor function (motor control and motor learning) is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Muscle performance (strength, power, and endurance) is increas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ostural control is improved.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Quality and quantity of movement between and across body </a:t>
            </a:r>
            <a:r>
              <a:rPr b="0" lang="en-US" sz="2000" spc="-1" strike="noStrike">
                <a:solidFill>
                  <a:srgbClr val="000000"/>
                </a:solidFill>
                <a:latin typeface="Constantia"/>
              </a:rPr>
              <a:t>	</a:t>
            </a:r>
            <a:r>
              <a:rPr b="0" lang="en-US" sz="2000" spc="-1" strike="noStrike">
                <a:solidFill>
                  <a:srgbClr val="000000"/>
                </a:solidFill>
                <a:latin typeface="Constantia"/>
              </a:rPr>
              <a:t>segments are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ange of motion is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elaxation is increas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ensory awareness is increas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Ventilation and respiration/gas exchange are improved. </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eight-bearing status is improved.</a:t>
            </a:r>
            <a:endParaRPr b="0" lang="en-US" sz="2000" spc="-1" strike="noStrike">
              <a:solidFill>
                <a:srgbClr val="000000"/>
              </a:solidFill>
              <a:latin typeface="Constantia"/>
            </a:endParaRPr>
          </a:p>
          <a:p>
            <a:pPr marL="259200" indent="-259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ork of breathing is decrease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Goals and Outcomes Impact on Functional Limitations and Disabilities</a:t>
            </a:r>
            <a:endParaRPr b="0" lang="en-US" sz="2800" spc="-1" strike="noStrike">
              <a:solidFill>
                <a:srgbClr val="04617b"/>
              </a:solidFill>
              <a:latin typeface="Calibri"/>
            </a:endParaRPr>
          </a:p>
        </p:txBody>
      </p:sp>
      <p:sp>
        <p:nvSpPr>
          <p:cNvPr id="329" name=""/>
          <p:cNvSpPr txBox="1"/>
          <p:nvPr/>
        </p:nvSpPr>
        <p:spPr>
          <a:xfrm>
            <a:off x="457200" y="1676520"/>
            <a:ext cx="8229600" cy="5029200"/>
          </a:xfrm>
          <a:prstGeom prst="rect">
            <a:avLst/>
          </a:prstGeom>
          <a:noFill/>
          <a:ln w="0">
            <a:noFill/>
          </a:ln>
        </p:spPr>
        <p:txBody>
          <a:bodyPr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ctional Limitation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bility to perform physical actions, tasks, or activities </a:t>
            </a:r>
            <a:r>
              <a:rPr b="0" lang="en-US" sz="2400" spc="-1" strike="noStrike">
                <a:solidFill>
                  <a:srgbClr val="000000"/>
                </a:solidFill>
                <a:latin typeface="Constantia"/>
              </a:rPr>
              <a:t>	</a:t>
            </a:r>
            <a:r>
              <a:rPr b="0" lang="en-US" sz="2400" spc="-1" strike="noStrike">
                <a:solidFill>
                  <a:srgbClr val="000000"/>
                </a:solidFill>
                <a:latin typeface="Constantia"/>
              </a:rPr>
              <a:t>related to self-care, home management, work </a:t>
            </a:r>
            <a:r>
              <a:rPr b="0" lang="en-US" sz="2400" spc="-1" strike="noStrike">
                <a:solidFill>
                  <a:srgbClr val="000000"/>
                </a:solidFill>
                <a:latin typeface="Constantia"/>
              </a:rPr>
              <a:t>	</a:t>
            </a:r>
            <a:r>
              <a:rPr b="0" lang="en-US" sz="2400" spc="-1" strike="noStrike">
                <a:solidFill>
                  <a:srgbClr val="000000"/>
                </a:solidFill>
                <a:latin typeface="Constantia"/>
              </a:rPr>
              <a:t>(job/school/play), community, and leisure is </a:t>
            </a:r>
            <a:r>
              <a:rPr b="0" lang="en-US" sz="2400" spc="-1" strike="noStrike">
                <a:solidFill>
                  <a:srgbClr val="000000"/>
                </a:solidFill>
                <a:latin typeface="Constantia"/>
              </a:rPr>
              <a:t>	</a:t>
            </a:r>
            <a:r>
              <a:rPr b="0" lang="en-US" sz="2400" spc="-1" strike="noStrike">
                <a:solidFill>
                  <a:srgbClr val="000000"/>
                </a:solidFill>
                <a:latin typeface="Constantia"/>
              </a:rPr>
              <a:t>improv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Level of supervision required for task performance is </a:t>
            </a:r>
            <a:r>
              <a:rPr b="0" lang="en-US" sz="2400" spc="-1" strike="noStrike">
                <a:solidFill>
                  <a:srgbClr val="000000"/>
                </a:solidFill>
                <a:latin typeface="Constantia"/>
              </a:rPr>
              <a:t>	</a:t>
            </a:r>
            <a:r>
              <a:rPr b="0" lang="en-US" sz="2400" spc="-1" strike="noStrike">
                <a:solidFill>
                  <a:srgbClr val="000000"/>
                </a:solidFill>
                <a:latin typeface="Constantia"/>
              </a:rPr>
              <a:t>decreas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erformance of and independence in ADL and IADL with </a:t>
            </a:r>
            <a:r>
              <a:rPr b="0" lang="en-US" sz="2400" spc="-1" strike="noStrike">
                <a:solidFill>
                  <a:srgbClr val="000000"/>
                </a:solidFill>
                <a:latin typeface="Constantia"/>
              </a:rPr>
              <a:t>	</a:t>
            </a:r>
            <a:r>
              <a:rPr b="0" lang="en-US" sz="2400" spc="-1" strike="noStrike">
                <a:solidFill>
                  <a:srgbClr val="000000"/>
                </a:solidFill>
                <a:latin typeface="Constantia"/>
              </a:rPr>
              <a:t>or without devices and equipment are increas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olerance of positions and activities is increas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ct on disabilitie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bility to assume or resume required self-care, home </a:t>
            </a:r>
            <a:r>
              <a:rPr b="0" lang="en-US" sz="2400" spc="-1" strike="noStrike">
                <a:solidFill>
                  <a:srgbClr val="000000"/>
                </a:solidFill>
                <a:latin typeface="Constantia"/>
              </a:rPr>
              <a:t>	</a:t>
            </a:r>
            <a:r>
              <a:rPr b="0" lang="en-US" sz="2400" spc="-1" strike="noStrike">
                <a:solidFill>
                  <a:srgbClr val="000000"/>
                </a:solidFill>
                <a:latin typeface="Constantia"/>
              </a:rPr>
              <a:t>management, work (job/school/play), community, </a:t>
            </a:r>
            <a:r>
              <a:rPr b="0" lang="en-US" sz="2400" spc="-1" strike="noStrike">
                <a:solidFill>
                  <a:srgbClr val="000000"/>
                </a:solidFill>
                <a:latin typeface="Constantia"/>
              </a:rPr>
              <a:t>	</a:t>
            </a:r>
            <a:r>
              <a:rPr b="0" lang="en-US" sz="2400" spc="-1" strike="noStrike">
                <a:solidFill>
                  <a:srgbClr val="000000"/>
                </a:solidFill>
                <a:latin typeface="Constantia"/>
              </a:rPr>
              <a:t>and leisure roles is improve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Goals and Outcomes Risk Reduction/Prevention </a:t>
            </a:r>
            <a:br>
              <a:rPr sz="2800"/>
            </a:br>
            <a:r>
              <a:rPr b="0" lang="en-US" sz="2800" spc="-1" strike="noStrike">
                <a:solidFill>
                  <a:srgbClr val="04617b"/>
                </a:solidFill>
                <a:latin typeface="Calibri"/>
              </a:rPr>
              <a:t>Health, Wellness, and Fitness</a:t>
            </a:r>
            <a:endParaRPr b="0" lang="en-US" sz="2800" spc="-1" strike="noStrike">
              <a:solidFill>
                <a:srgbClr val="04617b"/>
              </a:solidFill>
              <a:latin typeface="Calibri"/>
            </a:endParaRPr>
          </a:p>
        </p:txBody>
      </p:sp>
      <p:sp>
        <p:nvSpPr>
          <p:cNvPr id="331" name=""/>
          <p:cNvSpPr txBox="1"/>
          <p:nvPr/>
        </p:nvSpPr>
        <p:spPr>
          <a:xfrm>
            <a:off x="457200" y="1752120"/>
            <a:ext cx="8229600" cy="4953240"/>
          </a:xfrm>
          <a:prstGeom prst="rect">
            <a:avLst/>
          </a:prstGeom>
          <a:noFill/>
          <a:ln w="0">
            <a:noFill/>
          </a:ln>
        </p:spPr>
        <p:txBody>
          <a:bodyPr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sk Reduction/Prevention</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reoperative and postoperative complications are </a:t>
            </a:r>
            <a:r>
              <a:rPr b="0" lang="en-US" sz="2400" spc="-1" strike="noStrike">
                <a:solidFill>
                  <a:srgbClr val="000000"/>
                </a:solidFill>
                <a:latin typeface="Constantia"/>
              </a:rPr>
              <a:t>	</a:t>
            </a:r>
            <a:r>
              <a:rPr b="0" lang="en-US" sz="2400" spc="-1" strike="noStrike">
                <a:solidFill>
                  <a:srgbClr val="000000"/>
                </a:solidFill>
                <a:latin typeface="Constantia"/>
              </a:rPr>
              <a:t>reduced. </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isk factors are reduc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isk of recurrence of condition is reduc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isk of secondary impairment is reduc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afety is improv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elf-management of symptoms is improv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ct on Health, Wellness, and Fitness</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Fitness is improv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Health status is improv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hysical capacity is increased.</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hysical function is improve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240"/>
            <a:ext cx="8229600" cy="927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Goals and Outcomes Impact on Societal Resources</a:t>
            </a:r>
            <a:br>
              <a:rPr sz="2800"/>
            </a:br>
            <a:r>
              <a:rPr b="0" lang="en-US" sz="2800" spc="-1" strike="noStrike">
                <a:solidFill>
                  <a:srgbClr val="04617b"/>
                </a:solidFill>
                <a:latin typeface="Calibri"/>
              </a:rPr>
              <a:t>&amp; Patient Satisfaction</a:t>
            </a:r>
            <a:endParaRPr b="0" lang="en-US" sz="2800" spc="-1" strike="noStrike">
              <a:solidFill>
                <a:srgbClr val="04617b"/>
              </a:solidFill>
              <a:latin typeface="Calibri"/>
            </a:endParaRPr>
          </a:p>
        </p:txBody>
      </p:sp>
      <p:sp>
        <p:nvSpPr>
          <p:cNvPr id="333" name=""/>
          <p:cNvSpPr txBox="1"/>
          <p:nvPr/>
        </p:nvSpPr>
        <p:spPr>
          <a:xfrm>
            <a:off x="457200" y="1371240"/>
            <a:ext cx="8229600" cy="5334120"/>
          </a:xfrm>
          <a:prstGeom prst="rect">
            <a:avLst/>
          </a:prstGeom>
          <a:noFill/>
          <a:ln w="0">
            <a:noFill/>
          </a:ln>
        </p:spPr>
        <p:txBody>
          <a:bodyPr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ocietal Resources</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tilization of physical therapy services is optimized.</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tilization of physical therapy services results in efficient use of </a:t>
            </a:r>
            <a:r>
              <a:rPr b="0" lang="en-US" sz="2000" spc="-1" strike="noStrike">
                <a:solidFill>
                  <a:srgbClr val="000000"/>
                </a:solidFill>
                <a:latin typeface="Constantia"/>
              </a:rPr>
              <a:t>	</a:t>
            </a:r>
            <a:r>
              <a:rPr b="0" lang="en-US" sz="2000" spc="-1" strike="noStrike">
                <a:solidFill>
                  <a:srgbClr val="000000"/>
                </a:solidFill>
                <a:latin typeface="Constantia"/>
              </a:rPr>
              <a:t>health care dollars.</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tient/client Satisfaction</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ccess, availability, and services provided are acceptable to </a:t>
            </a:r>
            <a:r>
              <a:rPr b="0" lang="en-US" sz="2000" spc="-1" strike="noStrike">
                <a:solidFill>
                  <a:srgbClr val="000000"/>
                </a:solidFill>
                <a:latin typeface="Constantia"/>
              </a:rPr>
              <a:t>	</a:t>
            </a:r>
            <a:r>
              <a:rPr b="0" lang="en-US" sz="2000" spc="-1" strike="noStrike">
                <a:solidFill>
                  <a:srgbClr val="000000"/>
                </a:solidFill>
                <a:latin typeface="Constantia"/>
              </a:rPr>
              <a:t>patient/client.</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dministrative management of practice is acceptable to </a:t>
            </a:r>
            <a:r>
              <a:rPr b="0" lang="en-US" sz="2000" spc="-1" strike="noStrike">
                <a:solidFill>
                  <a:srgbClr val="000000"/>
                </a:solidFill>
                <a:latin typeface="Constantia"/>
              </a:rPr>
              <a:t>	</a:t>
            </a:r>
            <a:r>
              <a:rPr b="0" lang="en-US" sz="2000" spc="-1" strike="noStrike">
                <a:solidFill>
                  <a:srgbClr val="000000"/>
                </a:solidFill>
                <a:latin typeface="Constantia"/>
              </a:rPr>
              <a:t>patient/client.</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linical proficiency of physical therapist is acceptable to </a:t>
            </a:r>
            <a:r>
              <a:rPr b="0" lang="en-US" sz="2000" spc="-1" strike="noStrike">
                <a:solidFill>
                  <a:srgbClr val="000000"/>
                </a:solidFill>
                <a:latin typeface="Constantia"/>
              </a:rPr>
              <a:t>	</a:t>
            </a:r>
            <a:r>
              <a:rPr b="0" lang="en-US" sz="2000" spc="-1" strike="noStrike">
                <a:solidFill>
                  <a:srgbClr val="000000"/>
                </a:solidFill>
                <a:latin typeface="Constantia"/>
              </a:rPr>
              <a:t>patient/client.</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oordination of care is acceptable to patient/client.</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ost of health care services is decreased.</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tensity of care is decreased.</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terpersonal skills of physical therapist are acceptable to </a:t>
            </a:r>
            <a:r>
              <a:rPr b="0" lang="en-US" sz="2000" spc="-1" strike="noStrike">
                <a:solidFill>
                  <a:srgbClr val="000000"/>
                </a:solidFill>
                <a:latin typeface="Constantia"/>
              </a:rPr>
              <a:t>	</a:t>
            </a:r>
            <a:r>
              <a:rPr b="0" lang="en-US" sz="2000" spc="-1" strike="noStrike">
                <a:solidFill>
                  <a:srgbClr val="000000"/>
                </a:solidFill>
                <a:latin typeface="Constantia"/>
              </a:rPr>
              <a:t>patient/client, family, and </a:t>
            </a:r>
            <a:r>
              <a:rPr b="0" lang="en-US" sz="2000" spc="-1" strike="noStrike">
                <a:solidFill>
                  <a:srgbClr val="000000"/>
                </a:solidFill>
                <a:latin typeface="Constantia"/>
              </a:rPr>
              <a:t>	</a:t>
            </a:r>
            <a:r>
              <a:rPr b="0" lang="en-US" sz="2000" spc="-1" strike="noStrike">
                <a:solidFill>
                  <a:srgbClr val="000000"/>
                </a:solidFill>
                <a:latin typeface="Constantia"/>
              </a:rPr>
              <a:t>significant others.</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ense of well-being is improved.</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tressors are decrease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160" y="-1143000"/>
            <a:ext cx="822636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0" name="Picture 3" descr=""/>
          <p:cNvPicPr/>
          <p:nvPr/>
        </p:nvPicPr>
        <p:blipFill>
          <a:blip r:embed="rId1"/>
          <a:stretch/>
        </p:blipFill>
        <p:spPr>
          <a:xfrm>
            <a:off x="2001960" y="0"/>
            <a:ext cx="5140080" cy="6858000"/>
          </a:xfrm>
          <a:prstGeom prst="rect">
            <a:avLst/>
          </a:prstGeom>
          <a:ln w="0">
            <a:noFill/>
          </a:ln>
        </p:spPr>
      </p:pic>
      <p:sp>
        <p:nvSpPr>
          <p:cNvPr id="221" name="Rectangle 4"/>
          <p:cNvSpPr/>
          <p:nvPr/>
        </p:nvSpPr>
        <p:spPr>
          <a:xfrm>
            <a:off x="2592360" y="6324480"/>
            <a:ext cx="414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9"/>
                </a:solidFill>
                <a:latin typeface="Arial"/>
              </a:rPr>
              <a:t>APTA, Guide PT Practice, 1st ed.199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rapeutic Exercise for Cardiopulmonary Practice Patterns</a:t>
            </a:r>
            <a:endParaRPr b="0" lang="en-US" sz="36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erobic capacity/endurance conditioning or reconditioning</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lance, coordination, and agility training</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ody mechanics and postural stabilization</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lexibility exercise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ait and locomotion training</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laxation</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rength, power, and endurance training for head, neck, limb, pelvic-floor, trunk, and ventilatory muscl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90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Pattern A:  Prevention and Risk</a:t>
            </a:r>
            <a:br>
              <a:rPr sz="2900"/>
            </a:br>
            <a:r>
              <a:rPr b="0" lang="en-US" sz="2900" spc="-1" strike="noStrike">
                <a:solidFill>
                  <a:srgbClr val="04617b"/>
                </a:solidFill>
                <a:latin typeface="Calibri"/>
              </a:rPr>
              <a:t>Inclusion Criteria</a:t>
            </a:r>
            <a:endParaRPr b="0" lang="en-US" sz="2900" spc="-1" strike="noStrike">
              <a:solidFill>
                <a:srgbClr val="04617b"/>
              </a:solidFill>
              <a:latin typeface="Calibri"/>
            </a:endParaRPr>
          </a:p>
        </p:txBody>
      </p:sp>
      <p:sp>
        <p:nvSpPr>
          <p:cNvPr id="225" name=""/>
          <p:cNvSpPr txBox="1"/>
          <p:nvPr/>
        </p:nvSpPr>
        <p:spPr>
          <a:xfrm>
            <a:off x="457200" y="1371240"/>
            <a:ext cx="8229600" cy="525780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sk Factors or Consequences of Pathology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Diabete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Family history of heart diseas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Hypercholesterolemia or hyperlipidemia</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Hypertensi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Obesit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edentary lifesty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mok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irments, Functional Limitations, or Disabilitie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Decreased functional work capacit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Decreased maximum aerobic capacit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Dyspnea on exerti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edentary job rol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765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Pattern A:  Prevention and Risk</a:t>
            </a:r>
            <a:br>
              <a:rPr sz="2900"/>
            </a:br>
            <a:r>
              <a:rPr b="0" lang="en-US" sz="2900" spc="-1" strike="noStrike">
                <a:solidFill>
                  <a:srgbClr val="04617b"/>
                </a:solidFill>
                <a:latin typeface="Calibri"/>
              </a:rPr>
              <a:t>Ther Ex</a:t>
            </a:r>
            <a:endParaRPr b="0" lang="en-US" sz="2900" spc="-1" strike="noStrike">
              <a:solidFill>
                <a:srgbClr val="04617b"/>
              </a:solidFill>
              <a:latin typeface="Calibri"/>
            </a:endParaRPr>
          </a:p>
        </p:txBody>
      </p:sp>
      <p:sp>
        <p:nvSpPr>
          <p:cNvPr id="227" name=""/>
          <p:cNvSpPr txBox="1"/>
          <p:nvPr/>
        </p:nvSpPr>
        <p:spPr>
          <a:xfrm>
            <a:off x="457200" y="1219320"/>
            <a:ext cx="8229600" cy="5410080"/>
          </a:xfrm>
          <a:prstGeom prst="rect">
            <a:avLst/>
          </a:prstGeom>
          <a:noFill/>
          <a:ln w="0">
            <a:noFill/>
          </a:ln>
        </p:spPr>
        <p:txBody>
          <a:bodyPr anchor="t">
            <a:normAutofit/>
          </a:bodyPr>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erobic capacity/endurance activities using ergometers, treadmills, steppers, pulleys, weights, hydraulics, elastic resistance bands, robotics, and mechanical or electromechanical devices</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quatic programs</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Gait and locomotion training - Walking and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wheelchair propulsion programs</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Increased workload over time</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Task-specific performance training</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lexibility exercises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Muscle lengthening</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Range of motion</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Stretching</a:t>
            </a: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dy mechanic and ergonomics training</a:t>
            </a: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eathing exercises</a:t>
            </a: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sture awareness training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3T01:20:05Z</dcterms:created>
  <dc:creator>lovascol</dc:creator>
  <dc:description/>
  <dc:language>en-US</dc:language>
  <cp:lastModifiedBy>SWEET, CHRISTINA</cp:lastModifiedBy>
  <cp:lastPrinted>2013-06-04T15:33:45Z</cp:lastPrinted>
  <dcterms:modified xsi:type="dcterms:W3CDTF">2013-06-06T13:07:52Z</dcterms:modified>
  <cp:revision>29</cp:revision>
  <dc:subject/>
  <dc:title>Therapeutic Exercise</dc:title>
</cp:coreProperties>
</file>