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0.png" ContentType="image/png"/>
  <Override PartName="/ppt/media/image18.wmf" ContentType="image/x-wmf"/>
  <Override PartName="/ppt/media/image21.wmf" ContentType="image/x-wmf"/>
  <Override PartName="/ppt/media/image13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31.wmf" ContentType="image/x-wmf"/>
  <Override PartName="/ppt/media/image11.png" ContentType="image/png"/>
  <Override PartName="/ppt/media/image29.wmf" ContentType="image/x-wmf"/>
  <Override PartName="/ppt/media/image9.wmf" ContentType="image/x-wmf"/>
  <Override PartName="/ppt/media/image34.wmf" ContentType="image/x-wmf"/>
  <Override PartName="/ppt/media/image32.wmf" ContentType="image/x-wmf"/>
  <Override PartName="/ppt/media/image12.png" ContentType="image/png"/>
  <Override PartName="/ppt/media/image33.wmf" ContentType="image/x-wmf"/>
  <Override PartName="/ppt/media/image35.wmf" ContentType="image/x-wmf"/>
  <Override PartName="/ppt/media/image36.wmf" ContentType="image/x-wmf"/>
  <Override PartName="/ppt/media/image37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6.wmf" ContentType="image/x-wmf"/>
  <Override PartName="/ppt/media/image17.png" ContentType="image/png"/>
  <Override PartName="/ppt/media/image1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91C3-917E-4ECF-BCA9-5BBF97A04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E6D4-7B80-4536-BEB8-E3A7C7F58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A248-6D07-4BDA-B0AF-9E4FC2113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19D0-E639-44D6-BCBE-004A35DFD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5ADD-7761-4954-B49F-BB1F08D73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B93A-18EA-4988-A341-913C4724B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0F55-D6A3-4924-B6F3-549D222AA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D6CC-6B25-4D2D-9736-C91D3396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98DB-E204-45D7-97CC-2DD6BB62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EE52-4342-4893-88D0-7D79F366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CF0D-413E-4766-B2B2-5BF6F48F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932C-E896-450D-9E5C-C1D84E8B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D387-A481-4547-90AA-42901E17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5CB8-C364-4AEA-9E60-147670B2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38D9-AE25-41BD-AF8F-F5113806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5187-4259-4050-9E30-CCEDBF7F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E559-3196-49CD-BD21-FAE7DC76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FEC8-9538-4E1B-8D03-87ADB78F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6BDE-5E40-4231-AE9B-B76C0BD1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4B6B-DDB0-4776-BF89-7F8076C7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D819-F117-40A4-8EFB-AE74A086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0819-6806-4E3D-9CA6-C42E739D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CD84-9BEB-4C54-87C5-B335C47D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F2EA-7C94-4F28-A9DA-30B43787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F3AD5-7666-4FFF-A012-E19AF17F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50FBC-AC3F-44FD-8216-8BB6A9C7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CC1A9-A054-404B-8724-4FF1F517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0CF69-1AE2-4ADF-8493-6A8E14DB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D97D9-9028-4506-A95E-89DFF331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EB1D-0F92-4139-9B69-F1FCC4B1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25939-A98A-4B21-8DFE-842A79C2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9A10F-A001-4D3C-9D36-263997E2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8A2CC-B111-4C79-82D8-1DE39238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1523C-5E37-418D-B3B8-7436EA02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BD095-F1A7-41EA-9453-93810D9A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63A94-0EA9-43C1-B75B-99A07161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0F512-55CA-4D76-9262-673951C7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F4209-0A79-4AAE-9D40-F006A8D6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A75F4-6685-4E59-BEF0-5F07C0FE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46BA9-36E4-44C5-BAF0-196C7A53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AF31-EB2E-4226-B733-CB12B71C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E51CA-D691-450F-9739-6132C5CB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82671-AF81-419A-8684-69ACD271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DBF6E-02C7-4B28-B9DC-55ADA3E5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F1435-3987-4BEF-8733-3A495601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62065-6076-4547-8C74-56921A47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99EA5-2E5A-4159-8A69-E650BACC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D2272-46A7-4529-8B58-7C1B6E43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1A36C-2EF7-49B5-8C12-D2CF17E1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95B14-DE32-49C2-B573-3176C0B6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FCF8-CC4E-4721-8665-8004CA10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E0B3-7A19-4B43-BAD9-E742E7FB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53A0-BA6A-4CB1-B645-BE1DD24E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5A6D-E702-48CA-8E23-943FEF84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23E1-66F1-4696-B6A5-CA6FCFA8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0902-6F26-4E83-9D49-A9B465CEEC7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454B-5E16-40B4-B9C1-C83F4884E9A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E40F-BDAE-4CFD-A292-C68298FECED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5C21-37E5-43B5-9582-411D93C7565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31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3" descr=""/>
          <p:cNvPicPr/>
          <p:nvPr/>
        </p:nvPicPr>
        <p:blipFill>
          <a:blip r:embed="rId1"/>
          <a:stretch/>
        </p:blipFill>
        <p:spPr>
          <a:xfrm>
            <a:off x="689040" y="1798560"/>
            <a:ext cx="7772400" cy="21337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atalia Fernandez, PT, MS, MSc, CC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University of Michigan Health Care System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Department of Physical Medicine and Rehabilitation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5" descr="exphys"/>
          <p:cNvPicPr/>
          <p:nvPr/>
        </p:nvPicPr>
        <p:blipFill>
          <a:blip r:embed="rId2"/>
          <a:stretch/>
        </p:blipFill>
        <p:spPr>
          <a:xfrm>
            <a:off x="7315200" y="609480"/>
            <a:ext cx="140004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5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476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/>
          <p:cNvPicPr/>
          <p:nvPr/>
        </p:nvPicPr>
        <p:blipFill>
          <a:blip r:embed="rId2"/>
          <a:stretch/>
        </p:blipFill>
        <p:spPr>
          <a:xfrm>
            <a:off x="393840" y="1990800"/>
            <a:ext cx="82929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Rectangle 4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476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2"/>
          <a:srcRect l="0" t="0" r="3538" b="53103"/>
          <a:stretch/>
        </p:blipFill>
        <p:spPr>
          <a:xfrm>
            <a:off x="609480" y="1981080"/>
            <a:ext cx="7772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4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476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609480" y="1846440"/>
            <a:ext cx="7850160" cy="1277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3"/>
          <a:stretch/>
        </p:blipFill>
        <p:spPr>
          <a:xfrm>
            <a:off x="2362320" y="3200400"/>
            <a:ext cx="45687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4" descr=""/>
          <p:cNvPicPr/>
          <p:nvPr/>
        </p:nvPicPr>
        <p:blipFill>
          <a:blip r:embed="rId1"/>
          <a:stretch/>
        </p:blipFill>
        <p:spPr>
          <a:xfrm>
            <a:off x="79200" y="706320"/>
            <a:ext cx="8686800" cy="1524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rcRect l="5098" t="0" r="2962" b="11884"/>
          <a:stretch/>
        </p:blipFill>
        <p:spPr>
          <a:xfrm>
            <a:off x="1066680" y="1650960"/>
            <a:ext cx="682812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nimizing Risk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Assess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termine who requires medical clearance, exercise testing, physician supervised tes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CSM Algorithm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HA/ACSM Questionnaire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AR-Q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ACVPR &amp; AHA Risk Stratifica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rcRect l="0" t="0" r="4235" b="55948"/>
          <a:stretch/>
        </p:blipFill>
        <p:spPr>
          <a:xfrm>
            <a:off x="0" y="685800"/>
            <a:ext cx="8991720" cy="52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rcRect l="0" t="44056" r="0" b="0"/>
          <a:stretch/>
        </p:blipFill>
        <p:spPr>
          <a:xfrm>
            <a:off x="380880" y="457200"/>
            <a:ext cx="830592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creening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isk Fact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Younger asymptomatic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ith 1 or less risk factor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e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lder or 2 + risk factor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1+ signs/symptoms or known diseas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Screening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Major Signs &amp; Symp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ginal Pa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B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zziness or Syncop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thopnea or Nocturnal Dyspne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mittent Claudic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nown heart murmu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usual fatigue/SOB /w activ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4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476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"/>
          <p:cNvPicPr/>
          <p:nvPr/>
        </p:nvPicPr>
        <p:blipFill>
          <a:blip r:embed="rId2"/>
          <a:srcRect l="0" t="0" r="6345" b="51275"/>
          <a:stretch/>
        </p:blipFill>
        <p:spPr>
          <a:xfrm>
            <a:off x="838080" y="2133720"/>
            <a:ext cx="76964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ercise Test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oosing a Test (Indications &amp; Contraindication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dministering a Test including 12 lead ECG during maximal graded exercise tes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preting the Test Resul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y? outcome measure, baseline, determine limi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ercise Prescrip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ing the Exercise Prescrip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ining Progre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-evalu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nimizing Risk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Pre-Exercise Evaluations (con’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ysical Examination Box (3-2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ody Comp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ulse rate and rhythm &amp; Peripheral puls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P; seated, supine &amp; Standin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eart &amp; Lung Ausculta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bdominal Evalua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rthopedic/Neurological Func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kin &amp; Lower Extremiti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nimizing Risk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Pre-Exercise Evaluations (con’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oratory Analysis (3-2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Lipid Profil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Glucose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hyroid Func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ther (High Risk or known diseas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olter Monitor, ECG, angiography, Chest Radiograph, Ultrasound, PF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4" descr=""/>
          <p:cNvPicPr/>
          <p:nvPr/>
        </p:nvPicPr>
        <p:blipFill>
          <a:blip r:embed="rId1"/>
          <a:stretch/>
        </p:blipFill>
        <p:spPr>
          <a:xfrm>
            <a:off x="438120" y="457200"/>
            <a:ext cx="8309160" cy="14810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2"/>
          <a:srcRect l="0" t="0" r="6299" b="0"/>
          <a:stretch/>
        </p:blipFill>
        <p:spPr>
          <a:xfrm>
            <a:off x="2286000" y="1676520"/>
            <a:ext cx="4616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traindications to Test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Absolute Contraindic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ent significant ECG Chan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stable Angi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controlled Arrythmi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vere Aortic Steno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controlled Heart Fail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 or PI, Acute Myocarditis or pericardit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ssecting aneurys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ute Infe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45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CSM Ch. 3 p.5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traindications to Test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Relative Contraindication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ft main coronary steno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erate stenotic valve disea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ectrolyte imbal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vere HTN (200/11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chy-arrhythmias or brady-arrythmi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rdiomyopath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traindications to Test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Other Relative Contraindic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uro/Ortho disor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 Degree AV Blo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ntricular aneurys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controlled metabolic disea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ronic infectious disea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nimizing Risk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Signed/Informed Consent (Fig 3-1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 of lawful 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t be mentally incapacita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now and comprehend ris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ive voluntary cons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Ambient Enviro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mperature/humidity 70-75 degrees 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ganization, safety, priva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Patient Pretest Instruction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ear comfortable shoes &amp; cloth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rink plenty of water (See Fluid Guide Pyramid, Gatorade, Inc.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void food, tobacco, alcohol &amp; Caffeine 4 hrs prior to testing (or overnigh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void strenuous exercise the day of the tes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et adequate sleep prior to the tes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4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4464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rcRect l="0" t="593" r="3092" b="3427"/>
          <a:stretch/>
        </p:blipFill>
        <p:spPr>
          <a:xfrm>
            <a:off x="228600" y="609480"/>
            <a:ext cx="83422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Minimizing Risk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nitoring HR and Rhythm [HR monitor or ECG], BP, RPE, SAO2 if h/o hypoxia (e.g. pulmonary disease, CHF, Renal Failure, etc.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fore, during and af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now in advance when to Stop the Te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 Prepared for an Emergen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y Exercise Te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termine the safety of exerci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 Exercise Guidel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nitor Progr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mote Patient Education/Motiv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earch on treatment/training interven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4" descr=""/>
          <p:cNvPicPr/>
          <p:nvPr/>
        </p:nvPicPr>
        <p:blipFill>
          <a:blip r:embed="rId1"/>
          <a:stretch/>
        </p:blipFill>
        <p:spPr>
          <a:xfrm>
            <a:off x="384120" y="536400"/>
            <a:ext cx="8302680" cy="1524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/>
          <p:cNvPicPr/>
          <p:nvPr/>
        </p:nvPicPr>
        <p:blipFill>
          <a:blip r:embed="rId2"/>
          <a:srcRect l="0" t="0" r="0" b="7208"/>
          <a:stretch/>
        </p:blipFill>
        <p:spPr>
          <a:xfrm>
            <a:off x="380880" y="676440"/>
            <a:ext cx="813924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hoose the Exercise Test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cute Care (Functional Assessmen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eld Tes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ubmaximal Exercise Tes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ymptom Limited GX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aximal GX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xygen Analysis Tes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4" marL="1447200" indent="-207360">
              <a:spcBef>
                <a:spcPts val="45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oonan &amp; Dea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47200" indent="-207360">
              <a:spcBef>
                <a:spcPts val="45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CS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Submaximal Vs Maximal Test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th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oose appropriate test protoc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ke test; treadmill test. Functional assessmen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termine HR response to workloa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dict V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with equations or graph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imes New Roman"/>
              </a:rPr>
              <a:t>Functional Assess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57200" y="1935000"/>
          <a:ext cx="8229600" cy="4526280"/>
        </p:xfrm>
        <a:graphic>
          <a:graphicData uri="http://schemas.openxmlformats.org/drawingml/2006/table">
            <a:tbl>
              <a:tblPr/>
              <a:tblGrid>
                <a:gridCol w="1828800"/>
                <a:gridCol w="1295280"/>
                <a:gridCol w="1371600"/>
                <a:gridCol w="1295640"/>
                <a:gridCol w="1066680"/>
                <a:gridCol w="1371600"/>
              </a:tblGrid>
              <a:tr h="905040"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O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6840" rIns="9684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60093"/>
                          </a:solidFill>
                          <a:latin typeface="Times New Roman"/>
                          <a:ea typeface="Times New Roman"/>
                        </a:rPr>
                        <a:t>Sup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/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120">
                <a:tc>
                  <a:txBody>
                    <a:bodyPr lIns="96840" rIns="9684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60093"/>
                          </a:solidFill>
                          <a:latin typeface="Times New Roman"/>
                          <a:ea typeface="Times New Roman"/>
                        </a:rPr>
                        <a:t>S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/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6840" rIns="9684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60093"/>
                          </a:solidFill>
                          <a:latin typeface="Times New Roman"/>
                          <a:ea typeface="Times New Roman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/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6840" rIns="9684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60093"/>
                          </a:solidFill>
                          <a:latin typeface="Times New Roman"/>
                          <a:ea typeface="Times New Roman"/>
                        </a:rPr>
                        <a:t>Ambu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/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464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Exercise Guidelin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0880" y="1600200"/>
          <a:ext cx="8382240" cy="4127400"/>
        </p:xfrm>
        <a:graphic>
          <a:graphicData uri="http://schemas.openxmlformats.org/drawingml/2006/table">
            <a:tbl>
              <a:tblPr/>
              <a:tblGrid>
                <a:gridCol w="1933560"/>
                <a:gridCol w="1774800"/>
                <a:gridCol w="1451160"/>
                <a:gridCol w="1544760"/>
                <a:gridCol w="1677960"/>
              </a:tblGrid>
              <a:tr h="7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o Exerc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Light Exerc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Exerc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Unrestricted Exerc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matocri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25%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3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40%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-4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-50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moglobi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8 g/dl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10 g/dl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2 g/d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4 g/dl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16 g/d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-18 g/dl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B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5000/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h fever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00-10,000/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tel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20,000/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00-30,000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00-50,000mm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Text Box 41"/>
          <p:cNvSpPr/>
          <p:nvPr/>
        </p:nvSpPr>
        <p:spPr>
          <a:xfrm>
            <a:off x="380880" y="60958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 R.S. Sayre and B.C. Marcoux, 1992, L. Pfalzer 1988, Winningham, 1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nical Exercise Testing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boratory Testing Protocols (Fig 5-3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creening/Diagnostic/Research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hoose test protocol for individua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Lasts ~ 9-12 minut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LGX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ubmaxima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axima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Submaximal Vs Maximal Test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cura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rediction Equatio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teady State HR achieved &amp; measured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R increases linearly with workload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R &amp; BMR are uniform for age/gende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echanical Efficienc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ubmax is for functional interventions, to get target for EX percription.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aximal if for cardiac assessment.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dd9"/>
                </a:solidFill>
                <a:latin typeface="Calibri"/>
              </a:rPr>
              <a:t>Exercise Prescriptions Training HR Rate Range-Method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51920" y="20574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ge Adjusted Predicted Training Heart Rate Rang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[220- age] x (.50 to .7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RR – Heart Rate Reserve/Karvonen Metho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R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threshol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= HR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res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+ 0.60 (HR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- HR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res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rcRect l="5555" t="7684" r="0" b="22069"/>
          <a:stretch/>
        </p:blipFill>
        <p:spPr>
          <a:xfrm>
            <a:off x="3962520" y="2286000"/>
            <a:ext cx="495288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6" descr=""/>
          <p:cNvPicPr/>
          <p:nvPr/>
        </p:nvPicPr>
        <p:blipFill>
          <a:blip r:embed="rId1"/>
          <a:srcRect l="5075" t="0" r="4630" b="0"/>
          <a:stretch/>
        </p:blipFill>
        <p:spPr>
          <a:xfrm>
            <a:off x="990720" y="392040"/>
            <a:ext cx="6781680" cy="64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bmaximal Tes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trand Bicycle Tes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6 minute t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attage: conditioning &amp; gend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mogra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rrection Fact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isks of Exercise Test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ercise Testing is Relatively Safe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70,000 GXT at 73 medical center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rtality rate 0.01% per 10,00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rbidity rate 0.03% per 10,00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45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ochmis et al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JAM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197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518,448 GXT at 1375 medical cent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rtality rate 0.0005% per 10,00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rbidity rate 0.09% per 10,00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45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tuart &amp; Ellestad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Chest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4572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6 per 10,000 tes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bmaximal Tes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MCA Bicycle Tes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art at 150 kg/m &amp; 50 rpm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sess HR &amp; determine next st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plot/graph to estimate max H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6" name="Picture 5" descr=""/>
          <p:cNvPicPr/>
          <p:nvPr/>
        </p:nvPicPr>
        <p:blipFill>
          <a:blip r:embed="rId1"/>
          <a:srcRect l="0" t="0" r="3579" b="37067"/>
          <a:stretch/>
        </p:blipFill>
        <p:spPr>
          <a:xfrm>
            <a:off x="533520" y="465120"/>
            <a:ext cx="784836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5" descr=""/>
          <p:cNvPicPr/>
          <p:nvPr/>
        </p:nvPicPr>
        <p:blipFill>
          <a:blip r:embed="rId1"/>
          <a:srcRect l="5296" t="62941" r="5697" b="6851"/>
          <a:stretch/>
        </p:blipFill>
        <p:spPr>
          <a:xfrm>
            <a:off x="990720" y="228600"/>
            <a:ext cx="6933960" cy="29718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"/>
          <p:cNvPicPr/>
          <p:nvPr/>
        </p:nvPicPr>
        <p:blipFill>
          <a:blip r:embed="rId2"/>
          <a:srcRect l="0" t="0" r="12773" b="68464"/>
          <a:stretch/>
        </p:blipFill>
        <p:spPr>
          <a:xfrm>
            <a:off x="0" y="3429000"/>
            <a:ext cx="3048120" cy="2727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"/>
          <p:cNvPicPr/>
          <p:nvPr/>
        </p:nvPicPr>
        <p:blipFill>
          <a:blip r:embed="rId3"/>
          <a:srcRect l="2293" t="30609" r="12773" b="32292"/>
          <a:stretch/>
        </p:blipFill>
        <p:spPr>
          <a:xfrm>
            <a:off x="6324480" y="3505320"/>
            <a:ext cx="2819520" cy="30477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"/>
          <p:cNvPicPr/>
          <p:nvPr/>
        </p:nvPicPr>
        <p:blipFill>
          <a:blip r:embed="rId4"/>
          <a:srcRect l="0" t="65860" r="5884" b="1683"/>
          <a:stretch/>
        </p:blipFill>
        <p:spPr>
          <a:xfrm>
            <a:off x="2971800" y="3505320"/>
            <a:ext cx="32004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ield Tes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lking/Running Tes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ep Tes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ield Tes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lking/Running Tes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6 min &amp; 12 min walk test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Rockport 1.0 Mile Tes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ooper 12 minute &amp; 1.5 mile Walk Test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aximal tests &amp; Little monitorin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ssumes same mechanical efficienc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ssumes similar Resting HR &amp; HR response, BMR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Field Test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6 min &amp; 12 min walk tes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scriptive: Max dist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ockport 1.0 Mil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ax incorporates age, gender, mass, time &amp; H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oper 12 minute &amp; 1.5 mile Walk Tes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V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max = 3.5 + 483/ time in minu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Field Test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ep Tes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Used to assess large groups of subject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ssesses Fitness Categori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imilar Assumptions to other predictive equations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rcRect l="0" t="0" r="1682" b="0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rcRect l="1485" t="0" r="6589" b="0"/>
          <a:stretch/>
        </p:blipFill>
        <p:spPr>
          <a:xfrm>
            <a:off x="4508640" y="533520"/>
            <a:ext cx="4483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"/>
          <p:cNvPicPr/>
          <p:nvPr/>
        </p:nvPicPr>
        <p:blipFill>
          <a:blip r:embed="rId1"/>
          <a:srcRect l="0" t="0" r="0" b="17246"/>
          <a:stretch/>
        </p:blipFill>
        <p:spPr>
          <a:xfrm>
            <a:off x="533520" y="304920"/>
            <a:ext cx="800100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1"/>
          <a:srcRect l="0" t="0" r="0" b="64970"/>
          <a:stretch/>
        </p:blipFill>
        <p:spPr>
          <a:xfrm>
            <a:off x="380880" y="304920"/>
            <a:ext cx="8458200" cy="42145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"/>
          <p:cNvPicPr/>
          <p:nvPr/>
        </p:nvPicPr>
        <p:blipFill>
          <a:blip r:embed="rId2"/>
          <a:srcRect l="0" t="85910" r="0" b="0"/>
          <a:stretch/>
        </p:blipFill>
        <p:spPr>
          <a:xfrm>
            <a:off x="380880" y="4495680"/>
            <a:ext cx="845820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rcRect l="5686" t="4888" r="8619" b="25930"/>
          <a:stretch/>
        </p:blipFill>
        <p:spPr>
          <a:xfrm>
            <a:off x="380880" y="457200"/>
            <a:ext cx="822960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5" descr=""/>
          <p:cNvPicPr/>
          <p:nvPr/>
        </p:nvPicPr>
        <p:blipFill>
          <a:blip r:embed="rId1"/>
          <a:srcRect l="0" t="34947" r="0" b="4087"/>
          <a:stretch/>
        </p:blipFill>
        <p:spPr>
          <a:xfrm>
            <a:off x="609480" y="779400"/>
            <a:ext cx="7315200" cy="6078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"/>
          <p:cNvPicPr/>
          <p:nvPr/>
        </p:nvPicPr>
        <p:blipFill>
          <a:blip r:embed="rId2"/>
          <a:srcRect l="0" t="1419" r="0" b="90827"/>
          <a:stretch/>
        </p:blipFill>
        <p:spPr>
          <a:xfrm>
            <a:off x="609480" y="7920"/>
            <a:ext cx="731520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Test Guidelin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-Te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tient Instru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reening/Risk Assessment (Par Q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formed Cons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nstantia"/>
              </a:rPr>
              <a:t>Resting Vit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R, BP, RR, ECG, SaO2; S &amp; 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Test Guidelin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tient Instru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arm-u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nitor &amp; Record HR, BP RPE, EC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termine Test Termin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ol Dow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Test Termination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Apparently Healthy Subj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aches predetermined end poi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ject requests to stop/marked fatig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ailure of Equip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set of angi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&gt; 20 mm Hg drop in BPs or failure to ri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Ps &gt; 260 mm Hg. or BPd &gt;115 mm H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 &amp; 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ailure of HR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with workload incre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ange in heart rhyth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Test Termination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Apparently Healthy or Otherwise Subj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set of angi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&gt; 20 mm Hg drop in BPs or failure to ri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Ps &gt; 260 mm Hg. or BPd &gt;115 mm H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ailure of HR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with workload incre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ange in heart rhyth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 &amp; S; confusion, dyspnea, leg cramps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Test Interpretat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Parameters to Exam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ason test was termina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R, BP, RR respon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S respon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CG Respon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igns &amp; Symptoms: Angina, Dyspne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Exercise Prescript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ercise prescription is based on -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st Interpretation --Person’s Initial Fitn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al of trai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ntensit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Dura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Frequenc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od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rcRect l="16415" t="0" r="4638" b="0"/>
          <a:stretch/>
        </p:blipFill>
        <p:spPr>
          <a:xfrm>
            <a:off x="3613320" y="3048120"/>
            <a:ext cx="553068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Maximal Oxygen Uptak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erobic Capacity Assessment: </a:t>
            </a:r>
            <a:r>
              <a:rPr b="0" lang="en-US" sz="2800" spc="-1" strike="noStrike">
                <a:solidFill>
                  <a:srgbClr val="ffcc00"/>
                </a:solidFill>
                <a:latin typeface="Constantia"/>
              </a:rPr>
              <a:t>Gold Standar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eadmill or other protoc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R or V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fail to rise with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in workload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RPE = 19+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Respiratory Exchange Ratio (R) &gt; 1.15 (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/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La Levels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AutoShape 4"/>
          <p:cNvSpPr/>
          <p:nvPr/>
        </p:nvSpPr>
        <p:spPr>
          <a:xfrm>
            <a:off x="7391520" y="380880"/>
            <a:ext cx="1295280" cy="1143000"/>
          </a:xfrm>
          <a:custGeom>
            <a:avLst/>
            <a:gdLst/>
            <a:ahLst/>
            <a:rect l="l" t="t" r="r" b="b"/>
            <a:pathLst>
              <a:path w="1295400" h="1143000">
                <a:moveTo>
                  <a:pt x="1" y="436586"/>
                </a:moveTo>
                <a:lnTo>
                  <a:pt x="494802" y="436589"/>
                </a:lnTo>
                <a:lnTo>
                  <a:pt x="647700" y="0"/>
                </a:lnTo>
                <a:lnTo>
                  <a:pt x="800598" y="436589"/>
                </a:lnTo>
                <a:lnTo>
                  <a:pt x="1295399" y="436586"/>
                </a:lnTo>
                <a:lnTo>
                  <a:pt x="895095" y="706410"/>
                </a:lnTo>
                <a:lnTo>
                  <a:pt x="1048000" y="1142997"/>
                </a:lnTo>
                <a:lnTo>
                  <a:pt x="647700" y="873168"/>
                </a:lnTo>
                <a:lnTo>
                  <a:pt x="247400" y="1142997"/>
                </a:lnTo>
                <a:lnTo>
                  <a:pt x="400305" y="706410"/>
                </a:lnTo>
                <a:lnTo>
                  <a:pt x="1" y="43658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5" name="Picture 5" descr=""/>
          <p:cNvPicPr/>
          <p:nvPr/>
        </p:nvPicPr>
        <p:blipFill>
          <a:blip r:embed="rId1"/>
          <a:srcRect l="0" t="0" r="0" b="28750"/>
          <a:stretch/>
        </p:blipFill>
        <p:spPr>
          <a:xfrm>
            <a:off x="380880" y="457200"/>
            <a:ext cx="83822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Picture 6" descr=""/>
          <p:cNvPicPr/>
          <p:nvPr/>
        </p:nvPicPr>
        <p:blipFill>
          <a:blip r:embed="rId1"/>
          <a:srcRect l="7929" t="0" r="7929" b="33918"/>
          <a:stretch/>
        </p:blipFill>
        <p:spPr>
          <a:xfrm>
            <a:off x="380880" y="304920"/>
            <a:ext cx="845820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Risks during Cardiac Rehabilita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In Cardiac Reha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sks extremely low for supervised moderate activ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me &amp; Clinic risk is equ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Exception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Vigorous Exerci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00 x risk of healthy popul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nimizing Risk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Pre-participation Screening/Health Risk Apprais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y individuals at risk for adverse events from exerci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xacerbation of conditions: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ardiovascular, Pulmonary, Metabolic Diseas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↑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Times New Roman"/>
              </a:rPr>
              <a:t>Risk Factors requiring medical consult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Times New Roman"/>
              </a:rPr>
              <a:t>Require supervised exercis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Times New Roman"/>
              </a:rPr>
              <a:t>Special need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ectangle 4" descr=""/>
          <p:cNvPicPr/>
          <p:nvPr/>
        </p:nvPicPr>
        <p:blipFill>
          <a:blip r:embed="rId1"/>
          <a:stretch/>
        </p:blipFill>
        <p:spPr>
          <a:xfrm>
            <a:off x="536400" y="42840"/>
            <a:ext cx="7772400" cy="1335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2"/>
          <a:srcRect l="0" t="0" r="2777" b="27398"/>
          <a:stretch/>
        </p:blipFill>
        <p:spPr>
          <a:xfrm>
            <a:off x="380880" y="1003320"/>
            <a:ext cx="830592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0T19:25:56Z</dcterms:created>
  <dc:creator>Jacqueline S. Drouin</dc:creator>
  <dc:description/>
  <dc:language>en-US</dc:language>
  <cp:lastModifiedBy>SWEET, CHRISTINA</cp:lastModifiedBy>
  <cp:lastPrinted>2001-11-11T19:59:04Z</cp:lastPrinted>
  <dcterms:modified xsi:type="dcterms:W3CDTF">2013-07-10T14:08:47Z</dcterms:modified>
  <cp:revision>114</cp:revision>
  <dc:subject/>
  <dc:title>Mod 8: Endurance Training &amp; Testing</dc:title>
</cp:coreProperties>
</file>