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3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9.wmf" ContentType="image/x-wmf"/>
  <Override PartName="/ppt/media/image34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35.wmf" ContentType="image/x-wmf"/>
  <Override PartName="/ppt/media/image36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6.wmf" ContentType="image/x-wmf"/>
  <Override PartName="/ppt/media/image17.png" ContentType="image/png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3A3-6FE2-4F35-9115-2AC644EDA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178-0112-47D4-BB86-259706919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8468-3204-4B82-B5A3-96073715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D7D-BD61-4D74-BBC1-C0547009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1E2F-77F8-4771-83F4-3147A79D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2F0-8B4A-4C77-8756-101F790A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526C-4347-41C7-A302-CD52CDFA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2CC-B112-4697-99C6-019808D2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6A2-FC1A-4307-BA19-1EB90ACE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075-5145-4944-8870-5082F6CE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73C-8A04-42BD-A587-84A277B4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7F36-3E15-4ACA-89A5-5290F7C5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900-E75B-4C57-9BA3-A2D3A8F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F99-670C-43B9-89C8-4D93ACB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57A6-222B-4B32-821E-8375C3EE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03B7-9E03-4975-8EEC-A6A0511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8D6F-52C7-40E2-B67C-497E6831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D606-7289-439E-83F4-D65127F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F1D-E1B8-424B-AC64-3C54685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7E40-C0BE-4348-90C5-ADA91E2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0E2-9B6E-42ED-8447-F6342C84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6112-C146-4713-8354-DC7B30B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70D9-3B92-4F9F-B710-4689B896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CE7-43C1-41B3-A7AC-EEAEEB37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DB4D-D517-4E55-96A8-CFE06112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10E4-D3DB-41F0-992B-B1CDBE47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914F-1351-4796-B743-EF40594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3A40-136C-4F7C-AD15-8CC63F9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7C2B-1006-4401-B5DE-16055E71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C13-F700-4533-AA41-109A26A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11C4-F492-43A3-9B84-949E6531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67DD-AAA4-4303-92A2-F42EA7C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F044-1A56-440E-B2CB-3941D51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14E5-0A63-4B37-B354-523D3BB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87E5-B337-47B6-98D2-3113AFA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EC0C-37F5-4675-8E72-0B90D2CA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83CA-6C09-4EA3-8895-50B2D8D2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7CC4-9D57-4111-BFD5-49AD7AEB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7EE7-720C-4F79-865F-2E4D9F21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D29E-93DA-4BE0-9C7D-95ED45B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147-CE3B-48D0-9D23-FB7748C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5DC0-021C-4403-AC1F-C21B779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D9AD-3900-4FBD-9986-0948517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6479-AE92-4691-BE1C-1B417BF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1ECA-CF7D-4815-B459-67204FA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95B0-3674-4E0D-8780-E685D06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3890-D296-406D-BD55-2D408EE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36ED-7301-4141-AA9F-8CB6722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BFA5-108C-4606-A388-8CADB094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3234-5021-40E3-BD35-83E47765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812-927C-4D5D-A30C-E145EA1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0DC-A71E-433E-9C45-D43B3134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0D9-3992-4242-9AA2-706674D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1E1-0654-4B4F-8EB5-96364EB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FAD-75B1-4076-BF2E-EE43BC9B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9A9C-530E-460C-B27B-62FFE9CC8E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B6E-A5CF-47D7-A09A-EA07E9F28A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5D0B-FA2C-4CAB-BE60-53244BBDF9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5A82-8BAB-40ED-85B7-3FF41C6B51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689040" y="1798560"/>
            <a:ext cx="777240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alia Fernandez, PT, MS, MSc, CC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iversity of Michigan Health Care Syst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partment of Physical Medicine and Rehabilita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exphys"/>
          <p:cNvPicPr/>
          <p:nvPr/>
        </p:nvPicPr>
        <p:blipFill>
          <a:blip r:embed="rId2"/>
          <a:stretch/>
        </p:blipFill>
        <p:spPr>
          <a:xfrm>
            <a:off x="7315200" y="609480"/>
            <a:ext cx="14000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5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393840" y="1990800"/>
            <a:ext cx="82929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rcRect l="0" t="0" r="3538" b="53103"/>
          <a:stretch/>
        </p:blipFill>
        <p:spPr>
          <a:xfrm>
            <a:off x="609480" y="198108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09480" y="1846440"/>
            <a:ext cx="7850160" cy="127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687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5098" t="0" r="2962" b="11884"/>
          <a:stretch/>
        </p:blipFill>
        <p:spPr>
          <a:xfrm>
            <a:off x="1066680" y="1650960"/>
            <a:ext cx="68281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who requires medical clearance, exercise testing, physician supervised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CSM Algorithm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HA/ACSM Questionnair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R-Q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ACVPR &amp; AHA Risk Stratific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rcRect l="0" t="0" r="4235" b="55948"/>
          <a:stretch/>
        </p:blipFill>
        <p:spPr>
          <a:xfrm>
            <a:off x="0" y="685800"/>
            <a:ext cx="89917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rcRect l="0" t="44056" r="0" b="0"/>
          <a:stretch/>
        </p:blipFill>
        <p:spPr>
          <a:xfrm>
            <a:off x="380880" y="457200"/>
            <a:ext cx="8305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ree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sk Fac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Younger asymptomatic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ith 1 or less risk fa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lder or 2 + risk fa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1+ signs/symptoms or known disea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creening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Major Signs &amp;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ginal P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B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zziness or Sync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thopnea or Nocturnal Dyspn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mittent Claud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n heart murm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usual fatigue/SOB /w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0" t="0" r="6345" b="51275"/>
          <a:stretch/>
        </p:blipFill>
        <p:spPr>
          <a:xfrm>
            <a:off x="838080" y="2133720"/>
            <a:ext cx="7696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Tes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ing a Test (Indications &amp; Contraindicat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ministering a Test including 12 lead ECG during maximal graded exercise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ing the Test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? outcome measure, baseline, determine lim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Prescrip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ing the Exercise Prescri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ining Prog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-evalu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re-Exercise Evaluations (con’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cal Examination Box (3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ody Com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ulse rate and rhythm &amp; Peripheral pul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P; seated, supine &amp; Stand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eart &amp; Lung Auscult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bdominal Evalu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thopedic/Neurological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kin &amp; Lower Extrem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re-Exercise Evaluations (con’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 Analysis (3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ipid Profi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lucos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yroi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(High Risk or known dise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lter Monitor, ECG, angiography, Chest Radiograph, Ultrasound, PF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438120" y="457200"/>
            <a:ext cx="8309160" cy="1481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rcRect l="0" t="0" r="6299" b="0"/>
          <a:stretch/>
        </p:blipFill>
        <p:spPr>
          <a:xfrm>
            <a:off x="2286000" y="1676520"/>
            <a:ext cx="4616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aindications to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bsolute Contrain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nt significant ECG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table An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trolled Arrythm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e Aortic Ste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trolled Heart Fail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 or PI, Acute Myocarditis or pericardit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secting aneury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ute Inf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SM Ch. 3 p.5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aindications to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lative Contraindicati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ft main coronary ste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ate stenotic valve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ctrolyte imbal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e HTN (200/11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-arrhythmias or brady-arrythm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diomyopat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aindications to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Other Relative Contrain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uro/Ortho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Degree AV Blo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tricular aneury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controlled metabolic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ic infectious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igned/Informed Consent (Fig 3-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of lawful 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be mentally incapacit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 and comprehend ri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e voluntary cons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mbient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mperature/humidity 70-75 degrees 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ation, safety, priv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Patient Pretest Instruction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ar comfortable shoes &amp; clot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rink plenty of water (See Fluid Guide Pyramid, Gatorade, Inc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void food, tobacco, alcohol &amp; Caffeine 4 hrs prior to testing (or overnigh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void strenuous exercise the day of the t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t adequate sleep prior to the t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46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rcRect l="0" t="593" r="3092" b="3427"/>
          <a:stretch/>
        </p:blipFill>
        <p:spPr>
          <a:xfrm>
            <a:off x="228600" y="609480"/>
            <a:ext cx="8342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ing HR and Rhythm [HR monitor or ECG], BP, RPE, SAO2 if h/o hypoxia (e.g. pulmonary disease, CHF, Renal Failure, etc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fore, during and af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in advance when to Stop the T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Prepared for an Emerge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Exercise T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safety of exerc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Exercise Guide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 Prog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 Patient Education/Moti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on treatment/training interven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4" descr=""/>
          <p:cNvPicPr/>
          <p:nvPr/>
        </p:nvPicPr>
        <p:blipFill>
          <a:blip r:embed="rId1"/>
          <a:stretch/>
        </p:blipFill>
        <p:spPr>
          <a:xfrm>
            <a:off x="384120" y="536400"/>
            <a:ext cx="8302680" cy="1524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0" t="0" r="0" b="7208"/>
          <a:stretch/>
        </p:blipFill>
        <p:spPr>
          <a:xfrm>
            <a:off x="380880" y="676440"/>
            <a:ext cx="81392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hoose the Exercise Tes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ute Care (Functional Assessmen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eld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bmaximal Exercise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ymptom Limited GX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ximal GX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xygen Analysis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onan &amp; De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S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ubmaximal Vs Maximal Tes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e appropriate test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ke test; treadmill test. Functional assess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HR response to worklo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dict 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equations or grap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imes New Roman"/>
              </a:rPr>
              <a:t>Functional Assess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935000"/>
          <a:ext cx="8229600" cy="452628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371600"/>
                <a:gridCol w="1295640"/>
                <a:gridCol w="1066680"/>
                <a:gridCol w="1371600"/>
              </a:tblGrid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O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Sup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/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S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/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/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6840" rIns="9684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Ambu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ercise Guideli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1600200"/>
          <a:ext cx="8382240" cy="4127400"/>
        </p:xfrm>
        <a:graphic>
          <a:graphicData uri="http://schemas.openxmlformats.org/drawingml/2006/table">
            <a:tbl>
              <a:tblPr/>
              <a:tblGrid>
                <a:gridCol w="1933560"/>
                <a:gridCol w="1774800"/>
                <a:gridCol w="1451160"/>
                <a:gridCol w="1544760"/>
                <a:gridCol w="1677960"/>
              </a:tblGrid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o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Light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Unrestricted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atocri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5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0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-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50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oglob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8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0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g/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4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6 g/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18 g/dl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B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5000/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feve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0-10,000/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e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0,000/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00-30,000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00-50,000mm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1"/>
          <p:cNvSpPr/>
          <p:nvPr/>
        </p:nvSpPr>
        <p:spPr>
          <a:xfrm>
            <a:off x="380880" y="6095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R.S. Sayre and B.C. Marcoux, 1992, L. Pfalzer 1988, Winningham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nical Exercise Test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boratory Testing Protocols (Fig 5-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reening/Diagnostic/Researc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hoose test protocol for individu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sts ~ 9-12 minut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LGX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ubmaxim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xim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ubmaximal Vs Maximal Tes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u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ediction Equa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teady State HR achieved &amp; measur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 increases linearly with workloa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 &amp; BMR are uniform for age/gend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echanical Effici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ubmax is for functional interventions, to get target for EX percription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ximal if for cardiac assessment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Exercise Prescriptions Training HR Rate Range-Metho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e Adjusted Predicted Training Heart Rate R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[220- age] x (.50 to .7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RR – Heart Rate Reserve/Karvonen Meth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0.60 (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rcRect l="5555" t="7684" r="0" b="22069"/>
          <a:stretch/>
        </p:blipFill>
        <p:spPr>
          <a:xfrm>
            <a:off x="3962520" y="2286000"/>
            <a:ext cx="49528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"/>
          <p:cNvPicPr/>
          <p:nvPr/>
        </p:nvPicPr>
        <p:blipFill>
          <a:blip r:embed="rId1"/>
          <a:srcRect l="5075" t="0" r="4630" b="0"/>
          <a:stretch/>
        </p:blipFill>
        <p:spPr>
          <a:xfrm>
            <a:off x="990720" y="392040"/>
            <a:ext cx="67816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maxima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rand Bicycle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 minute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tage: conditioning &amp; ge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ion Fac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sks of Exercise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Testing is Relatively Saf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70,000 GXT at 73 medical cent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tality rate 0.01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bidity rate 0.03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ochmis et al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M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197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18,448 GXT at 1375 medical cen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tality rate 0.0005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bidity rate 0.09% per 1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uart &amp; Ellestad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Ches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 per 10,000 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maxima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MCA Bicycle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rt at 150 kg/m &amp; 50 rp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 HR &amp; determine next st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plot/graph to estimate max 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rcRect l="0" t="0" r="3579" b="37067"/>
          <a:stretch/>
        </p:blipFill>
        <p:spPr>
          <a:xfrm>
            <a:off x="533520" y="465120"/>
            <a:ext cx="78483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"/>
          <p:cNvPicPr/>
          <p:nvPr/>
        </p:nvPicPr>
        <p:blipFill>
          <a:blip r:embed="rId1"/>
          <a:srcRect l="5296" t="62941" r="5697" b="6851"/>
          <a:stretch/>
        </p:blipFill>
        <p:spPr>
          <a:xfrm>
            <a:off x="990720" y="228600"/>
            <a:ext cx="6933960" cy="2971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rcRect l="0" t="0" r="12773" b="68464"/>
          <a:stretch/>
        </p:blipFill>
        <p:spPr>
          <a:xfrm>
            <a:off x="0" y="3429000"/>
            <a:ext cx="3048120" cy="2727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rcRect l="2293" t="30609" r="12773" b="32292"/>
          <a:stretch/>
        </p:blipFill>
        <p:spPr>
          <a:xfrm>
            <a:off x="6324480" y="3505320"/>
            <a:ext cx="2819520" cy="3047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4"/>
          <a:srcRect l="0" t="65860" r="5884" b="1683"/>
          <a:stretch/>
        </p:blipFill>
        <p:spPr>
          <a:xfrm>
            <a:off x="2971800" y="3505320"/>
            <a:ext cx="32004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ing/Running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ep Tes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ing/Running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6 min &amp; 12 min walk tes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ockport 1.0 Mile Tes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oper 12 minute &amp; 1.5 mile Walk Tes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ximal tests &amp; Little monito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umes same mechanical effici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umes similar Resting HR &amp; HR response, BMR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 min &amp; 12 min walk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criptive: Max dist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ockport 1.0 Mi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ax incorporates age, gender, mass, time &amp; 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oper 12 minute &amp; 1.5 mile Walk Te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ax = 3.5 + 483/ time in min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ield Test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ep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sed to assess large groups of subjec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esses Fitness Categor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ilar Assumptions to other predictive equation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rcRect l="0" t="0" r="1682" b="0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rcRect l="1485" t="0" r="6589" b="0"/>
          <a:stretch/>
        </p:blipFill>
        <p:spPr>
          <a:xfrm>
            <a:off x="4508640" y="533520"/>
            <a:ext cx="4483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1"/>
          <a:srcRect l="0" t="0" r="0" b="17246"/>
          <a:stretch/>
        </p:blipFill>
        <p:spPr>
          <a:xfrm>
            <a:off x="533520" y="304920"/>
            <a:ext cx="80010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64970"/>
          <a:stretch/>
        </p:blipFill>
        <p:spPr>
          <a:xfrm>
            <a:off x="380880" y="304920"/>
            <a:ext cx="8458200" cy="4214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rcRect l="0" t="85910" r="0" b="0"/>
          <a:stretch/>
        </p:blipFill>
        <p:spPr>
          <a:xfrm>
            <a:off x="380880" y="4495680"/>
            <a:ext cx="84582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rcRect l="5686" t="4888" r="8619" b="25930"/>
          <a:stretch/>
        </p:blipFill>
        <p:spPr>
          <a:xfrm>
            <a:off x="380880" y="457200"/>
            <a:ext cx="82296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"/>
          <p:cNvPicPr/>
          <p:nvPr/>
        </p:nvPicPr>
        <p:blipFill>
          <a:blip r:embed="rId1"/>
          <a:srcRect l="0" t="34947" r="0" b="4087"/>
          <a:stretch/>
        </p:blipFill>
        <p:spPr>
          <a:xfrm>
            <a:off x="609480" y="779400"/>
            <a:ext cx="7315200" cy="6078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rcRect l="0" t="1419" r="0" b="90827"/>
          <a:stretch/>
        </p:blipFill>
        <p:spPr>
          <a:xfrm>
            <a:off x="609480" y="7920"/>
            <a:ext cx="73152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Guideli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-T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Instru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reening/Risk Assessment (Par Q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rmed Cons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nstantia"/>
              </a:rPr>
              <a:t>Resting Vit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, BP, RR, ECG, SaO2; S &amp; 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Guideli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Instru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rm-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nitor &amp; Record HR, BP RPE, EC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Test Ter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ol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Terminatio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pparently Healthy Sub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ches predetermined end po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ject requests to stop/marked fatig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ilure of Equi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set of an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 20 mm Hg drop in BPs or failure to 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Ps &gt; 260 mm Hg. or BPd &gt;115 mm 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&amp; 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ilure of HR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workload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nge in heart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Terminatio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pparently Healthy or Otherwise Sub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set of an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 20 mm Hg drop in BPs or failure to 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Ps &gt; 260 mm Hg. or BPd &gt;115 mm 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ilure of HR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workload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nge in heart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&amp; S; confusion, dyspnea, leg cramp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est Interpret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arameters to Ex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son test was termin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, BP, RR 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S 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G 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gns &amp; Symptoms: Angina, Dyspn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ercise Prescrip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ercise prescription is based on 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 Interpretation --Person’s Initial Fit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al of trai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tensit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ur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rcRect l="16415" t="0" r="4638" b="0"/>
          <a:stretch/>
        </p:blipFill>
        <p:spPr>
          <a:xfrm>
            <a:off x="3613320" y="3048120"/>
            <a:ext cx="55306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ximal Oxygen Uptak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bic Capacity Assessment: </a:t>
            </a:r>
            <a:r>
              <a:rPr b="0" lang="en-US" sz="2800" spc="-1" strike="noStrike">
                <a:solidFill>
                  <a:srgbClr val="ffcc00"/>
                </a:solidFill>
                <a:latin typeface="Constantia"/>
              </a:rPr>
              <a:t>Gold Standa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eadmill or other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R or V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fail to rise with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in workloa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PE = 19+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spiratory Exchange Ratio (R) &gt; 1.15 (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/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La Level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7391520" y="380880"/>
            <a:ext cx="1295280" cy="1143000"/>
          </a:xfrm>
          <a:custGeom>
            <a:avLst/>
            <a:gdLst/>
            <a:ahLst/>
            <a:rect l="l" t="t" r="r" b="b"/>
            <a:pathLst>
              <a:path w="1295400" h="1143000">
                <a:moveTo>
                  <a:pt x="1" y="436586"/>
                </a:moveTo>
                <a:lnTo>
                  <a:pt x="494802" y="436589"/>
                </a:lnTo>
                <a:lnTo>
                  <a:pt x="647700" y="0"/>
                </a:lnTo>
                <a:lnTo>
                  <a:pt x="800598" y="436589"/>
                </a:lnTo>
                <a:lnTo>
                  <a:pt x="1295399" y="436586"/>
                </a:lnTo>
                <a:lnTo>
                  <a:pt x="895095" y="706410"/>
                </a:lnTo>
                <a:lnTo>
                  <a:pt x="1048000" y="1142997"/>
                </a:lnTo>
                <a:lnTo>
                  <a:pt x="647700" y="873168"/>
                </a:lnTo>
                <a:lnTo>
                  <a:pt x="247400" y="1142997"/>
                </a:lnTo>
                <a:lnTo>
                  <a:pt x="400305" y="706410"/>
                </a:lnTo>
                <a:lnTo>
                  <a:pt x="1" y="43658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rcRect l="0" t="0" r="0" b="28750"/>
          <a:stretch/>
        </p:blipFill>
        <p:spPr>
          <a:xfrm>
            <a:off x="380880" y="457200"/>
            <a:ext cx="83822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rcRect l="7929" t="0" r="7929" b="33918"/>
          <a:stretch/>
        </p:blipFill>
        <p:spPr>
          <a:xfrm>
            <a:off x="380880" y="304920"/>
            <a:ext cx="84582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Risks during Cardiac Rehabilit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 Cardiac Reh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ks extremely low for supervised moderate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 &amp; Clinic risk is eq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Exceptio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igorous Exerc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0 x risk of healthy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imizing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re-participation Screening/Health Risk Apprais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individuals at risk for adverse events from exerc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cerbation of conditions: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rdiovascular, Pulmonary, Metabolic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isk Factors requiring medical consul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equire supervised exerci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pecial nee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4" descr=""/>
          <p:cNvPicPr/>
          <p:nvPr/>
        </p:nvPicPr>
        <p:blipFill>
          <a:blip r:embed="rId1"/>
          <a:stretch/>
        </p:blipFill>
        <p:spPr>
          <a:xfrm>
            <a:off x="536400" y="42840"/>
            <a:ext cx="7772400" cy="1335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0" t="0" r="2777" b="27398"/>
          <a:stretch/>
        </p:blipFill>
        <p:spPr>
          <a:xfrm>
            <a:off x="380880" y="1003320"/>
            <a:ext cx="83059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9:25:56Z</dcterms:created>
  <dc:creator>Jacqueline S. Drouin</dc:creator>
  <dc:description/>
  <dc:language>en-US</dc:language>
  <cp:lastModifiedBy>SWEET, CHRISTINA</cp:lastModifiedBy>
  <cp:lastPrinted>2001-11-11T19:59:04Z</cp:lastPrinted>
  <dcterms:modified xsi:type="dcterms:W3CDTF">2013-07-10T14:08:47Z</dcterms:modified>
  <cp:revision>114</cp:revision>
  <dc:subject/>
  <dc:title>Mod 8: Endurance Training &amp; Testing</dc:title>
</cp:coreProperties>
</file>