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5E1F-EEC7-4FB0-A189-453E70EDC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45ED-1409-4D96-9EF9-EB289943A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DCED-41E9-4814-8DA4-59002C42C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DEC-8090-467F-BFEA-AE8BEBF2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1484-0E2C-4075-A981-9CCB5754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8C9-3821-4B38-87A4-76A36753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5B9-E734-4FC6-9DC0-3217B337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6BC1-4CAE-4609-ADAD-54F88100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C8A0-538D-465F-8F36-3ABBEE23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2845-EB0A-4308-94F9-E65FD2C5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08E8-886D-49C2-A102-B1B0C260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D63A-A88E-4D68-B2A7-C9F02341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7A80-9949-4EF9-800D-E952A8C4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AAB9-6BA5-442F-A55A-6B3A114A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C806-9A4D-4ECC-9D76-96DF6357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7511-109C-47CF-9F22-1AFB5AC1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DE80-EC7B-4828-9044-795779D3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1B42-290E-476C-B858-9C2AEE57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3AA0-9925-4468-B0DB-2A9E418D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C021-453C-43B3-8AC1-C276A833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C0D53-5E44-4163-BADE-BB22B2EF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5B62B-D660-4680-8A97-8133101D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84913-FC29-442F-99B5-067FD469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2E76C-5391-49D4-A65D-02A084C8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D8239-1EC2-4CF1-9AD1-A5AE088A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A952-74D9-486B-B8FD-807F15A0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902B3-9C58-4404-91A2-C05FE17C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FA96A-42CB-4707-B432-BAEA4F7A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2E5BB-B025-403B-8CC3-04B1807A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64091-A5DC-48EE-B6E6-9413AC15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8F883-1FE9-4D89-A276-B0909A6C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80E34-E2D6-4ACD-B7D1-F75BBF98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70612-CCAA-4750-824A-5689E8D9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71CBB-B8AC-436E-9731-6FB0B4C6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3012F-1763-4663-83A8-EBB15B76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8CC4E-6677-4F48-88AF-655CDB68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A49-1A38-4428-8DDA-60914E1A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FF1BE-E0DF-4793-8919-1CB9112B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9998C-A8F8-4C40-99F0-02C01574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CA61E-21D7-4424-B176-5E2C5203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9CBDD-212E-42C6-89D3-DE1CCA3C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18D13-655C-42BB-A3FD-A4FB6915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5F0A4-2A48-4B09-8D2A-9D6F492E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68885-8581-456D-B033-E8562BBB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5EC79-0574-47D0-B1C2-9ED47F4E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74643-76FA-4314-8497-224F4EE3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0724-B6C0-4B50-A40E-64BF6392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399D-6F30-40E6-B9E2-98E85B21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40FF-155F-4331-8D09-EAF074ED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A181-FDAC-4350-BB73-E88C52B4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84C3-F73D-4324-B9F6-7B987B55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E730-E47C-4C8F-AF02-EB7761E5F77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CBE8-A6CB-4C3D-933F-9E4E90C695D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3498-46E8-4BF2-855C-6DAC67AE8E2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0038-F5F7-407B-A9AD-7029781D46C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3" descr=""/>
          <p:cNvPicPr/>
          <p:nvPr/>
        </p:nvPicPr>
        <p:blipFill>
          <a:blip r:embed="rId1"/>
          <a:stretch/>
        </p:blipFill>
        <p:spPr>
          <a:xfrm>
            <a:off x="689040" y="1828800"/>
            <a:ext cx="7772400" cy="21337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atalia Fernandez, PT, MS, MSc, CC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University of Michigan Health Care System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epartment of Physical Medicine and Rehabilitation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5" descr="exphys"/>
          <p:cNvPicPr/>
          <p:nvPr/>
        </p:nvPicPr>
        <p:blipFill>
          <a:blip r:embed="rId2"/>
          <a:stretch/>
        </p:blipFill>
        <p:spPr>
          <a:xfrm>
            <a:off x="7315200" y="609480"/>
            <a:ext cx="140004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dd9"/>
                </a:solidFill>
                <a:latin typeface="Calibri"/>
              </a:rPr>
              <a:t>Exercise Prescriptions</a:t>
            </a:r>
            <a:br>
              <a:rPr sz="4000"/>
            </a:br>
            <a:r>
              <a:rPr b="0" lang="en-US" sz="4000" spc="-1" strike="noStrike">
                <a:solidFill>
                  <a:srgbClr val="009dd9"/>
                </a:solidFill>
                <a:latin typeface="Calibri"/>
              </a:rPr>
              <a:t> Training HR Rate Range-Method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51920" y="20574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ge Adjusted Predicted Training Heart Rate Rang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[220- age] x (.50 to .7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RR – Heart Rate Reserve/Karvonen Metho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R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threshol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= HR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res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+ 0.60 (HR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- HR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res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rcRect l="5555" t="7684" r="0" b="22069"/>
          <a:stretch/>
        </p:blipFill>
        <p:spPr>
          <a:xfrm>
            <a:off x="3962520" y="2286000"/>
            <a:ext cx="495288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39040" cy="1414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2"/>
          <a:srcRect l="0" t="0" r="3454" b="48724"/>
          <a:stretch/>
        </p:blipFill>
        <p:spPr>
          <a:xfrm>
            <a:off x="533520" y="2133720"/>
            <a:ext cx="8310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182520" y="706320"/>
            <a:ext cx="8583480" cy="1414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~AUT0004"/>
          <p:cNvPicPr/>
          <p:nvPr/>
        </p:nvPicPr>
        <p:blipFill>
          <a:blip r:embed="rId2"/>
          <a:stretch/>
        </p:blipFill>
        <p:spPr>
          <a:xfrm>
            <a:off x="1170000" y="1828800"/>
            <a:ext cx="6640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"/>
          <p:cNvPicPr/>
          <p:nvPr/>
        </p:nvPicPr>
        <p:blipFill>
          <a:blip r:embed="rId1"/>
          <a:srcRect l="0" t="0" r="5724" b="14539"/>
          <a:stretch/>
        </p:blipFill>
        <p:spPr>
          <a:xfrm>
            <a:off x="380880" y="295200"/>
            <a:ext cx="807732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sep"/>
          <p:cNvPicPr/>
          <p:nvPr/>
        </p:nvPicPr>
        <p:blipFill>
          <a:blip r:embed="rId1"/>
          <a:stretch/>
        </p:blipFill>
        <p:spPr>
          <a:xfrm>
            <a:off x="1893960" y="0"/>
            <a:ext cx="526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9dd9"/>
                </a:solidFill>
                <a:latin typeface="Calibri"/>
              </a:rPr>
              <a:t>Cardiovascular Adapt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765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rt Siz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asma Volu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rt R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diac Outp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xygen Extra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a-v O2 differenc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d Flow &amp; Distribu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d Press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0" y="16002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lmonary Function (TV R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dy Compos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dy Heat Transf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rformance Chang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sychological Benefi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mmune 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cause morta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ease Risk Profi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9dd9"/>
                </a:solidFill>
                <a:latin typeface="Calibri"/>
              </a:rPr>
              <a:t>Reversibility Princi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ining is transient &amp; revers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raining occurs rapid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ltin et al., 196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5%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VO2 max following 20 days of bedres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5 college aged stud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9dd9"/>
                </a:solidFill>
                <a:latin typeface="Calibri"/>
              </a:rPr>
              <a:t>Reversibility Princi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etraining Consequenc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rdiac outpu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8-10%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roke Volu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10-13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R 4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sma Volu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12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-v O2 differe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2-7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27%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T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15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uscle glycog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5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xidative enzym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29-32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ctate Threshol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7-1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polys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52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9dd9"/>
                </a:solidFill>
                <a:latin typeface="Calibri"/>
              </a:rPr>
              <a:t>Energy Conversion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ower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 Watt = 6 Kg • meters/minu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 Watt = 6 kp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25 kpm = 1 Kc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5 Kcals = 1 L O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ercise Time and Energy Cost for Health (150 kcals per day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50kcals/#METS=minutes of exerci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.g. 150kcals/5 mets= 30 minutes of exerci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bmaximal Exercise Test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maximal Exercise Testing: Clinical Application and Interpretation, Vanessa Noonan and Elizabeth Dean, Physical Therapy, 2000;80: 782-807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9dd9"/>
                </a:solidFill>
                <a:latin typeface="Calibri"/>
              </a:rPr>
              <a:t>Exercise Prescrip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ercise Prescription is based 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st Interpretation -Person’s Initial Fitn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al of trai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ntensit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Dura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Frequenc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d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rcRect l="16415" t="0" r="4638" b="0"/>
          <a:stretch/>
        </p:blipFill>
        <p:spPr>
          <a:xfrm>
            <a:off x="3613320" y="3048120"/>
            <a:ext cx="553068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9dd9"/>
                </a:solidFill>
                <a:latin typeface="Calibri"/>
              </a:rPr>
              <a:t>Refer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CSM’s Guidelines for Exercise Testing and Prescription. 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Ed. 2013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nitoring Clinical Responses to Exercise, Joanne Watchi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merican Physical Therapy Association – Cardiovascular &amp; Pulmonary Sec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ssentials of Cardiopulmonary Physical therapy, Ellen Hillegrass,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Ed, 2011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CLS Provider Manual Supplementary Material, 2006 American Heart Associa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"/>
          <p:cNvPicPr/>
          <p:nvPr/>
        </p:nvPicPr>
        <p:blipFill>
          <a:blip r:embed="rId1"/>
          <a:srcRect l="7478" t="0" r="0" b="0"/>
          <a:stretch/>
        </p:blipFill>
        <p:spPr>
          <a:xfrm>
            <a:off x="609480" y="127080"/>
            <a:ext cx="792504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 Prescription Princip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3" descr="~AUT0003"/>
          <p:cNvPicPr/>
          <p:nvPr/>
        </p:nvPicPr>
        <p:blipFill>
          <a:blip r:embed="rId1"/>
          <a:stretch/>
        </p:blipFill>
        <p:spPr>
          <a:xfrm rot="21540000">
            <a:off x="647280" y="2047680"/>
            <a:ext cx="76932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rcRect l="0" t="0" r="1614" b="31163"/>
          <a:stretch/>
        </p:blipFill>
        <p:spPr>
          <a:xfrm>
            <a:off x="152280" y="457200"/>
            <a:ext cx="868680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765000" y="649440"/>
            <a:ext cx="746460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49584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Rectangle 4" descr=""/>
          <p:cNvPicPr/>
          <p:nvPr/>
        </p:nvPicPr>
        <p:blipFill>
          <a:blip r:embed="rId1"/>
          <a:stretch/>
        </p:blipFill>
        <p:spPr>
          <a:xfrm>
            <a:off x="517680" y="291960"/>
            <a:ext cx="8205480" cy="1506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rcRect l="0" t="0" r="4103" b="34841"/>
          <a:stretch/>
        </p:blipFill>
        <p:spPr>
          <a:xfrm>
            <a:off x="380880" y="1689120"/>
            <a:ext cx="82296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dd9"/>
                </a:solidFill>
                <a:latin typeface="Calibri"/>
              </a:rPr>
              <a:t>Exercise Prescrip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066680" y="1981080"/>
          <a:ext cx="7543800" cy="457200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Fit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Heal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Severely Decondition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rt or Compet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+ M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-45 Min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5 Days per 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-85% HR 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PE: 13-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l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10 M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umulate 30-60 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st Days per 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-70% HR 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PE: 11-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d Stam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4-5 M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lerated Activi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5 Minu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veral Times per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50% of HR 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ual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i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0T19:25:56Z</dcterms:created>
  <dc:creator>Jacqueline S. Drouin</dc:creator>
  <dc:description/>
  <dc:language>en-US</dc:language>
  <cp:lastModifiedBy>SWEET, CHRISTINA</cp:lastModifiedBy>
  <cp:lastPrinted>2001-11-11T19:59:04Z</cp:lastPrinted>
  <dcterms:modified xsi:type="dcterms:W3CDTF">2013-07-10T20:45:46Z</dcterms:modified>
  <cp:revision>104</cp:revision>
  <dc:subject/>
  <dc:title>Mod 8: Endurance Training &amp; Testing</dc:title>
</cp:coreProperties>
</file>