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779-6C7E-4E04-8238-5771968D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9DC-5E12-490D-94AA-BB3B3A6A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3A7A-A4F2-4EAC-81B7-47694E91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35F-8735-4C5B-A922-F762AED8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71D-5A2A-41E2-B2C0-422FBA36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288-6E87-4932-A4A4-AAF47035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271-F25E-4FB4-A745-16CE1167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02BD-307A-4DE8-A364-3EE90AB0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986-892F-4D0B-84F6-D8E0D92C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18D3-A3B2-4E54-BA3E-FA69FAD9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BE23-2C68-46CE-BD31-481DA0B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1FAE-787F-4FBB-9668-C985A777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98C1-3C57-4632-9A9F-0F8AF34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6FCE-D246-4FC4-A7C8-186D18E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3AD-2B29-4061-BD4A-77CD5FE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3AB-091C-4A3B-8D81-4EE7138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B61-26EF-46E3-9186-AC46819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DF75-3080-46C4-8394-CAFE993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F0B-2553-4C49-94BB-DEF796BE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BFBA-F8F8-4C34-8D74-60DDCE36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23C3-8A88-40C0-B11C-2A66404D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223F-9F9D-4273-B0F3-8DC902D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BB41-CAD4-4213-8C56-6092E9A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E2EB-FEB9-422A-909C-83015139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40A3-1CBC-47FB-BE6F-192BA024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C09-568C-4615-B6E8-364A6204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8A1E-FB1B-4B5E-BE43-9800426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861A-06C1-4D3E-864F-A5E0F87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EBD1-F470-4158-9F63-2A9F34D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124F-A718-42E5-8A2E-420D354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8ECB-FB23-4F10-85D5-BE95287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135E-14BD-4FC8-A223-1ECAFD5B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95FF-A6D4-49C0-9B26-2362CF1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B5FD-6AAF-4B11-8BA7-3578AABD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716F-8471-4F7F-AABE-CE3C5A0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CBCA-A4DF-4873-840B-44C3AC1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50C-0C9F-42EE-B56B-4F93B5C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B7BD-A433-4F27-8D9D-EF066F96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45D1-626F-429F-B06D-D422CFB5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18B7-8C1A-4288-9108-E91E763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3C65-018E-4588-983F-CF69396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1BBF-7463-4039-8B74-57C9F1B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659B-D41B-4547-9ABF-D7866E2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588B-ADA0-4BB4-9C70-9F3C96E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6259-F693-412C-89E3-DCBA790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D569-8613-4F9F-9C50-DDA82760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AC8-5216-4BCB-863C-F5A73418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4ED-CD7B-42D1-A471-8803D75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DAA-7392-4428-94E9-176E2D5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AFF-7613-4769-8259-EB1D199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1EE-2EE8-44F3-A4CE-0C5F683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653E-34FD-4DBB-9159-3850B14FEB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5C77-FC5B-4156-8726-6EF33DFED6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AA4-3078-4153-8AA4-AD17AFCC32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3A9-9875-4936-BADF-58DD530E07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77240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alia Fernandez, PT, MS, MSc, CC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iversity of Michigan Health Care Syst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partment of Physical Medicine and Rehabilita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exphys"/>
          <p:cNvPicPr/>
          <p:nvPr/>
        </p:nvPicPr>
        <p:blipFill>
          <a:blip r:embed="rId2"/>
          <a:stretch/>
        </p:blipFill>
        <p:spPr>
          <a:xfrm>
            <a:off x="7315200" y="609480"/>
            <a:ext cx="14000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s</a:t>
            </a:r>
            <a:br>
              <a:rPr sz="4000"/>
            </a:b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 Training HR Rate Range-Metho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5192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e Adjusted Predicted Training Heart Rate R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220- age] x (.50 to .7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RR – Heart Rate Reserve/Karvonen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0.60 (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HR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5555" t="7684" r="0" b="22069"/>
          <a:stretch/>
        </p:blipFill>
        <p:spPr>
          <a:xfrm>
            <a:off x="3962520" y="2286000"/>
            <a:ext cx="49528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39040" cy="141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rcRect l="0" t="0" r="3454" b="48724"/>
          <a:stretch/>
        </p:blipFill>
        <p:spPr>
          <a:xfrm>
            <a:off x="533520" y="2133720"/>
            <a:ext cx="8310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82520" y="706320"/>
            <a:ext cx="8583480" cy="141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~AUT0004"/>
          <p:cNvPicPr/>
          <p:nvPr/>
        </p:nvPicPr>
        <p:blipFill>
          <a:blip r:embed="rId2"/>
          <a:stretch/>
        </p:blipFill>
        <p:spPr>
          <a:xfrm>
            <a:off x="1170000" y="1828800"/>
            <a:ext cx="664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rcRect l="0" t="0" r="5724" b="14539"/>
          <a:stretch/>
        </p:blipFill>
        <p:spPr>
          <a:xfrm>
            <a:off x="380880" y="295200"/>
            <a:ext cx="80773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sep"/>
          <p:cNvPicPr/>
          <p:nvPr/>
        </p:nvPicPr>
        <p:blipFill>
          <a:blip r:embed="rId1"/>
          <a:stretch/>
        </p:blipFill>
        <p:spPr>
          <a:xfrm>
            <a:off x="189396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Cardiovascular Adapt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Si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Ex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-v O2 differ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Flow &amp; Dis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Function (TV R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Com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Heat Trans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formance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ychological Benef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mun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cause mort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ease Risk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versibility Princ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ning is transient &amp; rever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raining occurs rapid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tin et al., 19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5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VO2 max following 20 days of bedr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5 college aged stud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versibility Princ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training Consequ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diac outp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8-10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oke Vol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0-1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R 4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Vol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-v O2 differ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-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7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 glycog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xidative enzym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29-3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ctate Threshol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7-1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polys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5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Energy Conversion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Watt = 6 Kg • meters/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Watt = 6 kp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25 kpm = 1 K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 Kcals = 1 L O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Time and Energy Cost for Health (150 kcals per da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50kcals/#METS=minutes of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 150kcals/5 mets= 30 minutes of exerc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maximal Exercise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maximal Exercise Testing: Clinical Application and Interpretation, Vanessa Noonan and Elizabeth Dean, Physical Therapy, 2000;80: 782-80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Exercise Prescrip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ercise Prescription is based 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 Interpretation -Person’s Initial Fit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 of 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r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16415" t="0" r="4638" b="0"/>
          <a:stretch/>
        </p:blipFill>
        <p:spPr>
          <a:xfrm>
            <a:off x="3613320" y="3048120"/>
            <a:ext cx="55306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SM’s Guidelines for Exercise Testing and Prescription.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d. 201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Clinical Responses to Exercise, Joanne Watchi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Physical Therapy Association – Cardiovascular &amp; Pulmonary Se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sentials of Cardiopulmonary Physical therapy, Ellen Hillegrass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d, 201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LS Provider Manual Supplementary Material, 2006 American Heart Associ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1"/>
          <a:srcRect l="7478" t="0" r="0" b="0"/>
          <a:stretch/>
        </p:blipFill>
        <p:spPr>
          <a:xfrm>
            <a:off x="609480" y="127080"/>
            <a:ext cx="792504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Prescription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~AUT0003"/>
          <p:cNvPicPr/>
          <p:nvPr/>
        </p:nvPicPr>
        <p:blipFill>
          <a:blip r:embed="rId1"/>
          <a:stretch/>
        </p:blipFill>
        <p:spPr>
          <a:xfrm rot="21540000">
            <a:off x="647280" y="2047680"/>
            <a:ext cx="7693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0" t="0" r="1614" b="31163"/>
          <a:stretch/>
        </p:blipFill>
        <p:spPr>
          <a:xfrm>
            <a:off x="152280" y="457200"/>
            <a:ext cx="86868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5000" y="649440"/>
            <a:ext cx="7464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4958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517680" y="291960"/>
            <a:ext cx="8205480" cy="1506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0" t="0" r="4103" b="34841"/>
          <a:stretch/>
        </p:blipFill>
        <p:spPr>
          <a:xfrm>
            <a:off x="380880" y="1689120"/>
            <a:ext cx="82296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dd9"/>
                </a:solidFill>
                <a:latin typeface="Calibri"/>
              </a:rPr>
              <a:t>Exercise Prescrip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981080"/>
          <a:ext cx="75438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F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Heal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Severely Deconditio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rt or Compet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+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5 Min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Days per 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5%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E: 13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umulate 30-60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Days per 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0%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E: 11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 Sta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4-5 M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lerated Activ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al Times 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50% of HR 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ua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i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9:25:56Z</dcterms:created>
  <dc:creator>Jacqueline S. Drouin</dc:creator>
  <dc:description/>
  <dc:language>en-US</dc:language>
  <cp:lastModifiedBy>SWEET, CHRISTINA</cp:lastModifiedBy>
  <cp:lastPrinted>2001-11-11T19:59:04Z</cp:lastPrinted>
  <dcterms:modified xsi:type="dcterms:W3CDTF">2013-07-10T20:45:46Z</dcterms:modified>
  <cp:revision>104</cp:revision>
  <dc:subject/>
  <dc:title>Mod 8: Endurance Training &amp; Testing</dc:title>
</cp:coreProperties>
</file>