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9552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94020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68200" y="693720"/>
            <a:ext cx="46177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3F90-DD15-41CF-8C5F-0BFDA4D16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9418-3B30-48A7-BDD5-1686CA0B5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. Directives:  Legal doc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wills:  not legal in Michigan, but help guide wis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 Dur Power of Attorney:  Le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AF4A-F94C-4F90-879C-7C11186CF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efuse treatment, try to get it in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3720-EA12-4BF4-9BDE-F230F5942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fe environ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uity of pati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 to respon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t righ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D3B9-3C64-473C-8C54-F3A26ABD4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F757-6922-41A0-8B95-9669306D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058D-54FD-44C1-B67E-AF4483B46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0A0B-515C-472C-B3F7-A9096281B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A660-9F21-4ED7-9EE9-BA3B76559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A25A-F381-47AF-9425-3812A79F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E6E7-D98A-4ED5-8ED4-5F619B3F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CFC1-AF9F-47E6-9170-2C41B332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9349-7363-4F8D-A558-2D791095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30F9-2130-4086-A28D-13FE6228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4FB0-1FD2-4177-95FB-DB6CAC72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F58E-030D-4A7A-87AD-07A79FFF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86D4-F9E2-4D78-A4B9-5D186110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23E5-45AF-49FB-892B-9DE621B5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16EC-62C6-4358-A214-D141F4A7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537A-F4D8-4D47-A29F-FF74359D1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8FC0-2ABD-4B58-8AAC-933BB2EE1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838AA-64D0-4DA2-B7C4-4BF961DEA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B4007-EE32-4B73-A3E2-6E150BB1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224EE-1209-4EC3-9144-560DA836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D34CD-FDE4-41ED-9212-3DB8504D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4AF90-7EA5-4783-9488-70D21CA0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2408-8309-4D16-9C94-EE8670CB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A19E7-E19E-433E-AA0B-F753ACB2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45477-BF98-4360-9D53-DAC95A2B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9D784-663B-4E61-8342-E4B7C375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8E1CA-3A89-4190-9745-E187AC1D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C109D-B748-4591-98FC-EC7AD8A6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E740E-E835-4B91-8DCC-5D34DD0C9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9BC82-0AB9-42D9-90FD-02E725B66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29712-29E1-4494-B195-C33F57100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7D2B8-1028-4037-91EF-1AE5F054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FF241-F35D-42BD-BF81-CB4FDDF8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3E56-70CF-4874-B9B0-D4BA46FB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6AA7E-FF7E-4AB7-B183-8D10EE24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D4426-7C71-4328-9DA9-3887C4F6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F006C-C6C5-42F3-B0A1-6CEEAFC9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29325-6FE7-48B1-BFFA-A782C022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EA8D8-24CF-45AE-836B-97CD1F67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B8B98-02F7-4AE9-80E0-DD0F623F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B9156-B494-4538-B555-B36E3E3E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D132B-2B9E-4B11-95F5-42D13AA53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BBA2F-A1C6-4E36-85CE-362A80B89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96D2B-C776-4134-B8E2-BE042EC2A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D38F-A25E-415D-93C5-7F74EC8C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DF6BD-60E1-4F62-8775-3434C568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E22AB-0BDC-45B5-8613-ABFEEA55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FBF8B-3F4D-45A8-9FF4-507E1A0B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1F863-069D-4A2B-9335-88F8FBD2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A6484-91CE-4809-A9B2-35D5DFDD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247DF-A696-4105-AF33-CAF944EB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EE792-BA61-4E52-990D-2468E514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6E251-1C84-4410-8AC3-51243017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2C22B-C538-49BA-A5F4-293624AF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560FB-E541-46F3-A6F4-5240422B1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B6D0-D462-4EDF-8B7E-F7B39976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2D9B0-2691-4AB8-82CF-68183073C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AC23-69FF-4337-941E-B56CF5EF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D806-E6BD-476F-8FF9-D415AA22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9FED-C41A-4082-83D8-74BF8B4D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8BEA-0B53-47E4-B868-F0530826D62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6238-32A6-4168-82F4-D9D5BD8F8B1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B141-BE1B-415D-A362-A6A80EC2761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FD5D-B041-4245-B784-52B5919714E7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1432-5500-4A26-AA3C-49BDA94039C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 rot="19140000">
            <a:off x="615960" y="1552320"/>
            <a:ext cx="564984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INPATIENT SETTING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ACUTE, INPT REHAB, SNF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 rot="19140000">
            <a:off x="1061280" y="2400480"/>
            <a:ext cx="6512040" cy="3283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anklin Gothic Book"/>
                <a:ea typeface="Tunga"/>
              </a:rPr>
              <a:t>PTP 641 MED SURGICAL PT EXAM AND POC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anklin Gothic Book"/>
                <a:ea typeface="Tunga"/>
              </a:rPr>
              <a:t>SPRING/SUMMER 2012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Franklin Gothic Medium"/>
              </a:rPr>
              <a:t>REIMBURSEMENT</a:t>
            </a:r>
            <a:endParaRPr b="0" lang="en-US" sz="3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8377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Acute Care – DRG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DRG = Diagnosis Related Group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Inpt Rehab – PPS and FIM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PPS = Prospective Payment System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M=Functional Independence Measur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Acute Hospitals reduced payment if d/c early to SNF or Rehab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SNF – RUG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RUGs = Resource Utilization Group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REIMBURSEMEN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447920" y="914400"/>
            <a:ext cx="624816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CD-9 Code =  Medical diagnosis cod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Guide Pattern = PT diagnosis cod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PT Code = Treatment cod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Party Payers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CBS – Master Medica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omplete Insurance Plan – HMO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edicare, Medicaid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Private Pa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harity Pa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ombinatio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Insurance and Private Pay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Coordination of Benefit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 rot="19140000">
            <a:off x="818280" y="1726920"/>
            <a:ext cx="5651640" cy="120636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POLICIES AND PROCEDUR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 rot="19140000">
            <a:off x="1215720" y="2467800"/>
            <a:ext cx="6510240" cy="3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POLICIES AND PROCEDURE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676520" y="1218960"/>
            <a:ext cx="6705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Primary Focus:  Patient Safety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Facility Policy and Procedure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JCAHO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Medical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POLICY &amp; PROCEDURE - FACILITY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ommunity Injur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r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omb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hild Abductio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Violent Situatio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eather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zardous Materia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SAFE ENVIRONMEN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447560" y="91440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Universal Precautions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pecial Room Warnings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Nosocomial Infections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Wash hands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Linen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Jewelry and Fingernails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Trash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SAFE BODY MECHANIC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quipment working properl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Equipment adjustable height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Safe liftin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POLICY &amp; PROCEDURE - PATIEN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676520" y="990360"/>
            <a:ext cx="6248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Patient Right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Advanced Directives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Living Wills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Medical Power of Attorney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Order of Hierarchy for Decision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Medical Power of Attorney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Spouse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Majority of Adult Children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Parents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Nearest Relative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If conflict, Ethics Committee or State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POLICY &amp; PROCEDURE - PATIEN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599840" y="914400"/>
            <a:ext cx="65530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Identity of Correct Patient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Consent for Treatment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Refusal of Treatment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Informed of Risks and Benefit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Alternative Resource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POLICY &amp; PROCEDURE - PATIEN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Respect – Privacy - Confidentialit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afe Environmen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Call light system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Clean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bus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Restraint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 rot="19140000">
            <a:off x="818280" y="1726920"/>
            <a:ext cx="5651640" cy="120636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THE HOSPITAL SYSTEM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 rot="19140000">
            <a:off x="1215720" y="2467800"/>
            <a:ext cx="6510240" cy="3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POLICY &amp; PROCEDURE - P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295280" y="91404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Customer Service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Dimensions of Patient Care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Respect Me As A Person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Relieve My Fears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Provide Me Comfort and Pain Relief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Involve My Family and Friends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Franklin Gothic Book"/>
              </a:rPr>
              <a:t>Coordinate My Care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Treat Me As A Person, Not As An Episode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Give Me Predictive Information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Provide Me Access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DISCHARGE FROM ACUT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om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npatient Rehab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ub acute inpatient rehab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dult foster car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ssistive living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killed nursing facilit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xtended care facilit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POLICY &amp; PROCEDURE - P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61760" y="914400"/>
            <a:ext cx="752148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ichigan Right to Know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SDS - Label chemical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lectronic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PPE – Blood and Airborne Pathogen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Reaction to emergenci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tandards of Conduc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Quality Car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Law and Regulation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R Policy and Procedur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usiness and Ethical Practic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onfidentialit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onflict of Interes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PT RESPONSIBILITIE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599840" y="990720"/>
            <a:ext cx="67057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Provide and maintain a safe environment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Equipment you use , responses to codes, infection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Informed of legal responsibilities and limitations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Good Samaritan, no code vs adv directive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Acuity of patient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Dx, vitals stabl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Recognize situation and be ready to respond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CPR, Heimlich, call for assist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Know patient’s rights and wishes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Adv directives, confidentiality, no cod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e System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est Hospital is a small  400 bed hospital just built in the thumb area of Michigan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e hospital would like to expand to include an inpatient rehab unit and SNF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Need to have orientation of approximately 60 New Graduate Physical Therapists to the hospital setting along with the inpatient and SNF settings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WELCOME TO BEST HOSPITAL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Accommodate a wide variety of routine, urgent, or emergent patient care needs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Settings to provide therapy services along with provide 24 hour care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Physical, psychosocial, emotional sequalea of illness and hospitalization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7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Change in daily routin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7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Lack of privacy or independenc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7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Change in lifestyl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7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Medial crisi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7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Critical illnes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7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Long-term effect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7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End of lif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THE SYSTEM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issio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trategic Pla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ommunity Involvemen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Partnership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MISSION STATEMENT FOR BEST HOSPITAL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822240" y="1100160"/>
            <a:ext cx="752184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BEST HOSPITAL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MISSION STATEMENT: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To promote healthy and happy lifestyles with the BEST care, based on research, experience, and compassion.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PHYSICAL THERAPY DEPARTMENT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MISSION STATEMENT: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To restore and promote healthy and happy lifestyles of both patients and employees by addressing the health needs of society with research, experience, and compassion.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ORGANIZATION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dministratio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EO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OO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FO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VP of Ancillary Servic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PT, OT, SLP, Rec Therapy,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Resp Therapy, Dieticians, Tissue Trauma, Dialysis,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ase Managers, Social Workers, Department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Physical Medicine and Rehabilitation – Acute, Inpt Rehab, SNF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PT, OT, SLP, Ther Rec Therapist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EXPENSES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Franklin Gothic Book"/>
              </a:rPr>
              <a:t>Revenue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Acute:   10 PTs x 7 days    10 pt/day    24 units  24x$60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Rehab: 10 PTs x 7 days      4 pt/day     24 units  24x$60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SNF:     10 PTs x 7 days      6 pt/day     36 units 36x$60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Franklin Gothic Book"/>
              </a:rPr>
              <a:t>Expenses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60 PTs            60 x $32.00 x 2080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Benefits</a:t>
            </a: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    30% of each salary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Training           4.5 hrs x 9 weeks x $32.00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APTA dues       60 x $500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Cont Ed           60 x $1000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FINANCIAL/REIMBURSEMEN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057400" y="685800"/>
          <a:ext cx="4572000" cy="60040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ve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s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PM&amp;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.5 M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2d050"/>
                          </a:solidFill>
                          <a:latin typeface="Franklin Gothic Book"/>
                        </a:rPr>
                        <a:t>2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nsur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0 m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2d050"/>
                          </a:solidFill>
                          <a:latin typeface="Franklin Gothic Book"/>
                        </a:rPr>
                        <a:t>17,136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D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2d050"/>
                          </a:solidFill>
                          <a:latin typeface="Franklin Gothic Book"/>
                        </a:rPr>
                        <a:t>16,890,4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609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ndow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Oncolog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W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2d050"/>
                          </a:solidFill>
                          <a:latin typeface="Franklin Gothic Book"/>
                        </a:rPr>
                        <a:t>SNF W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und Rai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 m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2d050"/>
                          </a:solidFill>
                          <a:latin typeface="Franklin Gothic Book"/>
                        </a:rPr>
                        <a:t>17,140,4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xpen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s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PM&amp;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mploy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al/ben/tr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587,7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ac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eat, light, 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quip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uppl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1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16,663,2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Bal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77,2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16:14:37Z</dcterms:created>
  <dc:creator>lovascol</dc:creator>
  <dc:description/>
  <dc:language>en-US</dc:language>
  <cp:lastModifiedBy>SWEET, CHRISTINA</cp:lastModifiedBy>
  <dcterms:modified xsi:type="dcterms:W3CDTF">2013-05-13T12:44:37Z</dcterms:modified>
  <cp:revision>58</cp:revision>
  <dc:subject/>
  <dc:title>Inpatient Settings Acute, Inpt Rehab, SNF</dc:title>
</cp:coreProperties>
</file>