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955200" cy="9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6"/>
          </p:nvPr>
        </p:nvSpPr>
        <p:spPr>
          <a:xfrm>
            <a:off x="394020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68200" y="693720"/>
            <a:ext cx="461772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7"/>
          </p:nvPr>
        </p:nvSpPr>
        <p:spPr>
          <a:xfrm>
            <a:off x="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8"/>
          </p:nvPr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67E9-96E1-445E-B24C-49AF43E36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EDD1-5A41-45C3-8FBB-A0BB7DE81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. Directives:  Legal doc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wills:  not legal in Michigan, but help guide wis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 Dur Power of Attorney:  Le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EAD4-5C6E-4C98-9D91-40508A299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refuse treatment, try to get it in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754A-5C69-459E-9076-7D237C282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fe environ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uity of pati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y to respon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t righ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1A48-51E6-4BD2-989B-B38223F9E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AE88-B1D8-485C-B532-7D3868B3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8049-C745-471A-B614-BF0103340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0D4C-6611-46A9-A324-78EFCF63D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3EE5-F1E2-4792-85CB-6FD62656A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4F07-E812-40CC-99F0-6087552C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86A3-52C5-408A-BE97-5D6BEFFD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A94A8-4D76-4407-888A-0E405EE3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B4204-81AE-4B2D-8D0B-1031FBA6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5CEF0-D0BC-4E35-B098-42B0EACE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01BA-0310-4ABB-800C-6761A64D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F799-5957-4276-9C6B-68D2407F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A4016-8BC2-4EBD-BAB9-4D689224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3497-AAAC-4DDE-BEE8-128310E2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017DB-C97C-4CC5-9DF4-5784C094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C36D8-752C-41BA-8145-0D46C15F6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8227B-35D9-43E6-BCE7-098E43E22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7D8EA-E07A-43D3-91E7-C8C713E95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1FE35-8AAB-4702-8EEF-47E07C88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ADF7B-CCE4-4236-831D-32E89844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E178F-0B2F-402E-AF0B-5A103B72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AC6BB-B3C7-43D8-A5A3-0D5F20C4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2F3A-DA07-4465-8578-E4DCB668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959AF-68E1-46AC-BCF5-C9BDB9AC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2EB28-20D9-4F3B-883E-B1F7F579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A3A1A-433A-450D-945C-C988D1EA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3432E-C21C-40EE-8296-B102E18F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237F8-292B-4871-B1AB-5F217585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A0063-2C64-4DBA-A147-D0AA02903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CA755-A877-4B5E-8C3E-AC1F51F24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1ECD7-3670-4B76-B39B-8A4C1266C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09320-DAE7-45BD-AA87-E8F3E04F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FA6D6-163A-40B2-AC83-2894F15A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7A2E-D289-4389-A45E-932A958F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AAD57-18C0-4745-991F-C0D4CC27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92CD2-B926-4F6E-92D2-A51F089C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3658B-B91D-414A-8D24-9AC81AC8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C9C94-A0BD-4EE4-BB89-E8A364B7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97902-59BC-49A8-8B02-32E02EFC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E6031-9A38-47A1-8D16-43579F8B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E181E-AA17-43C3-BAE9-138750B8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42698-B4CE-40E8-85B4-183F3D9B9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1794F-0114-4CEF-B7B7-2DCDFE528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772D8-9F60-415A-BC4B-E28DA2778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2B79-D0B4-4979-B03F-38142B9D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734B5-1EB8-41E4-A39A-64EF69E0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612DC-CC58-4299-AE00-EDFC3B3C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D136C-86FB-479E-AB7E-97204BB0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D3EC7-9492-4D89-9BD9-3D2FDAAC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9124F-0EDC-4213-8A16-F4B4909D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C647D-5D7A-4C75-97F6-2360F016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B56A5-98C3-4985-9280-42619DD8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DE4C4-559F-45D4-A8D3-9D0E32EF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90E81-1905-48F0-A64A-B0BD022D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BC551-6B93-41BB-B68D-867B78BC4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CE0F-71A5-4F5E-93A1-F666FD04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9AB31-2411-48F7-A6A9-A1858C8D7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1B03-D92E-440D-87F4-092E81BF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9C6C-06CB-44EF-9B11-8D8BD919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B0F8-D769-4364-AF33-29E07E1C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29E4-B2B1-4B3D-96B3-C3F0EADE040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1C87-FC12-4B92-8F15-CA1B3A4641F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E9A2-434A-4D82-B374-F164AEB94B4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7E55-C4BA-4298-AAFF-C737A38C522D}" type="slidenum">
              <a:rPr b="0" lang="en-U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9AAC-39E1-4AD1-A2FE-9F7D0CE557F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 rot="19140000">
            <a:off x="615960" y="1552320"/>
            <a:ext cx="564984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INPATIENT SETTING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ACUTE, INPT REHAB, SNF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 rot="19140000">
            <a:off x="1061280" y="2400480"/>
            <a:ext cx="6512040" cy="3283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anklin Gothic Book"/>
                <a:ea typeface="Tunga"/>
              </a:rPr>
              <a:t>PTP 641 MED SURGICAL PT EXAM AND POC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anklin Gothic Book"/>
                <a:ea typeface="Tunga"/>
              </a:rPr>
              <a:t>SPRING/SUMMER 2012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Franklin Gothic Medium"/>
              </a:rPr>
              <a:t>REIMBURSEMENT</a:t>
            </a:r>
            <a:endParaRPr b="0" lang="en-US" sz="3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8377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Acute Care – DRG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DRG = Diagnosis Related Group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Inpt Rehab – PPS and FIM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PPS = Prospective Payment System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M=Functional Independence Measur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Acute Hospitals reduced payment if d/c early to SNF or Rehab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SNF – RUG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RUGs = Resource Utilization Group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REIMBURSEMEN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447920" y="914400"/>
            <a:ext cx="624816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CD-9 Code =  Medical diagnosis cod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Guide Pattern = PT diagnosis cod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PT Code = Treatment cod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Party Payers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CBS – Master Medica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omplete Insurance Plan – HMO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edicare, Medicaid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Private Pay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harity Pay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ombination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Insurance and Private Pay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Coordination of Benefit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 rot="19140000">
            <a:off x="818280" y="1726920"/>
            <a:ext cx="5651640" cy="120636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POLICIES AND PROCEDUR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 rot="19140000">
            <a:off x="1215720" y="2467800"/>
            <a:ext cx="6510240" cy="3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POLICIES AND PROCEDURE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676520" y="1218960"/>
            <a:ext cx="6705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Primary Focus:  Patient Safety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Facility Policy and Procedures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JCAHO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Medical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POLICY &amp; PROCEDURE - FACILITY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ommunity Injury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r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omb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hild Abduction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Violent Situation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Weather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zardous Materia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SAFE ENVIRONMEN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447560" y="914400"/>
            <a:ext cx="6629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Universal Precautions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pecial Room Warnings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Nosocomial Infections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Wash hands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Linen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Jewelry and Fingernails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Trash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SAFE BODY MECHANIC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Equipment working properly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Equipment adjustable height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Safe liftin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POLICY &amp; PROCEDURE - PATIEN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676520" y="990360"/>
            <a:ext cx="6248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Patient Right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Advanced Directives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Living Wills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Medical Power of Attorney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Order of Hierarchy for Decision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Medical Power of Attorney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Spouse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Majority of Adult Children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Parents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Nearest Relative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If conflict, Ethics Committee or State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POLICY &amp; PROCEDURE - PATIEN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599840" y="914400"/>
            <a:ext cx="65530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Identity of Correct Patient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Consent for Treatment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Refusal of Treatment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Informed of Risks and Benefits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Alternative Resources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POLICY &amp; PROCEDURE - PATIEN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Respect – Privacy - Confidentiality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afe Environmen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Call light system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Clean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bus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Restraint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 rot="19140000">
            <a:off x="818280" y="1726920"/>
            <a:ext cx="5651640" cy="120636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THE HOSPITAL SYSTEM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 rot="19140000">
            <a:off x="1215720" y="2467800"/>
            <a:ext cx="6510240" cy="3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POLICY &amp; PROCEDURE - P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295280" y="914040"/>
            <a:ext cx="6934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Customer Service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Dimensions of Patient Care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Respect Me As A Person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Relieve My Fears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Provide Me Comfort and Pain Relief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Involve My Family and Friends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Franklin Gothic Book"/>
              </a:rPr>
              <a:t>Coordinate My Care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Treat Me As A Person, Not As An Episode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Give Me Predictive Information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Provide Me Access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DISCHARGE FROM ACUT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om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npatient Rehab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ub acute inpatient rehab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dult foster car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ssistive living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killed nursing facility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Extended care facility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POLICY &amp; PROCEDURE - P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761760" y="914400"/>
            <a:ext cx="752148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ichigan Right to Know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SDS - Label chemical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Electronic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PPE – Blood and Airborne Pathogen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Reaction to emergenci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tandards of Conduc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Quality Car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Law and Regulation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R Policy and Procedur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usiness and Ethical Practic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onfidentiality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onflict of Interes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PT RESPONSIBILITIE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599840" y="990720"/>
            <a:ext cx="67057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Provide and maintain a safe environment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Equipment you use , responses to codes, infection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Informed of legal responsibilities and limitations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Good Samaritan, no code vs adv directive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Acuity of patient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Dx, vitals stabl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Recognize situation and be ready to respond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CPR, Heimlich, call for assist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Know patient’s rights and wishes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Adv directives, confidentiality, no cod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e System: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est Hospital is a small  400 bed hospital just built in the thumb area of Michigan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e hospital would like to expand to include an inpatient rehab unit and SNF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Need to have orientation of approximately 60 New Graduate Physical Therapists to the hospital setting along with the inpatient and SNF settings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WELCOME TO BEST HOSPITAL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Accommodate a wide variety of routine, urgent, or emergent patient care needs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Settings to provide therapy services along with provide 24 hour care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Physical, psychosocial, emotional sequalea of illness and hospitalization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7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Change in daily routine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7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Lack of privacy or independence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7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Change in lifestyle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7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Medial crisi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7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Critical illnes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7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Long-term effect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7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End of life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THE SYSTEM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ission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trategic Plan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ommunity Involvemen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Partnership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MISSION STATEMENT FOR BEST HOSPITAL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822240" y="1100160"/>
            <a:ext cx="752184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BEST HOSPITAL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MISSION STATEMENT: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To promote healthy and happy lifestyles with the BEST care, based on research, experience, and compassion.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PHYSICAL THERAPY DEPARTMENT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MISSION STATEMENT: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To restore and promote healthy and happy lifestyles of both patients and employees by addressing the health needs of society with research, experience, and compassion.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ORGANIZATION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dministration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EO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OO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FO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VP of Ancillary Servic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PT, OT, SLP, Rec Therapy,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Resp Therapy, Dieticians, Tissue Trauma, Dialysis,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ase Managers, Social Workers, Department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Physical Medicine and Rehabilitation – Acute, Inpt Rehab, SNF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PT, OT, SLP, Ther Rec Therapist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EXPENSES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000000"/>
                </a:solidFill>
                <a:uFillTx/>
                <a:latin typeface="Franklin Gothic Book"/>
              </a:rPr>
              <a:t>Revenue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anklin Gothic Book"/>
              </a:rPr>
              <a:t>Acute:   10 PTs x 7 days    10 pt/day    24 units  24x$60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anklin Gothic Book"/>
              </a:rPr>
              <a:t>Rehab: 10 PTs x 7 days      4 pt/day     24 units  24x$60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anklin Gothic Book"/>
              </a:rPr>
              <a:t>SNF:     10 PTs x 7 days      6 pt/day     36 units 36x$60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000000"/>
                </a:solidFill>
                <a:uFillTx/>
                <a:latin typeface="Franklin Gothic Book"/>
              </a:rPr>
              <a:t>Expenses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anklin Gothic Book"/>
              </a:rPr>
              <a:t>60 PTs            60 x $32.00 x 2080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anklin Gothic Book"/>
              </a:rPr>
              <a:t>Benefits</a:t>
            </a:r>
            <a:r>
              <a:rPr b="1" lang="en-US" sz="15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Franklin Gothic Book"/>
              </a:rPr>
              <a:t>    30% of each salary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anklin Gothic Book"/>
              </a:rPr>
              <a:t>Training           4.5 hrs x 9 weeks x $32.00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anklin Gothic Book"/>
              </a:rPr>
              <a:t>APTA dues       60 x $500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anklin Gothic Book"/>
              </a:rPr>
              <a:t>Cont Ed           60 x $1000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FINANCIAL/REIMBURSEMEN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057400" y="685800"/>
          <a:ext cx="4572000" cy="60040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ven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os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PM&amp;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.5 M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2d050"/>
                          </a:solidFill>
                          <a:latin typeface="Franklin Gothic Book"/>
                        </a:rPr>
                        <a:t>2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nsur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0 m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2d050"/>
                          </a:solidFill>
                          <a:latin typeface="Franklin Gothic Book"/>
                        </a:rPr>
                        <a:t>17,136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D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2d050"/>
                          </a:solidFill>
                          <a:latin typeface="Franklin Gothic Book"/>
                        </a:rPr>
                        <a:t>16,890,4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609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ndow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Oncolog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W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2d050"/>
                          </a:solidFill>
                          <a:latin typeface="Franklin Gothic Book"/>
                        </a:rPr>
                        <a:t>SNF W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und Rais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 m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2d050"/>
                          </a:solidFill>
                          <a:latin typeface="Franklin Gothic Book"/>
                        </a:rPr>
                        <a:t>17,140,4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xpen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os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PM&amp;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mploy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al/ben/tr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587,7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ac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eat, light, 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1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quip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uppl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1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16,663,2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Bal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77,2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16:14:37Z</dcterms:created>
  <dc:creator>lovascol</dc:creator>
  <dc:description/>
  <dc:language>en-US</dc:language>
  <cp:lastModifiedBy>SWEET, CHRISTINA</cp:lastModifiedBy>
  <dcterms:modified xsi:type="dcterms:W3CDTF">2013-05-13T12:44:37Z</dcterms:modified>
  <cp:revision>58</cp:revision>
  <dc:subject/>
  <dc:title>Inpatient Settings Acute, Inpt Rehab, SNF</dc:title>
</cp:coreProperties>
</file>