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C380-F6D9-4F4A-81BD-BC684D84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937D-3C40-449A-9C31-34F43C2D7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47A1-A863-4D7B-8821-0C0AFA30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46FE-6D58-45AC-843E-B573CDE0E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2F21-B7DD-4FBA-92B7-FAF3D6808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DD12-41CD-451E-AE9D-6C840A12C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 7!</a:t>
            </a: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586F-4E29-4F5A-8E49-AA2DBE647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E82E-9617-404E-BA80-22CDF4BD0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07FF-1BF2-4644-93DC-D77854760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383E-56C1-4AD3-A766-A968496DB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DAEB-29DD-462B-953B-7AFE8A450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3CCE-B4A7-41AD-8BB1-FCA3946A3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BA30-BB2C-4844-A19E-0EF8C77EE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7C18-EF6E-4ED6-86F0-F8CE73717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58DA-6E12-4CE0-B483-F9FABDD6C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E06D-D3FF-41AB-AF2B-19C05B1B9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57E6-E81C-4E13-9866-C2CD110B7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76B4-ADEA-4DE9-8B81-C6F38C725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BA50-57EE-48BC-9F09-A121CC4D3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2DD5-60CF-450F-8DFA-4F9E1740F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AF02-7DB8-46CC-8E40-E0553BEB6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0074F-376E-4DE0-8DDA-97B3DF23F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4C74-1748-4C57-80CA-65378A0BE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9ECF-559D-464C-9FB8-E2F92E0B1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74C96-D4B3-4DC9-ABCF-CE91EC231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770E3-CB55-489F-9747-6B16EC792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C59DD-677C-4EE0-BE7F-10B89F27F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78FF9-9522-42F9-9653-3495E9E58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4794A-91D8-48E3-93A2-D062BA500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58911-E21C-4055-9AC2-C7A32EB93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9CD64-F38A-44CE-8DC7-FC7E4CD55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FFF59-2C59-44B7-BAB9-DF8412B1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6573-FF2A-4435-850F-F3C475175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188FD-2CD8-49FB-876E-8D42F7ABB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524C-2696-42F4-9B66-50D409223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8FA61-1F09-411D-A663-F068CBACD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47845-B03B-4A32-B9D8-7E5FBE8ED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C5420-6724-431A-BFA2-AF611D6B4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690C2-A81E-4206-BCC5-F88196891A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16E9E-9859-406B-BBB9-DD83892FB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43883-D9EA-4A94-9392-A3C93E36F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8B033-CCC8-4957-8AFC-CB26051E9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DFB23-1F88-413E-B4E7-F25FD0C2D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A8968-D7AE-4C1D-BA2A-9665F921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4378B-CE69-470F-BA90-55A4C0466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6F828-BAED-4068-8970-8C9D23F3A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A2850-D6B4-4D92-A553-0BBF243DF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C7F67-58AF-4200-ABD7-AC5054DFF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A2A95-FB0D-456C-BB8A-FDED47437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2A35BE-E5AF-4049-B75D-F7C3C3CBB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CA6EB-00E5-4296-8CC0-3516B8ABF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246FA-FA46-46F9-87FB-682FC9387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1ED60-BC3A-40D6-A0D2-B8D2B6A90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983DD-F726-428D-A0E4-3E8DF1592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5650-C7FB-48E5-A1D9-9712D3B8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6B90E-B76C-4DCC-B560-8AD3C095C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C46FB-4007-42E3-8F13-6CD6D0591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16BAC-DC5D-46ED-A9A9-A4C331037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7DBE2-1BB3-4108-802D-10A4248E6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D3700-B2F1-44CD-9B4A-21C609240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D6284-9D2A-446D-B71B-086B2E9B3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080DC-2B05-43B9-9BD1-D848A40FC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6ECA1-E294-4841-88AF-933C1A3699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8C4AD-F05D-43BB-9FFA-8027C2DB19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06D7E33-003D-4383-B447-2914652E649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4460-B69D-422C-AD84-6AAEA3FE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0C95A7-969C-4FD6-BBE1-9D9441D60A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DC9CD1-2FE5-4D0D-B8CD-BA037006E9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7AC774-AA22-478E-9452-73313E544C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4634E2-9F37-4D01-8501-5C546D1A00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E852629-9193-43F4-BCB1-39579BD74F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B43366-148B-4142-85A1-7AC00DB95A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6CB871-1337-4C75-85F8-D939EBBD90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119165-77AE-4F1C-86C6-D8675C5660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54941F-BBDC-4418-9F06-C788C27C70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94DA4E-EE76-4B5C-B611-CED7BCD13A2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A79C-5BA1-49D7-9797-550ABCD8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E5802D7-C78C-42A0-B0DA-7B4360D298E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A43D-BB98-4C11-A2FE-A7F155E51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4DAF-26F6-4B60-9609-A68FE180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074E-C10E-4C6E-A41B-6CCB4566F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D5FF-7CC9-4D3E-93F3-4F3F9B74F0A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89A4-0A9F-490E-9635-24BFCA18C9C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9305-7628-4F23-8C2A-3FA309A8BE5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D0A7-2A79-4CDF-A16F-91AFCFD87FC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F90C-D8F3-441B-A41D-E2BEDABBD92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6400" y="1255680"/>
            <a:ext cx="8461440" cy="243828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dule 1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Health Communication in Patient/Health Education</a:t>
            </a:r>
            <a:endParaRPr b="0" lang="en-US" sz="4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lth communication - strategies to inform and influence patients and their decisions to enhance their health</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ortance:</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s to patient’s knowledge about health issue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reases patient’s health risk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s patient’s adherence to patient/health education</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hances the relationship between patient and therapis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Characteristics of Effective Health Communication</a:t>
            </a:r>
            <a:endParaRPr b="0" lang="en-US" sz="4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urate and understandable - language/format appropriate for the patient</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sily available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stent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lanced including risks/benefits of potential action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lturally competent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idence-based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lied in a timely basi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rgeting a large number of peop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Individual Considerations</a:t>
            </a:r>
            <a:endParaRPr b="0" lang="en-US" sz="45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atient re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atient follow dire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patient understand Englis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ir cognitive lev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patient educ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someone available to help pati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lliteracy</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 normal blood sugar is a range between 60 and 140. Today yours is 150. Is your blood sugar norm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many of your patients would be able to accurately respond to this question from the Test of Functional Health Literacy in Adults (TOFHLA)? In one survey of 3,200 elderly patients, 68% could not answer that question correct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Key Factors to Remember</a:t>
            </a:r>
            <a:endParaRPr b="0" lang="en-US" sz="45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oid medical jar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lth care providers tend t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 too much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 information at too high a level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instructing, focus on three main ide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P</a:t>
            </a:r>
            <a:br>
              <a:rPr sz="5000"/>
            </a:br>
            <a:r>
              <a:rPr b="0" lang="en-US" sz="5000" spc="-1" strike="noStrike">
                <a:solidFill>
                  <a:srgbClr val="04617b"/>
                </a:solidFill>
                <a:latin typeface="Calibri"/>
              </a:rPr>
              <a:t>Key Factors to Remember</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ttentiveness to communication principl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an active listen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lect back to them what is being sai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inforce (repeating is 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eye contact (if culturally appropria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aware of your body langu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P</a:t>
            </a:r>
            <a:br>
              <a:rPr sz="5000"/>
            </a:br>
            <a:r>
              <a:rPr b="0" lang="en-US" sz="5000" spc="-1" strike="noStrike">
                <a:solidFill>
                  <a:srgbClr val="04617b"/>
                </a:solidFill>
                <a:latin typeface="Calibri"/>
              </a:rPr>
              <a:t>Key Factors to Remembe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member adherence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 Tru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ress main area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Knowledg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otiv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ourc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lp them overcome barri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nowledge</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 itsel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when to do treatment progra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to expect resul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sible side effec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of non-adh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ropriate psychomotor skill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endParaRPr b="0" lang="en-US" sz="54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tivati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apeutic relationshi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incentives/advantages to making behavioral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k questions that encourage patient to recognize positive or negative consequences to behavi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take a while to convince th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s it worth i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endParaRPr b="0" lang="en-US" sz="54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ne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quipmen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Purpose</a:t>
            </a:r>
            <a:endParaRPr b="0" lang="en-US" sz="45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concrete instructions on how to carry out an exercise or treatment at h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457200"/>
            <a:ext cx="7010280" cy="1295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Rationale for Patient to do HEP</a:t>
            </a:r>
            <a:endParaRPr b="0" lang="en-US" sz="3500" spc="-1" strike="noStrike">
              <a:solidFill>
                <a:srgbClr val="04617b"/>
              </a:solidFill>
              <a:latin typeface="Calibri"/>
            </a:endParaRPr>
          </a:p>
        </p:txBody>
      </p:sp>
      <p:graphicFrame>
        <p:nvGraphicFramePr>
          <p:cNvPr id="291" name="Object 5"/>
          <p:cNvGraphicFramePr/>
          <p:nvPr/>
        </p:nvGraphicFramePr>
        <p:xfrm>
          <a:off x="3238560" y="3886200"/>
          <a:ext cx="304920" cy="304920"/>
        </p:xfrm>
        <a:graphic>
          <a:graphicData uri="http://schemas.openxmlformats.org/presentationml/2006/ole">
            <p:oleObj r:id="rId1" spid="">
              <p:embed/>
              <p:pic>
                <p:nvPicPr>
                  <p:cNvPr id="292" name="Object 5" descr=""/>
                  <p:cNvPicPr/>
                  <p:nvPr/>
                </p:nvPicPr>
                <p:blipFill>
                  <a:blip r:embed="rId2"/>
                  <a:stretch/>
                </p:blipFill>
                <p:spPr>
                  <a:xfrm>
                    <a:off x="3238560" y="3886200"/>
                    <a:ext cx="304920" cy="304920"/>
                  </a:xfrm>
                  <a:prstGeom prst="rect">
                    <a:avLst/>
                  </a:prstGeom>
                  <a:ln w="0">
                    <a:noFill/>
                  </a:ln>
                </p:spPr>
              </p:pic>
            </p:oleObj>
          </a:graphicData>
        </a:graphic>
      </p:graphicFrame>
      <p:sp>
        <p:nvSpPr>
          <p:cNvPr id="293"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 MUST understand why the HEP is necessary or else they will not do it</a:t>
            </a:r>
            <a:endParaRPr b="0" lang="en-US" sz="2400" spc="-1" strike="noStrike">
              <a:solidFill>
                <a:srgbClr val="000000"/>
              </a:solidFill>
              <a:latin typeface="Constantia"/>
            </a:endParaRPr>
          </a:p>
        </p:txBody>
      </p:sp>
      <p:pic>
        <p:nvPicPr>
          <p:cNvPr id="294" name="Picture 6" descr="j0269986"/>
          <p:cNvPicPr/>
          <p:nvPr/>
        </p:nvPicPr>
        <p:blipFill>
          <a:blip r:embed="rId3"/>
          <a:stretch/>
        </p:blipFill>
        <p:spPr>
          <a:xfrm>
            <a:off x="2286000" y="2057400"/>
            <a:ext cx="2244600" cy="34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Keep it Simple</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 to 3 exerci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dd on extra exercises as patient progress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ways put it in writing to help patient remembe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7</a:t>
            </a:r>
            <a:r>
              <a:rPr b="0" lang="en-US" sz="2600" spc="-1" strike="noStrike" baseline="30000">
                <a:solidFill>
                  <a:srgbClr val="000000"/>
                </a:solidFill>
                <a:latin typeface="Constantia"/>
              </a:rPr>
              <a:t>th</a:t>
            </a:r>
            <a:r>
              <a:rPr b="0" lang="en-US" sz="2600" spc="-1" strike="noStrike">
                <a:solidFill>
                  <a:srgbClr val="000000"/>
                </a:solidFill>
                <a:latin typeface="Constantia"/>
              </a:rPr>
              <a:t>-8</a:t>
            </a:r>
            <a:r>
              <a:rPr b="0" lang="en-US" sz="2600" spc="-1" strike="noStrike" baseline="30000">
                <a:solidFill>
                  <a:srgbClr val="000000"/>
                </a:solidFill>
                <a:latin typeface="Constantia"/>
              </a:rPr>
              <a:t>th</a:t>
            </a:r>
            <a:r>
              <a:rPr b="0" lang="en-US" sz="2600" spc="-1" strike="noStrike">
                <a:solidFill>
                  <a:srgbClr val="000000"/>
                </a:solidFill>
                <a:latin typeface="Constantia"/>
              </a:rPr>
              <a:t> grade level, but 5</a:t>
            </a:r>
            <a:r>
              <a:rPr b="0" lang="en-US" sz="2600" spc="-1" strike="noStrike" baseline="30000">
                <a:solidFill>
                  <a:srgbClr val="000000"/>
                </a:solidFill>
                <a:latin typeface="Constantia"/>
              </a:rPr>
              <a:t>th</a:t>
            </a:r>
            <a:r>
              <a:rPr b="0" lang="en-US" sz="2600" spc="-1" strike="noStrike">
                <a:solidFill>
                  <a:srgbClr val="000000"/>
                </a:solidFill>
                <a:latin typeface="Constantia"/>
              </a:rPr>
              <a:t> grade level for someone with low health lite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large, easy to read typ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simple pictures or diagram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Specifications to Include</a:t>
            </a:r>
            <a:endParaRPr b="0" lang="en-US" sz="45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 = number of times per da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once a day or twice a da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etitions = number of exercises trials to do each time they exerci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2 sets of 10</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 = number of days of performan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aily for one week</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Contraindications / Precautions</a:t>
            </a:r>
            <a:endParaRPr b="0" lang="en-US" sz="3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specific and clear contraindica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ON’T CONTINUE to exercise if leg becomes red, swollen or painfu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specific and clear precau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o not raise your heart rate above 120 beats per minu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hold on to a table for stability when balancing on one foo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Be Available to Answer Questions</a:t>
            </a:r>
            <a:endParaRPr b="0" lang="en-US" sz="35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atient with:</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phone numb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fax numb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E-mail addres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ability issue – you must respond to patient’s ques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oid giving out home phone number, et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Documentation</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 exercises included in HEP in your daily n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HEP handout,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ing information from facil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T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ercises with specifica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indications and precau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Follow-Up Visit</a:t>
            </a: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patient demonstrate exercises in HEP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performed correctly – oka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performed incorrectly -- modif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it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epta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itability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it meet goals/objectives/purpos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it relevant to patient?</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 bo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il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they read it? (illiteracy vs poor vi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ze of pr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te sp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hieva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velopment of HEP</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c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will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methods to u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pt/family have inpu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to issu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ssess your HEP</a:t>
            </a:r>
            <a:endParaRPr b="0" lang="en-US" sz="54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fontScale="99000"/>
          </a:bodyPr>
          <a:p>
            <a:pPr marL="270000" indent="-2700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ility </a:t>
            </a:r>
            <a:endParaRPr b="0" lang="en-US" sz="26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ability formulas – Flesh Reading Ease test, Gunning Fog index, SMOG</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 to 14 point font size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letters on white background</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llets, headings, subheading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enty of white spac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ignment on left side of pag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ve elements involving patient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sentences, active voic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ssess your HEP</a:t>
            </a:r>
            <a:endParaRPr b="0" lang="en-US" sz="48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eptability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ount of tim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ing to perfor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 for patient education</a:t>
            </a:r>
            <a:endParaRPr b="0" lang="en-US" sz="50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docu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health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ercial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uman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pa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DV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Design</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ssessmen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Statement (Purpos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y Concepts (Content Outlin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jectiv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nning evaluation for objectiv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ing teaching strategi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ation of Desig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ify Instr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5400"/>
            </a:br>
            <a:r>
              <a:rPr b="1" lang="en-US" sz="5400" spc="-1" strike="noStrike">
                <a:solidFill>
                  <a:srgbClr val="04617b"/>
                </a:solidFill>
                <a:latin typeface="Calibri"/>
              </a:rPr>
              <a:t> </a:t>
            </a:r>
            <a:r>
              <a:rPr b="1" lang="en-US" sz="4000" spc="-1" strike="noStrike">
                <a:solidFill>
                  <a:srgbClr val="04617b"/>
                </a:solidFill>
                <a:latin typeface="Calibri"/>
              </a:rPr>
              <a:t>Types of Communication Skills Used in Patient Education</a:t>
            </a:r>
            <a:endParaRPr b="0" lang="en-US" sz="4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Expressive skill</a:t>
            </a:r>
            <a:r>
              <a:rPr b="0" i="1" lang="en-US" sz="2800" spc="-1" strike="noStrike">
                <a:solidFill>
                  <a:srgbClr val="000000"/>
                </a:solidFill>
                <a:latin typeface="Constantia"/>
              </a:rPr>
              <a:t>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iving verbal information to others regarding their behaviors</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ticulating own beliefs and feelings</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Emotional skill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king responsibility</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king difficult decisions when transmitting a message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Listening Skills Used in Patient Education</a:t>
            </a:r>
            <a:endParaRPr b="0" lang="en-US" sz="4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with undivided attention</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ing verbal/nonverbal expressions during listening</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knowledging patient’s message</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hecking with the patient for correct understanding/meaning of message</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ing questions for clarific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4617b"/>
                </a:solidFill>
                <a:latin typeface="Calibri"/>
              </a:rPr>
              <a:t> </a:t>
            </a:r>
            <a:r>
              <a:rPr b="1" lang="en-US" sz="4000" spc="-1" strike="noStrike">
                <a:solidFill>
                  <a:srgbClr val="04617b"/>
                </a:solidFill>
                <a:latin typeface="Calibri"/>
              </a:rPr>
              <a:t>Body Language Patterns </a:t>
            </a:r>
            <a:br>
              <a:rPr sz="4000"/>
            </a:br>
            <a:r>
              <a:rPr b="1" lang="en-US" sz="4000" spc="-1" strike="noStrike">
                <a:solidFill>
                  <a:srgbClr val="04617b"/>
                </a:solidFill>
                <a:latin typeface="Calibri"/>
              </a:rPr>
              <a:t>During Patient Education </a:t>
            </a:r>
            <a:endParaRPr b="0" lang="en-US" sz="4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Positive pattern</a:t>
            </a:r>
            <a:r>
              <a:rPr b="0" lang="en-US" sz="2800" spc="-1" strike="noStrike">
                <a:solidFill>
                  <a:srgbClr val="000000"/>
                </a:solidFill>
                <a:latin typeface="Constantia"/>
              </a:rPr>
              <a:t>: Non defensive behavior expressing trust, openness, sincerity, responsiveness, understand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Negative patterns:</a:t>
            </a:r>
            <a:endParaRPr b="0" lang="en-US" sz="2800" spc="-1" strike="noStrike">
              <a:solidFill>
                <a:srgbClr val="000000"/>
              </a:solidFill>
              <a:latin typeface="Constantia"/>
            </a:endParaRPr>
          </a:p>
          <a:p>
            <a:pPr marL="272880" indent="-272880">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ssive expressing hostile and antagonistic behavior </a:t>
            </a:r>
            <a:endParaRPr b="0" lang="en-US" sz="2800" spc="-1" strike="noStrike">
              <a:solidFill>
                <a:srgbClr val="000000"/>
              </a:solidFill>
              <a:latin typeface="Constantia"/>
            </a:endParaRPr>
          </a:p>
          <a:p>
            <a:pPr marL="272880" indent="-272880">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ppeasing expressing shy and nervous behavior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Addressing Patient’s Priorities </a:t>
            </a:r>
            <a:br>
              <a:rPr sz="4000"/>
            </a:br>
            <a:r>
              <a:rPr b="1" lang="en-US" sz="4000" spc="-1" strike="noStrike">
                <a:solidFill>
                  <a:srgbClr val="04617b"/>
                </a:solidFill>
                <a:latin typeface="Calibri"/>
              </a:rPr>
              <a:t>Using Modified FIDO</a:t>
            </a:r>
            <a:endParaRPr b="0" lang="en-US" sz="4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Feelings</a:t>
            </a:r>
            <a:r>
              <a:rPr b="1" lang="en-US" sz="2800" spc="-1" strike="noStrike">
                <a:solidFill>
                  <a:srgbClr val="000000"/>
                </a:solidFill>
                <a:latin typeface="Constantia"/>
              </a:rPr>
              <a:t> </a:t>
            </a:r>
            <a:r>
              <a:rPr b="0" lang="en-US" sz="2800" spc="-1" strike="noStrike">
                <a:solidFill>
                  <a:srgbClr val="000000"/>
                </a:solidFill>
                <a:latin typeface="Constantia"/>
              </a:rPr>
              <a:t>of the patient toward outcom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Information</a:t>
            </a:r>
            <a:r>
              <a:rPr b="0" lang="en-US" sz="2800" spc="-1" strike="noStrike">
                <a:solidFill>
                  <a:srgbClr val="000000"/>
                </a:solidFill>
                <a:latin typeface="Constantia"/>
              </a:rPr>
              <a:t> given by the patient that is specific, accurate and relevant to the outcom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Decisions</a:t>
            </a:r>
            <a:r>
              <a:rPr b="1" lang="en-US" sz="2800" spc="-1" strike="noStrike">
                <a:solidFill>
                  <a:srgbClr val="000000"/>
                </a:solidFill>
                <a:latin typeface="Constantia"/>
              </a:rPr>
              <a:t> </a:t>
            </a:r>
            <a:r>
              <a:rPr b="0" lang="en-US" sz="2800" spc="-1" strike="noStrike">
                <a:solidFill>
                  <a:srgbClr val="000000"/>
                </a:solidFill>
                <a:latin typeface="Constantia"/>
              </a:rPr>
              <a:t>expressed by the patien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Outcomes</a:t>
            </a:r>
            <a:r>
              <a:rPr b="0" lang="en-US" sz="2800" spc="-1" strike="noStrike">
                <a:solidFill>
                  <a:srgbClr val="000000"/>
                </a:solidFill>
                <a:latin typeface="Constantia"/>
              </a:rPr>
              <a:t> expressed by the patient - are to be accomplish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Communication Skills Promoting  Therapeutic Relationships</a:t>
            </a:r>
            <a:endParaRPr b="0" lang="en-US" sz="4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ing the patient nonjudgmental questions</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pporting patient’s perspective</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to the patient’s replies to pick up clues about understanding of information</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ing the patient in active problem solving</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king with the patient and family members to set realistic goals for behavior change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8:50:55Z</dcterms:created>
  <dc:creator>dkfw</dc:creator>
  <dc:description/>
  <dc:language>en-US</dc:language>
  <cp:lastModifiedBy>SWEET, CHRISTINA</cp:lastModifiedBy>
  <dcterms:modified xsi:type="dcterms:W3CDTF">2012-03-19T16:38:28Z</dcterms:modified>
  <cp:revision>41</cp:revision>
  <dc:subject/>
  <dc:title>Design of Individualized Home Care Programs</dc:title>
</cp:coreProperties>
</file>