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C2A-A11D-43E6-ACBA-D1A83EF231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CED1-CFA4-40BF-9B6D-15A86F7303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4AB3-E315-47F4-8EDA-3DE06C7A01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A78-D05F-40D5-9E0D-7456DC413A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3C6-096A-4511-8711-39B8873249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F08-FD29-413E-8A45-5BED8B2990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AF41-489F-4C27-8C8D-61A9471EED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BEBD-3CFD-49FD-80D4-8378688C7F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7E10-6AC8-43E2-9803-F808F4C153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1BA4-DA56-4182-BAAF-0E0533609F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D993-F115-4291-8B3C-A750E5A7E8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5C07-3DB4-41FB-8F9B-C582C99A37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E09C-3BB9-4D3A-9AEC-69B528FD12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7E56-D0FE-4F74-976B-9DD2E063B7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151-BBE7-49D1-90B9-3137842A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A96-9E2B-4C9F-AF43-3172243E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A4D-8318-47E3-8554-E7721320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CF4-C3B7-4E65-B572-66F8DC13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7C3-8FD6-4405-A0E5-74871C7E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C62-409C-4C36-B8BC-59C4665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C1A-C3BB-4C63-9936-357D6118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349-B7CA-43F5-A170-C66D0A13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1E0-E78B-4931-8917-C622B310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F6B-06D8-47CB-A2AF-91D716C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92F-989F-4B83-B67A-9C59691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206-7D2D-4627-9EE3-2C0F290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1150-6748-4FF5-A734-2F7C2D540C02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ta.org/AM/Template.cfm?Section=Consumer_Awareness&amp;Template=/TaggedPage/TaggedPageDisplay.cfm&amp;TPLID=137&amp;ContentID=3417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47fd8"/>
                </a:solidFill>
                <a:latin typeface="Calibri"/>
              </a:rPr>
              <a:t>Commercially Available Patient Education Material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odule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Appraising web-base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nsor of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encing of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cy of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vant to patien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right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Questions for Assessing Commercially Prepared Mater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produced the i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the item be preview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price of the teaching tool compatible with its educational valu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Advantages of Commercially Prepared Mater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ly avail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aterials can be obtained in bulk for free or at relatively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Disadvantages of Commercially Prepared Mater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of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equacy of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ability of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oices of Instructional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3 major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Le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aracteristics of Lear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your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media that accommodates to the needs and abilities of various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aracteristics of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multimedia approach to compliment methods of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ingle medium is most 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ed materials are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haracteristics of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learning dom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mplexity of those behavior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insworth, DS (2011).  Instructional materials.  In Bastable et al. (Eds.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alth Professional as Educ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p 463-502). Sudbury:  Jones &amp; Bartlett Lear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ructor Composed H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-written exercise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ten description, e.g. Bridging – Lie on your back with your knees bent and feet flat on the floor.  Raise your buttocks off the floor approximately 10 inches and hold for 30 seconds.  Repeat X ti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ick fig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-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specific exercises patient should fo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828800" y="3048120"/>
            <a:ext cx="4495680" cy="1981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Line 6"/>
          <p:cNvSpPr/>
          <p:nvPr/>
        </p:nvSpPr>
        <p:spPr>
          <a:xfrm>
            <a:off x="2895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Line 7"/>
          <p:cNvSpPr/>
          <p:nvPr/>
        </p:nvSpPr>
        <p:spPr>
          <a:xfrm flipV="1">
            <a:off x="3200400" y="388584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48769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4876920" y="41911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666880" y="4114800"/>
            <a:ext cx="30492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3124080" y="3809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31240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3124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31240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58ed5"/>
                </a:solidFill>
                <a:latin typeface="Calibri"/>
              </a:rPr>
              <a:t>Advantages of Instructor Composed HEP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tailored to fit institution’s policie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ncorporate frequently aske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 especially important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 specific oral instructions to clarify difficult concep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personalize instructions so content and structure fit an individual’s learning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58ed5"/>
                </a:solidFill>
                <a:latin typeface="Calibri"/>
              </a:rPr>
              <a:t>Disadvantages of Instructor Composed HEP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time consuming to ensure that materials are well written and laid out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exercise caution to avoid incorporating too much information at a higher level than appropr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Products Avai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printed book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printed hando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programs that allow you to customize hando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bas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7fd8"/>
                </a:solidFill>
                <a:latin typeface="Calibri"/>
              </a:rPr>
              <a:t>Sources of commercial patient education mater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ical resources available to purchase for use as hando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related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pta.org/AM/Template.cfm?Section=Consumer_Awareness&amp;Template=/TaggedPage/TaggedPageDisplay.cfm&amp;TPLID=137&amp;ContentID=341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/CDs/DV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Selection of patient ed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i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Selection of patient ed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red 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kind of learner are the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o focus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opportunity for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give out materials you have not review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it help for family members to have ac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Selection of patient ed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v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ime vs multiple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f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00:58:08Z</dcterms:created>
  <dc:creator>Littleton, Sheila</dc:creator>
  <dc:description/>
  <dc:language>en-US</dc:language>
  <cp:lastModifiedBy>SWEET, CHRISTINA</cp:lastModifiedBy>
  <dcterms:modified xsi:type="dcterms:W3CDTF">2012-03-19T16:37:58Z</dcterms:modified>
  <cp:revision>31</cp:revision>
  <dc:subject/>
  <dc:title>Commercially Available Patient Education Materials</dc:title>
</cp:coreProperties>
</file>