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117-C9C4-4DF0-98D9-C0114D3103B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7577-FD49-419C-9C47-89B25D7646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9546-A53E-44AB-8AA4-2D492E42B1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7E32-A435-4CD2-828F-0C475FFB824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9E1B-47D0-44F8-8567-86BD5C331B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511-7B25-4895-BB37-060252AB415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2867-00E9-4D99-BEA1-4A5505A28B1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B2D1-064C-48EE-94A2-762C2D2A17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634C-F919-4212-884D-E92B9653A1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14FD-83CD-45D3-AC09-C85024559C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87D0-2BDC-4D0B-9303-60AF59EF21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B9FE-8017-4D27-A976-DC2C31A1BA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EA06-EAE2-495D-89D6-2B7ABE49C2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F9B1-6A19-45F9-8035-945BD1A6F7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2A8-673C-4754-83BF-CE060B84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AA3-0CC7-4535-831C-70E4293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689-8A7E-4239-96DF-BCD48E36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9B2-B9B5-4EE2-9049-7070B6DC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A37-2352-43CD-AC27-5512B19B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2FA-28E4-46BE-9686-78F015A7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89E-5105-45C5-B50C-4AE49DCF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A04-F21B-4086-8256-028A20F0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4D9-779A-428A-94DD-BB232527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DBF-5C7E-45B6-B71D-F715579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9DA-FF11-43C5-9640-E840929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144-5089-4E3E-A723-081F751D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4452-D1F1-462A-802A-86A97D5C8AD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ta.org/AM/Template.cfm?Section=Consumer_Awareness&amp;Template=/TaggedPage/TaggedPageDisplay.cfm&amp;TPLID=137&amp;ContentID=3417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47fd8"/>
                </a:solidFill>
                <a:latin typeface="Calibri"/>
              </a:rPr>
              <a:t>Commercially Available Patient Education Material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odule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Appraising web-based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nsor of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encing of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cy of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vant to patien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yright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Questions for Assessing Commercially Prepared Materi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produced the i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the item be preview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price of the teaching tool compatible with its educational valu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Advantages of Commercially Prepared Materi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ly avail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aterials can be obtained in bulk for free or at relatively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Disadvantages of Commercially Prepared Materi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of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equacy of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ability of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hoices of Instructional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3 major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Le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haracteristics of Lear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your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media that accommodates to the needs and abilities of various 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haracteristics of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multimedia approach to compliment methods of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ingle medium is most eff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ed materials are most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haracteristics of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learning dom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omplexity of those behavior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insworth, DS (2011).  Instructional materials.  In Bastable et al. (Eds.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alth Professional as Educ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p 463-502). Sudbury:  Jones &amp; Bartlett Lear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ructor Composed H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-written exercise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ten description, e.g. Bridging – Lie on your back with your knees bent and feet flat on the floor.  Raise your buttocks off the floor approximately 10 inches and hold for 30 seconds.  Repeat X tim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ick fig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-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specific exercises patient should fo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828800" y="3048120"/>
            <a:ext cx="4495680" cy="1981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Line 6"/>
          <p:cNvSpPr/>
          <p:nvPr/>
        </p:nvSpPr>
        <p:spPr>
          <a:xfrm>
            <a:off x="2895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Line 7"/>
          <p:cNvSpPr/>
          <p:nvPr/>
        </p:nvSpPr>
        <p:spPr>
          <a:xfrm flipV="1">
            <a:off x="3200400" y="388584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48769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4876920" y="41911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666880" y="4114800"/>
            <a:ext cx="30492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3124080" y="3809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31240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3124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31240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58ed5"/>
                </a:solidFill>
                <a:latin typeface="Calibri"/>
              </a:rPr>
              <a:t>Advantages of Instructor Composed HEP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tailored to fit institution’s policies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ncorporate frequently aske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 especially important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 specific oral instructions to clarify difficult concep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personalize instructions so content and structure fit an individual’s learning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58ed5"/>
                </a:solidFill>
                <a:latin typeface="Calibri"/>
              </a:rPr>
              <a:t>Disadvantages of Instructor Composed HEP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time consuming to ensure that materials are well written and laid out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exercise caution to avoid incorporating too much information at a higher level than appropr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Products Avai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printed book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printed hando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programs that allow you to customize hando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-bas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47fd8"/>
                </a:solidFill>
                <a:latin typeface="Calibri"/>
              </a:rPr>
              <a:t>Sources of commercial patient education materi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ical resources available to purchase for use as hando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 related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pta.org/AM/Template.cfm?Section=Consumer_Awareness&amp;Template=/TaggedPage/TaggedPageDisplay.cfm&amp;TPLID=137&amp;ContentID=3417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/CDs/DV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Selection of patient ed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i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h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Selection of patient ed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red 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kind of learner are the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o focus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opportunity for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give out materials you have not review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it help for family members to have acc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Selection of patient ed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v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time vs multiple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f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00:58:08Z</dcterms:created>
  <dc:creator>Littleton, Sheila</dc:creator>
  <dc:description/>
  <dc:language>en-US</dc:language>
  <cp:lastModifiedBy>SWEET, CHRISTINA</cp:lastModifiedBy>
  <dcterms:modified xsi:type="dcterms:W3CDTF">2012-03-19T16:37:58Z</dcterms:modified>
  <cp:revision>31</cp:revision>
  <dc:subject/>
  <dc:title>Commercially Available Patient Education Materials</dc:title>
</cp:coreProperties>
</file>