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1.png" ContentType="image/png"/>
  <Override PartName="/ppt/media/image20.jpeg" ContentType="image/jpeg"/>
  <Override PartName="/ppt/media/image32.png" ContentType="image/png"/>
  <Override PartName="/ppt/media/image13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1AD-6D37-4148-8265-66782F756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high HR, then will passout from lack of blood pum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01DA-9CDD-4B49-A0F8-0F50ABC4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en erector spinea, superior/inferior rectus capitis, and obliques cap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es levator scapula, so to compensate will elevate and downwardly rotate, but to perform movement will depress and upwardly 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4B9-5FA8-44FC-9B09-46877B69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 Upper trap/levator scapula so elevates shoulder, so makes pecs tight ( minor into protraction, tight major IR) so weakness in lower trap/serratus anterior, and deep neck flexors and weakness in rhomb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0AE-F76B-4E66-9A3D-A7E81FDC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480-FA49-4C3C-818D-EED352B0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ic spine fractures due to osteoporosis==caused by forward head pos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598-7E1A-44CA-9EEA-91D5A806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A0F0-9F84-4ADB-B004-EF7C3ADE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xity goes to the spine of the hump, pushes rib posetio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C8DD-2795-47A0-BC2C-F33141F1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8B5-E7E4-4C54-B208-196D4260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hump on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E4F-A43D-4894-9A14-B8779E2C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rotation of verteb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gus=legs together, but feet can’t get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us= feet together, but legs a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9C2-A6AF-4DEE-8B95-7CB21796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sup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id then shock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08C5-DCC8-41D0-82B5-6F903169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Hodges- respiratory will always win over pos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4988-2ECB-4F85-B87E-15701CE3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Mass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F09E-5404-4CB9-992D-1F1F13DD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C19-1615-461D-AB09-3685414B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665-DB58-4A8E-A4F3-67BF6A30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DFD-6972-4892-804E-D3AFF70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FC7-B7AB-4C9F-B404-9481F6E2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9A2-6447-4EBF-A91B-A14A7B1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275-0FE1-4515-9205-DD1D452D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18F-CBBC-4B24-9368-FB4E8E1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F57-D69D-4D6A-A09E-534A34C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78F-B329-4CC2-9414-426B4E5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74F-2D9D-43C7-B9E6-159196A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233-6BFE-4B7E-8394-E7B8B96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F20-2C97-465A-B3B9-6315F0E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E61-E837-47AE-991F-F11F70C9B0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TP 565 Fundamentals of Tests and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s the two chambers of the body: thoracic and abd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pressure reg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led at top by vocal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led at bottom by pelvic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d by the muscles of the trunk and pelvic floor which gives pressure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multi-tas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internal organs is supported by this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the muscle function away and the pressure collapse has an effect on the function of the internal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ling, standing, lying, s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, running, jump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(Scoliosis), Photography, E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e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mb Line?-divide body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tanding pos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ght vertical al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top of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body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ottom of f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deal posture"/>
          <p:cNvPicPr/>
          <p:nvPr/>
        </p:nvPicPr>
        <p:blipFill>
          <a:blip r:embed="rId1"/>
          <a:srcRect l="0" t="0" r="0" b="5788"/>
          <a:stretch/>
        </p:blipFill>
        <p:spPr>
          <a:xfrm>
            <a:off x="534960" y="379440"/>
            <a:ext cx="5437080" cy="5641920"/>
          </a:xfrm>
          <a:prstGeom prst="rect">
            <a:avLst/>
          </a:prstGeom>
          <a:ln w="0">
            <a:noFill/>
          </a:ln>
        </p:spPr>
      </p:pic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324480" y="609480"/>
            <a:ext cx="228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. Auditory Me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mion, bi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. Thoracic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ect Lumbar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rior to hip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rior to knee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. To lateral malleolus=very anterior tip of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gittal View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normal spinal curves exaggerated or rever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body displaced relative to the center of gravit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head position balanced over the bo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ittal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cerv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erv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racic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t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rtebral fora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or m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M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pula, GH j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09349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Cervical Spine extensors are tight if the chin looks tilted in the air or is leading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ator Scapula muscles are weak, lengthe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232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)  Upper Cross Shoulder Synd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s the functional capacity of the cervical spine and upper extre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which are weak and inhibi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trapezius and serratus anterior, deep neck flex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upper cross syndrome"/>
          <p:cNvPicPr/>
          <p:nvPr/>
        </p:nvPicPr>
        <p:blipFill>
          <a:blip r:embed="rId1"/>
          <a:stretch/>
        </p:blipFill>
        <p:spPr>
          <a:xfrm>
            <a:off x="4648320" y="1447920"/>
            <a:ext cx="4033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337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s which are shortened and hypertonic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per trapezius, levator scapulae, scalene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s which are short and tight: pectoralis major and minor, interscapular muscles, sternocleidomastoid, suboccipital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upper cross syndrome"/>
          <p:cNvPicPr/>
          <p:nvPr/>
        </p:nvPicPr>
        <p:blipFill>
          <a:blip r:embed="rId1"/>
          <a:stretch/>
        </p:blipFill>
        <p:spPr>
          <a:xfrm>
            <a:off x="4616280" y="1600200"/>
            <a:ext cx="40309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 vs Break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do this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msucle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a muscle con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let me move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C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lower cervical lor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of upper cervical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kyphosis of cervical thoracic jun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otation of shoulder gird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-T junction: Dowager's h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 thoracic vertebrae fra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soft tissue around the CT j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orosis is the main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wedging of the vertebrae, height anterior is less then post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mso2BCA9"/>
          <p:cNvPicPr/>
          <p:nvPr/>
        </p:nvPicPr>
        <p:blipFill>
          <a:blip r:embed="rId1"/>
          <a:stretch/>
        </p:blipFill>
        <p:spPr>
          <a:xfrm>
            <a:off x="2286000" y="4799160"/>
            <a:ext cx="2514600" cy="192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5257800" y="358128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er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erior Shoul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merus is in front of acromion rather than cent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s a rounded anterior position of shoulder gird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ds to impingement syndromes of the shoul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ulty Thoracic Spine and Chest Pos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photic Pos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ed pecto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 intercost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T S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m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ous processes are more approxim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shock 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Spine: Round Back (kyphos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egin with a decrease in pelvic inclination (angle of inclination=less of an angle then less shock absorp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compensates by rounding out the thoracic or thoraco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mso4ED2E"/>
          <p:cNvPicPr/>
          <p:nvPr/>
        </p:nvPicPr>
        <p:blipFill>
          <a:blip r:embed="rId1"/>
          <a:stretch/>
        </p:blipFill>
        <p:spPr>
          <a:xfrm>
            <a:off x="4724280" y="16765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Spine: Hunch Back (gibb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wedging of 1-2 thoracic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lumbar, change in 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soC7788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Pigeon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num projects forward and down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AP di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nital Defor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s ventilation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so286E4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Funnel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genital deform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rnum is pushed posterior by overgrowth of r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/P diameter is de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may be displ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iration: hollow de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mso9D1F5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Barrel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num projects up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A/P di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ological conditions: emphys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msoB22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 question on last 3 pervious slides, over increase in A/P for two, but not for 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stive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and Faulty L and T Spine Align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Four postures, sagittal view"/>
          <p:cNvPicPr/>
          <p:nvPr/>
        </p:nvPicPr>
        <p:blipFill>
          <a:blip r:embed="rId1"/>
          <a:stretch/>
        </p:blipFill>
        <p:spPr>
          <a:xfrm>
            <a:off x="1973160" y="1600200"/>
            <a:ext cx="51976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Movement, 5th 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osture, Human Movement 5th ed"/>
          <p:cNvPicPr/>
          <p:nvPr/>
        </p:nvPicPr>
        <p:blipFill>
          <a:blip r:embed="rId1"/>
          <a:srcRect l="0" t="0" r="9127" b="0"/>
          <a:stretch/>
        </p:blipFill>
        <p:spPr>
          <a:xfrm>
            <a:off x="1600200" y="838080"/>
            <a:ext cx="56037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eal posture2"/>
          <p:cNvPicPr/>
          <p:nvPr/>
        </p:nvPicPr>
        <p:blipFill>
          <a:blip r:embed="rId1"/>
          <a:stretch/>
        </p:blipFill>
        <p:spPr>
          <a:xfrm>
            <a:off x="3503520" y="458640"/>
            <a:ext cx="4233960" cy="541044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1295280"/>
            <a:ext cx="2209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s activation:  iso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kyphosis-lordosis"/>
          <p:cNvPicPr/>
          <p:nvPr/>
        </p:nvPicPr>
        <p:blipFill>
          <a:blip r:embed="rId1"/>
          <a:stretch/>
        </p:blipFill>
        <p:spPr>
          <a:xfrm>
            <a:off x="2149560" y="274680"/>
            <a:ext cx="4844880" cy="58514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295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phosis-Lordosis Po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tural Fault/Increased Lumbar Lor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ector spin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louched posture-spacial relationship"/>
          <p:cNvPicPr/>
          <p:nvPr/>
        </p:nvPicPr>
        <p:blipFill>
          <a:blip r:embed="rId1"/>
          <a:stretch/>
        </p:blipFill>
        <p:spPr>
          <a:xfrm>
            <a:off x="2125800" y="843120"/>
            <a:ext cx="4892400" cy="4714560"/>
          </a:xfrm>
          <a:prstGeom prst="rect">
            <a:avLst/>
          </a:prstGeom>
          <a:ln w="0">
            <a:noFill/>
          </a:ln>
        </p:spPr>
      </p:pic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Low Back Pain, 2n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Swayback"/>
          <p:cNvPicPr/>
          <p:nvPr/>
        </p:nvPicPr>
        <p:blipFill>
          <a:blip r:embed="rId1"/>
          <a:stretch/>
        </p:blipFill>
        <p:spPr>
          <a:xfrm>
            <a:off x="1943280" y="433440"/>
            <a:ext cx="5257800" cy="553392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y-back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rdos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spine is mobile, with Inc.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 spine:  flexed (stra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in pelvic inclination, posterior pelvic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and Knees:  exte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kles: slight plantar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structural but 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Flat back"/>
          <p:cNvPicPr/>
          <p:nvPr/>
        </p:nvPicPr>
        <p:blipFill>
          <a:blip r:embed="rId1"/>
          <a:stretch/>
        </p:blipFill>
        <p:spPr>
          <a:xfrm>
            <a:off x="4648320" y="1620720"/>
            <a:ext cx="4038480" cy="44848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dall F.  Muscle Testing and Function, 5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-Back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ector Spin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point (2 assistive aids) Modified 4point, two touching at a time, opposite hand and foot together. 1 assistive devise is us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. 232-2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 Ex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oint (using a cane or hemi-walker) assistive aid and opposite leg touch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uched” sitting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09369"/>
          <p:cNvPicPr/>
          <p:nvPr/>
        </p:nvPicPr>
        <p:blipFill>
          <a:blip r:embed="rId1"/>
          <a:srcRect l="0" t="24722" r="0" b="36722"/>
          <a:stretch/>
        </p:blipFill>
        <p:spPr>
          <a:xfrm>
            <a:off x="1143000" y="1905120"/>
            <a:ext cx="6664320" cy="2568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61772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deal posterior view"/>
          <p:cNvPicPr/>
          <p:nvPr/>
        </p:nvPicPr>
        <p:blipFill>
          <a:blip r:embed="rId1"/>
          <a:stretch/>
        </p:blipFill>
        <p:spPr>
          <a:xfrm>
            <a:off x="1332000" y="515880"/>
            <a:ext cx="6480000" cy="5369040"/>
          </a:xfrm>
          <a:prstGeom prst="rect">
            <a:avLst/>
          </a:prstGeom>
          <a:ln w="0">
            <a:noFill/>
          </a:ln>
        </p:spPr>
      </p:pic>
      <p:sp>
        <p:nvSpPr>
          <p:cNvPr id="1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shoulders and the scapulae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lateral curvature of the midspinal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head held to one side?  Which s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elvic position asymmetrical? (are the iliac crests leve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special flatness or fullness of the paravertebral muscle m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feet placed symmetrically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body rotated as a wh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Achilles tendons deviated or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positions of the malleoli symmetrical in relation to the hee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arm positions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waist folds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ide &amp; Back view faulty"/>
          <p:cNvPicPr/>
          <p:nvPr/>
        </p:nvPicPr>
        <p:blipFill>
          <a:blip r:embed="rId1"/>
          <a:stretch/>
        </p:blipFill>
        <p:spPr>
          <a:xfrm>
            <a:off x="1413000" y="492120"/>
            <a:ext cx="6318000" cy="541656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houlder &amp; scapula"/>
          <p:cNvPicPr/>
          <p:nvPr/>
        </p:nvPicPr>
        <p:blipFill>
          <a:blip r:embed="rId1"/>
          <a:stretch/>
        </p:blipFill>
        <p:spPr>
          <a:xfrm>
            <a:off x="2436840" y="274680"/>
            <a:ext cx="4270320" cy="585144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houlder &amp; scapula"/>
          <p:cNvPicPr/>
          <p:nvPr/>
        </p:nvPicPr>
        <p:blipFill>
          <a:blip r:embed="rId1"/>
          <a:stretch/>
        </p:blipFill>
        <p:spPr>
          <a:xfrm>
            <a:off x="2436840" y="274680"/>
            <a:ext cx="4270320" cy="585144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. Thoracolumbar scol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. lateral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x toward le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or may not be aff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lateral trunk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Pso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lateral trunk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Pso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vs. Stru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superio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dging of vertebral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chan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.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pular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 hu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19760" y="2087640"/>
            <a:ext cx="3495600" cy="3551040"/>
          </a:xfrm>
          <a:prstGeom prst="rect">
            <a:avLst/>
          </a:prstGeom>
          <a:ln w="0">
            <a:noFill/>
          </a:ln>
        </p:spPr>
      </p:pic>
      <p:sp>
        <p:nvSpPr>
          <p:cNvPr id="1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ve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 Orthopedic Physical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msoCD627"/>
          <p:cNvPicPr/>
          <p:nvPr/>
        </p:nvPicPr>
        <p:blipFill>
          <a:blip r:embed="rId1"/>
          <a:stretch/>
        </p:blipFill>
        <p:spPr>
          <a:xfrm>
            <a:off x="91440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os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ure: A position of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“lifting up entire bod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elaxation-use of ligaments, and natural bony shape, anterior trunk shortening/ tightening, posterior trunk lengthening==leads to muscle imbalances, which creates more pain for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Aspect of Posture: get a read off of how someone holds themsel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 H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n when a patient flexes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 rotates to one 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s push out posterior, appear hig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rowing of thoracic rib cage occ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mso4539A"/>
          <p:cNvPicPr/>
          <p:nvPr/>
        </p:nvPicPr>
        <p:blipFill>
          <a:blip r:embed="rId1"/>
          <a:stretch/>
        </p:blipFill>
        <p:spPr>
          <a:xfrm>
            <a:off x="4724280" y="1523880"/>
            <a:ext cx="3886200" cy="464832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BA 30(1)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apeutic Exercise Moving Toward Function, 2n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h 25-FIG-8"/>
          <p:cNvPicPr/>
          <p:nvPr/>
        </p:nvPicPr>
        <p:blipFill>
          <a:blip r:embed="rId1"/>
          <a:stretch/>
        </p:blipFill>
        <p:spPr>
          <a:xfrm>
            <a:off x="1631880" y="1371600"/>
            <a:ext cx="568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09358"/>
          <p:cNvPicPr/>
          <p:nvPr/>
        </p:nvPicPr>
        <p:blipFill>
          <a:blip r:embed="rId1"/>
          <a:srcRect l="15359" t="16682" r="18000" b="36722"/>
          <a:stretch/>
        </p:blipFill>
        <p:spPr>
          <a:xfrm>
            <a:off x="1295280" y="1371600"/>
            <a:ext cx="7056720" cy="493380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erior View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shoulders level symmetrical at the mid-sternal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head tilted to one side?  Which si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normal horizontal clavicular line deviate?  Which direc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pelvic position asymmetric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patella deviated laterally or medi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femur rotated medially or later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ck Robin Head Pos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cervical joint dysfunction: Rotation of the Occiput between C0 and C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ntal plane motion about a Z axis (through the n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s appearance of a tilted head to on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an indication of upper cervical trauma or biomechanical dys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MCPE06924_0000[1]"/>
          <p:cNvPicPr/>
          <p:nvPr/>
        </p:nvPicPr>
        <p:blipFill>
          <a:blip r:embed="rId1"/>
          <a:stretch/>
        </p:blipFill>
        <p:spPr>
          <a:xfrm>
            <a:off x="5869080" y="2951280"/>
            <a:ext cx="1596960" cy="182376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 flipV="1">
            <a:off x="7238880" y="2514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5880" y="4191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edness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shoulder lower tha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 deviated slightly to the right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hip appears higher tha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see deviation of spine to the left side sligh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oot is more pronated than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2559240" cy="3381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198960" cy="2970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and Knee flexion contra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d activation:  @ 15 dg., up to 22% increase in M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va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r flexed ank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LE – may observe patella positioning in relation to the LE alignment, Varus or valgus position of knee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mso8861D"/>
          <p:cNvPicPr/>
          <p:nvPr/>
        </p:nvPicPr>
        <p:blipFill>
          <a:blip r:embed="rId1"/>
          <a:stretch/>
        </p:blipFill>
        <p:spPr>
          <a:xfrm>
            <a:off x="5316480" y="1600200"/>
            <a:ext cx="270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ella: Frontal P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7445520" cy="2830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61772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(Hip, tib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 trac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t Alignment: Sagittal 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475240" cy="2371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4343040"/>
            <a:ext cx="716292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iss Line:   - blue li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tatarsal, through middle of navicular and goes to medial malleolu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vicular d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gittal 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"/>
          <p:cNvSpPr/>
          <p:nvPr/>
        </p:nvSpPr>
        <p:spPr>
          <a:xfrm flipV="1">
            <a:off x="3124080" y="3352320"/>
            <a:ext cx="2210040" cy="685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ysiological: state of being at any one time can have a postural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uctural Factors: scoliosis, extra ribs, leg length discrepan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ccupational F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and Cultu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 Planus-flat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952880" cy="257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44780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ar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ing lig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bialis pos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"/>
          <p:cNvSpPr/>
          <p:nvPr/>
        </p:nvSpPr>
        <p:spPr>
          <a:xfrm flipV="1">
            <a:off x="2666880" y="3581280"/>
            <a:ext cx="1676520" cy="5335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nated F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6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14575"/>
          <p:cNvPicPr/>
          <p:nvPr/>
        </p:nvPicPr>
        <p:blipFill>
          <a:blip r:embed="rId1"/>
          <a:srcRect l="0" t="0" r="19332" b="11332"/>
          <a:stretch/>
        </p:blipFill>
        <p:spPr>
          <a:xfrm>
            <a:off x="3809880" y="990720"/>
            <a:ext cx="4872240" cy="53546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 Cav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22840" cy="1979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ty vs. Pes Pl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"/>
          <p:cNvSpPr/>
          <p:nvPr/>
        </p:nvSpPr>
        <p:spPr>
          <a:xfrm flipV="1">
            <a:off x="3352680" y="2666880"/>
            <a:ext cx="1600200" cy="99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3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inated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0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14576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4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u Recumvatum Ankle P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@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 gast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13545"/>
          <p:cNvPicPr/>
          <p:nvPr/>
        </p:nvPicPr>
        <p:blipFill>
          <a:blip r:embed="rId1"/>
          <a:srcRect l="0" t="0" r="0" b="11332"/>
          <a:stretch/>
        </p:blipFill>
        <p:spPr>
          <a:xfrm>
            <a:off x="3276720" y="1600200"/>
            <a:ext cx="5338800" cy="473400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3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cle Streng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ctive posture (UE bent at 90 held against body), rotator cuff tear (elevated shoul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hologic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-alignment after a fra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cle tone: floopy vs hyperton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teoporosis: fractures of vertebral sp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da Pop Model of Respiration and Postural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muscle of the trunk is a respiratory muscle AND a postural mus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phragm is very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thing is compromised – exercise etc, posture response is reduced so as to focus on the needs of the respirato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faced with conflict, diaphragm will always choose respiration over 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22280" y="6095880"/>
            <a:ext cx="87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ery, M.  Musculoskeletal and Neuromuscular Interventions: a physic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ystic Fribrosi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Royal Soc of M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 98(Sup):55-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o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contractions protect the skeleton from being crushed by outside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148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0:08:23Z</dcterms:created>
  <dc:creator>brodda</dc:creator>
  <dc:description/>
  <dc:language>en-US</dc:language>
  <cp:lastModifiedBy>SWEET, CHRISTINA</cp:lastModifiedBy>
  <dcterms:modified xsi:type="dcterms:W3CDTF">2012-03-26T10:18:44Z</dcterms:modified>
  <cp:revision>26</cp:revision>
  <dc:subject/>
  <dc:title>Posture</dc:title>
</cp:coreProperties>
</file>