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4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9BF2-F3D1-4EAF-95C8-32616CC4C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 BOTH girdles: pelvic and shou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symptoms: muscle weakness in upper arms (biceps and deltoid) and pelvic 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 both proximal and distal 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ged scapulae, abdominal protrusion, inability to raise arms, respiratory muscles involved, waddling gait, poo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6329-5BAA-419A-84BF-FE8B80AB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die in late teens to early-2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D3FD-AE14-48AA-A2A3-3986811BB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3C98-6E45-445F-A063-0F104B1A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uscular dystrophy progresses and muscles weaken, fixations (contra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velop in joints. Tendons can shorten, restricting the flexibility and m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joints. Contractures are uncomfortable and may affect the joints of your ha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t, elbows, knees and 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goal of physical therapy is to provide regular range-of-motion exercis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your joints as flexible as possible, delaying the progression of contractu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ducing or delaying curvature of your spine. Using hot baths (hydrotherap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n help maintain range of motion in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F9CE-948D-425B-A864-33E6300BD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linked recessive disorder in dystrophin gene Xp21 (dystrophin is a protein that links the muscle surface membrane [sarcolemma] with the contractile muscle protein [actin]).  Dystrophin is not of normal size in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996-B4FC-4A98-B3B9-72856421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5A1A-C8E9-47CA-9B2B-DA7598A88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ioscapulohumeral muscular dystro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ndouzy-Dejerine dystroph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his form involves progres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scle weakness involving: Face, Shoulders, Abdomen, Feet, Upper arms, Pelvic area, Lower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someone with facioscapulohumeral MD raises his or her arms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er blades may stick out like wings. Progression of this form is slow,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purts of rapidly increasing weakness. Onset usually occurs during the t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early adult ye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mb-girdle muscular dystro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scles usually affected first by this form of muscular dystrophy includ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form then progresses to the arms and legs, though progression is slow. Li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girdle MD may begin from early childhood to adulth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ER’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eudohypertrophy due to connective tissue and fatty deposits in the 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ensory or motor deficits in all fo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S: clavicles rise up, shoulders droop, scapulae wing, facial flattening with pouting lips, cant raise arms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AFCE-D2F8-4F3A-B4EC-D93220B84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wer’s sign usually present in all forms of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oximal muscle involvemen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metric muscle w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to fifth decade (40s) but only ambulate into mid-teens us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nger you can keep these kids out of a wheelchair, the bet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: no strenuous exercise—causes muscle breakdown! (pushing into muscular fatigue damages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8CC1-FB7B-48D7-BD5E-040F623E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try o get to end of growth before put in wheelchair to minimize spinal deform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8C60-AB95-4B0C-9E1A-53F296709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CA7-2A3C-4B60-8F29-F83031B8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C37-96D4-47D9-A8C5-91410C6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DFE-3998-4D21-9CDD-8F7F9219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B4E-F79A-4BC1-92DB-7A717306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8899-2E26-49E1-8B87-4FF729D1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ED42-579F-422A-8FCD-C46F157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9B19-7966-45EE-80B2-258E5BBE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D74-2F59-45DD-AFB6-BB857556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4C52-5635-48E1-A229-2B185729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4F75-5836-4C15-9815-97FD130C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C934-78E6-4085-886C-B6D818D4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D07-26D6-404A-B6B7-C55CAF4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29C8-DE54-4A02-A036-A0530B89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5F6E-20D8-4E7E-9796-12CC568F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F734-2482-4603-A16C-3FF32502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52BB-92C2-4D2F-8703-068DF367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5805-D033-429E-A39A-399012DE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06B77-5F34-41FD-A774-D7988BB6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A8593-A5A5-41CE-BC8B-07FB134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ACF84-5655-48F1-B743-85BA3656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6C41A-80F7-442B-8A0D-F5C5F1BE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87AA1-DD96-4AF7-A807-080004D0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B96-A80F-429D-A862-1B47B035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ED389-093C-4A2B-B646-7CB79E8B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9875F-BC2D-4F17-A7B4-3073050E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596E7-85E6-4FA3-BCE5-8F22D5CD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9EAA8-75E5-43ED-AE0C-535862DD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76C04-97BE-4F42-BEF9-9E3C8E2E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D18FA-58F9-4803-A2CF-6586AEAB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3AC0F-43C4-4182-A85E-861112E2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20181-7750-4C5D-A811-2744D53B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0765-D766-430B-A8E4-15BC9B5E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EBB91-3012-412D-8F7D-E8F3E8D6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D0C-D252-447E-B268-01664D09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2224-3176-4D27-8995-E37791BC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F8F0-99FC-44C5-81A7-FBC7A621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6818-C5B6-4DD1-8655-9525C765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8459-FB8D-4236-926A-D63966D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D0CB-0378-4679-B02B-EA9E2CD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1D69-7774-4BCC-82AF-DADA080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26E6-EAD6-45D3-A92E-C88106F9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0F393-3752-4744-A6A7-5CD8969A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4A631-D8F8-4A61-9B9B-D881B7C0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AD32-FA48-4D14-A9E1-58BD2025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AD5-E28F-4B2A-AEAE-07FCD46A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5BA2-F30E-44C0-A482-F7082287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9468D-783C-4E96-9A48-EBFAF1F9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DEE6D-9C19-4618-BD1E-7976FA5D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2FF50-ABF0-4CD9-9E1E-E5D6D399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5C7E-9287-4BDA-A381-8721D614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0CF1-A69A-46A9-BA4D-BA69F74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5DAEF-9604-4EC5-9579-007AF92D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1DD2E-E7D2-489D-B490-3B9B042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1219A-5F3F-4EFA-B1DE-41827F24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C3AC2-F085-46DF-B345-CF25A3B8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81C-936C-4AFD-B757-95041CC7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C7B73-2E45-4BEF-A4BC-0C47FBC9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DB4-8914-4A35-876C-04A771F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B13-D311-4F85-B023-001E85D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36F-4D3C-4407-853B-59607650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B734-D0EB-4D95-BED7-2C34B88127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C1AB-6D75-4370-90E9-561599AF99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D6B1-416A-4982-9CAA-BD688F2336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9CCE-4A4D-42D0-BF6F-ADE02070D0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FBBD-5998-4362-86DD-80A0754917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KL5krEsiVI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NR=1&amp;v=IpoT46EAuCU&amp;feature=endscreen" TargetMode="External"/><Relationship Id="rId2" Type="http://schemas.openxmlformats.org/officeDocument/2006/relationships/hyperlink" Target="http://www.youtube.com/watch?NR=1&amp;v=IpoT46EAuCU&amp;feature=endscree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Muscular Dystrophy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Dayna Ryan, PT, DP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inter 201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Limb Girdle Characteristics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dominal protr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648320" y="1584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ddling g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http://www.youtube.com/watch?v=TKL5krEs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1905120" y="2833560"/>
            <a:ext cx="1074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uchenne’s Muscular Dystro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milar clinical presentation as Becker’s MD but progresses more quick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lumbar lord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ximal muscle weak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Gower’s sig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ild walks on toes because of contractures in calf musc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Trendelenburg sign (weak gluteus mediu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uchenne’s Muscular Dystro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ually lose ambulation by 10-12 yea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oliosis happens in most c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spiratory problems an issue once child is wheelchair b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762120" y="4213080"/>
            <a:ext cx="2438280" cy="2257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6553080" y="3657600"/>
            <a:ext cx="22100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28240" y="9144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Diagnosi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Blood test (enzymes from damaged muscles)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Genetic testing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EMG, Ultrasonography, Muscle biopsy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reatments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38086"/>
                </a:solidFill>
                <a:latin typeface="Georgia"/>
              </a:rPr>
              <a:t>No cure. </a:t>
            </a: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Glucocorticoids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Surgery, bracing, assistive device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Prevent or reduce scoliosis &amp; contracture (especially in Becker’s)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Avoid strenuous exercise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1066680"/>
            <a:ext cx="85341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netically determ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gressive degenerative cou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ystrophyic muscle fi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generation, regeneration, fibr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 Signs &amp;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uscular de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ypot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uscle atro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seudohypertroph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cker’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nl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Muscular Dystro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tiolog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17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6" descr=""/>
          <p:cNvPicPr/>
          <p:nvPr/>
        </p:nvPicPr>
        <p:blipFill>
          <a:blip r:embed="rId1"/>
          <a:stretch/>
        </p:blipFill>
        <p:spPr>
          <a:xfrm>
            <a:off x="514440" y="762120"/>
            <a:ext cx="8248680" cy="548640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"/>
          <p:cNvGrpSpPr/>
          <p:nvPr/>
        </p:nvGrpSpPr>
        <p:grpSpPr>
          <a:xfrm>
            <a:off x="3657600" y="2486160"/>
            <a:ext cx="1371600" cy="2544120"/>
            <a:chOff x="3657600" y="2486160"/>
            <a:chExt cx="1371600" cy="2544120"/>
          </a:xfrm>
        </p:grpSpPr>
        <p:sp>
          <p:nvSpPr>
            <p:cNvPr id="283" name="Oval 4"/>
            <p:cNvSpPr/>
            <p:nvPr/>
          </p:nvSpPr>
          <p:spPr>
            <a:xfrm>
              <a:off x="3733920" y="4649760"/>
              <a:ext cx="1295280" cy="380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5"/>
            <p:cNvSpPr/>
            <p:nvPr/>
          </p:nvSpPr>
          <p:spPr>
            <a:xfrm>
              <a:off x="3657600" y="2486160"/>
              <a:ext cx="1295280" cy="639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705800" cy="365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1523880" cy="20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3"/>
          <a:srcRect l="0" t="0" r="5464" b="0"/>
          <a:stretch/>
        </p:blipFill>
        <p:spPr>
          <a:xfrm>
            <a:off x="3886200" y="533520"/>
            <a:ext cx="990720" cy="2019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4"/>
          <a:srcRect l="0" t="0" r="0" b="1890"/>
          <a:stretch/>
        </p:blipFill>
        <p:spPr>
          <a:xfrm>
            <a:off x="6172200" y="457200"/>
            <a:ext cx="1181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8984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Becker’s Characteristics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0520" y="2331720"/>
            <a:ext cx="541044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e walk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ue to pseudohypertrophy                   in bilateral calf muscl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wer’s Sig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www.youtube.com/watch?NR=1&amp;v=IpoT46EAuCU&amp;feature=endscre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15523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Facioscapulohumeral Characteristics </a:t>
            </a:r>
            <a:br>
              <a:rPr sz="31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393560"/>
            <a:ext cx="4114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vicles rise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oulders droo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apulae w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876920" y="1523880"/>
            <a:ext cx="411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ting lower 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2724120" cy="3657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"/>
          <p:cNvPicPr/>
          <p:nvPr/>
        </p:nvPicPr>
        <p:blipFill>
          <a:blip r:embed="rId2"/>
          <a:stretch/>
        </p:blipFill>
        <p:spPr>
          <a:xfrm>
            <a:off x="5867280" y="243828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1:28:34Z</dcterms:created>
  <dc:creator>Min-Hui</dc:creator>
  <dc:description/>
  <dc:language>en-US</dc:language>
  <cp:lastModifiedBy>SWEET, CHRISTINA</cp:lastModifiedBy>
  <dcterms:modified xsi:type="dcterms:W3CDTF">2012-03-06T19:52:10Z</dcterms:modified>
  <cp:revision>9</cp:revision>
  <dc:subject/>
  <dc:title>Muscular Dystrophy</dc:title>
</cp:coreProperties>
</file>