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6F8-6AD6-44FA-8A24-876C715C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 BOTH girdles: pelvic and shou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symptoms: muscle weakness in upper arms (biceps and deltoid) and pelvic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 both proximal and distal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ged scapulae, abdominal protrusion, inability to raise arms, respiratory muscles involved, waddling gait, poo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4A6-2B90-430D-9A85-26BA3A71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die in late teens to early-2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2CD-EE6F-41E6-9A0C-4ABD6468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595-2F38-4B0C-BC8C-525C0703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uscular dystrophy progresses and muscles weaken, fixations (contr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velop in joints. Tendons can shorten, restricting the flexibility and 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joints. Contractures are uncomfortable and may affect the joints of your ha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t, elbows, knees and 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oal of physical therapy is to provide regular range-of-motion exercis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your joints as flexible as possible, delaying the progression of contractu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ducing or delaying curvature of your spine. Using hot baths (hydrotherap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n help maintain range of motion in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2F6-9092-4BD4-83EA-49970DD2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linked recessive disorder in dystrophin gene Xp21 (dystrophin is a protein that links the muscle surface membrane [sarcolemma] with the contractile muscle protein [actin]).  Dystrophin is not of normal size in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885-BBEB-4549-9CEB-EE52A08F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0C06-3FCC-4EB6-9503-2FF3864F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ioscapulohumeral muscular dystro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douzy-Dejerine dystroph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his form involves progres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 weakness involving: Face, Shoulders, Abdomen, Feet, Upper arms, Pelvic area, Lower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someone with facioscapulohumeral MD raises his or her arms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er blades may stick out like wings. Progression of this form is slow,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purts of rapidly increasing weakness. Onset usually occurs during the t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arly adult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b-girdle muscular dystro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s usually affected first by this form of muscular dystrophy includ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form then progresses to the arms and legs, though progression is slow. Li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girdle MD may begin from early childhood to adulth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ER’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udohypertrophy due to connective tissue and fatty deposits in the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ensory or motor deficits in all fo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S: clavicles rise up, shoulders droop, scapulae wing, facial flattening with pouting lips, cant raise arms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035-C667-47A2-876D-C3874534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wer’s sign usually present in all forms of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oximal muscle involveme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metric muscle w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to fifth decade (40s) but only ambulate into mid-teens us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nger you can keep these kids out of a wheelchair, the bet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: no strenuous exercise—causes muscle breakdown! (pushing into muscular fatigue damages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569-3E9F-4551-9161-511F4EAA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ry o get to end of growth before put in wheelchair to minimize spinal deform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B13-A52A-45FD-B531-BC9F9CCD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4D9-7C1C-49EA-A19D-FD56EE65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5BE-7F67-46CF-AF2C-B698830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AC-60BE-4E97-89C5-7C719BBA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D74-C01C-4DD8-AA23-217D219E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7DF-AB4D-49C9-BE4F-1E4E3C3D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45B-0D0B-4811-8037-D469A7D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3BD9-E113-441D-88A0-D8A5101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8B6-C5F9-4217-8592-1264279B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2B39-EA0C-4104-A1AB-6C0B5512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046-63DA-4326-8774-D1902D82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ADF9-E3A4-4B09-8D8A-67497B4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3F1-50EE-4627-8D6A-C071E9E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21B-26EF-4B01-8986-1AE5196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E122-EB88-4210-AD10-E98DCD2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BA39-FA84-47D1-B043-DC06912A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5E9D-B005-4BD6-8713-45DB323E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8415-A628-4AAD-B5F2-DC0759DE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A1AD7-F2E6-42A1-A1C1-D7D6DE36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F7ADB-C4E5-4FD2-B456-7A773CF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D623E-4355-4B92-A7F7-C2A7462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B4E55-3C58-44F9-9F26-5C86A4A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B072E-9C88-4C4D-838D-EFC3F67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AC1-7F76-40DC-A4FA-E28459E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7201D-51FB-43FE-AE7B-F08ACA5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4D1CB-CE73-4582-B356-BA4FA0C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47E93-9131-467A-8A74-30F17E4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E5F2F-289B-4919-96B1-B8E7296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3499C-883F-4ED6-B1B4-0B9EB03B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ABD97-C8DC-4CB9-B812-D489758D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B46D0-50C8-49EA-9B86-DDCEAAD8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BF5C-5234-4B52-87AE-E392219E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5731-5769-46CE-9AEC-781027B0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B0DE-CD6D-48B3-8B1B-E163F97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358-3AE9-4DC6-91BB-073374A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A46B-7CDD-47EC-9F2A-593E4619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47EE-3870-4574-94F5-74A109B8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08EB-E9C6-4F8A-BA68-B59333F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9F09-098B-4015-93A6-29A6170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1EAF-4BA1-4C6A-87C0-60F7D80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9D92-4B1A-44B7-BB75-4F26E17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45C5-86FD-4740-9EED-5766EA1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4354-DD86-4F88-B075-E9D6291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2692-9161-48D2-9FE8-EF3AA689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0AE7-62E1-4379-A63A-D9E29862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6E1-8EAE-401D-A56F-489940F9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1004-6119-47FA-A379-B7E9F44F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148E-95B0-452B-A535-C7F8C80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A7AC-A52D-4C11-8F2E-C1748F37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D2CC-6BDC-4298-AE2F-A7E8CFBC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7E0C-9AF2-4146-966D-AED5336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B769-F4C6-4C1C-A8C6-60B9C1C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60AE-2214-49A8-BE49-FF78B6C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BDC9-F345-4EBD-93A9-1992F5E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4108-D552-4400-A29E-B10F83D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F1F1-F4DB-436A-A33A-7CCE8CEB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5AC-A8C0-414A-AEC9-3D9809C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25CE-FEDD-4996-A506-AC9E15E4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83C-4469-40B7-851E-1AD3B8C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2F6-A8BA-4072-87FE-98FAA0A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683-8D51-46D4-B14E-F61EC961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0D95-FC94-47AF-AC43-27B31B99D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10A-0151-45D7-A198-59F5202B1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E98-18E2-4552-BE79-8CF79CF42B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DECD-A4E2-44B1-B7D7-106EF9C4F4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292A-2290-4455-B41E-6A123F2E3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KL5krEsiVI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NR=1&amp;v=IpoT46EAuCU&amp;feature=endscreen" TargetMode="External"/><Relationship Id="rId2" Type="http://schemas.openxmlformats.org/officeDocument/2006/relationships/hyperlink" Target="http://www.youtube.com/watch?NR=1&amp;v=IpoT46EAuCU&amp;feature=endscre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Muscular Dystrophy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ayna Ryan, PT, DP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inter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Limb Girdle Characteristics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dominal protr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648320" y="1584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ddling g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youtube.com/watch?v=TKL5krEs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1905120" y="2833560"/>
            <a:ext cx="1074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uchenne’s 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milar clinical presentation as Becker’s MD but progresses more quick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lumbar lord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ximal muscle weak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ower’s s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ild walks on toes because of contractures in calf musc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Trendelenburg sign (weak gluteus mediu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uchenne’s 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ually lose ambulation by 10-12 yea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oliosis happens in most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piratory problems an issue once child is wheelchair b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762120" y="421308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6553080" y="3657600"/>
            <a:ext cx="2210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2824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Diagnosi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Blood test (enzymes from damaged muscles)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Genetic testing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EMG, Ultrasonography, Muscle biopsy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reatments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38086"/>
                </a:solidFill>
                <a:latin typeface="Georgia"/>
              </a:rPr>
              <a:t>No cure. </a:t>
            </a: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Glucocorticoids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Surgery, bracing, assistive device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Prevent or reduce scoliosis &amp; contracture (especially in Becker’s)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8086"/>
                </a:solidFill>
                <a:latin typeface="Georgia"/>
              </a:rPr>
              <a:t>Avoid strenuous exercise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1066680"/>
            <a:ext cx="8534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etically determ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gressive degenerative cou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ystrophyic muscle fi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generation, regeneration, fibr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Signs &amp;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scular de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t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scle atro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seudohypertroph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cker’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n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Muscular Dystro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tio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17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514440" y="762120"/>
            <a:ext cx="824868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"/>
          <p:cNvGrpSpPr/>
          <p:nvPr/>
        </p:nvGrpSpPr>
        <p:grpSpPr>
          <a:xfrm>
            <a:off x="3657600" y="2486160"/>
            <a:ext cx="1371600" cy="2544120"/>
            <a:chOff x="3657600" y="2486160"/>
            <a:chExt cx="1371600" cy="2544120"/>
          </a:xfrm>
        </p:grpSpPr>
        <p:sp>
          <p:nvSpPr>
            <p:cNvPr id="283" name="Oval 4"/>
            <p:cNvSpPr/>
            <p:nvPr/>
          </p:nvSpPr>
          <p:spPr>
            <a:xfrm>
              <a:off x="3733920" y="4649760"/>
              <a:ext cx="1295280" cy="38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5"/>
            <p:cNvSpPr/>
            <p:nvPr/>
          </p:nvSpPr>
          <p:spPr>
            <a:xfrm>
              <a:off x="3657600" y="2486160"/>
              <a:ext cx="1295280" cy="639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705800" cy="365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1523880" cy="20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3"/>
          <a:srcRect l="0" t="0" r="5464" b="0"/>
          <a:stretch/>
        </p:blipFill>
        <p:spPr>
          <a:xfrm>
            <a:off x="3886200" y="533520"/>
            <a:ext cx="990720" cy="2019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4"/>
          <a:srcRect l="0" t="0" r="0" b="1890"/>
          <a:stretch/>
        </p:blipFill>
        <p:spPr>
          <a:xfrm>
            <a:off x="6172200" y="457200"/>
            <a:ext cx="1181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898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Becker’s Characteristics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520" y="2331720"/>
            <a:ext cx="541044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e wal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ue to pseudohypertrophy                   in bilateral calf musc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wer’s S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youtube.com/watch?NR=1&amp;v=IpoT46EAuCU&amp;feature=endscre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552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Facioscapulohumeral Characteristics </a:t>
            </a:r>
            <a:br>
              <a:rPr sz="31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393560"/>
            <a:ext cx="4114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vicles rise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ers dro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apulae w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876920" y="1523880"/>
            <a:ext cx="411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ting lower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2724120" cy="3657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2"/>
          <a:stretch/>
        </p:blipFill>
        <p:spPr>
          <a:xfrm>
            <a:off x="5867280" y="24382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1:28:34Z</dcterms:created>
  <dc:creator>Min-Hui</dc:creator>
  <dc:description/>
  <dc:language>en-US</dc:language>
  <cp:lastModifiedBy>SWEET, CHRISTINA</cp:lastModifiedBy>
  <dcterms:modified xsi:type="dcterms:W3CDTF">2012-03-06T19:52:10Z</dcterms:modified>
  <cp:revision>9</cp:revision>
  <dc:subject/>
  <dc:title>Muscular Dystrophy</dc:title>
</cp:coreProperties>
</file>