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773F-8C4E-4137-AEB3-4CCD6F9B8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repeated blinking, twitch, etc.</a:t>
            </a: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A47E-72D4-448F-B852-A2D116A0E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ic phase generally very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lose bowel or bladder control, bite tongue/lips/mouth or froth at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period depends on length of seiz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ic Phase = eyes open, elbows flexed, arms pronated, legs extended, teeth clenched, pupils dilated, hold breath (cyanosis), lose bowel/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ic Phase = violent tremor, eyes roll back, tachycardia, tongue may be bitten, breathing recommences at end of phase</a:t>
            </a: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13E9-221A-459C-A6C0-F8F0E0D9F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in level of consciousness but not a loss</a:t>
            </a:r>
            <a:r>
              <a:rPr b="0" lang="en-US" sz="1200" spc="-1" strike="noStrike">
                <a:solidFill>
                  <a:srgbClr val="000000"/>
                </a:solidFill>
                <a:latin typeface="Wingdings"/>
                <a:ea typeface="Wingdings"/>
              </a:rPr>
              <a:t></a:t>
            </a:r>
            <a:r>
              <a:rPr b="0" lang="en-US" sz="1200" spc="-1" strike="noStrike">
                <a:solidFill>
                  <a:srgbClr val="000000"/>
                </a:solidFill>
                <a:latin typeface="Arial"/>
              </a:rPr>
              <a:t>know this is occurring if try to get the persons attention and they don’t react (but can be easy to m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blinking, staring off into space, smack lips, chewing, hand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miss a few words for a few seconds in a conversation if 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 is unaware of the change in conscious control</a:t>
            </a: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6E94-771B-4D7E-88B8-E280559D0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1781-0ADC-436E-B7D5-536E5DF98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BA is the main inhibitory neurotransmitter in the C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ation of NMDA receptors increases neuronal exci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s: Phenobarbital, Dilantin, Valium, Tegretol, Depakene </a:t>
            </a:r>
            <a:r>
              <a:rPr b="0" lang="en-US" sz="1200" spc="-1" strike="noStrike">
                <a:solidFill>
                  <a:srgbClr val="000000"/>
                </a:solidFill>
                <a:latin typeface="Wingdings"/>
                <a:ea typeface="Wingdings"/>
              </a:rPr>
              <a:t></a:t>
            </a:r>
            <a:r>
              <a:rPr b="0" lang="en-US" sz="1200" spc="-1" strike="noStrike">
                <a:solidFill>
                  <a:srgbClr val="000000"/>
                </a:solidFill>
                <a:latin typeface="Arial"/>
              </a:rPr>
              <a:t> but will see side effects of these drugs (ataxia, dysarthria, dizziness, double vi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0CEC-19D2-4AE4-9A83-C8C92E989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 = decilitre = 0.1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poisoning occurs when lead builds up in the body, often over a period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s or years. Even small amounts of lead can cause serious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ren under the age of 6 are especially vulnerable to lead poisoning, which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rely affect mental and physical development</a:t>
            </a:r>
            <a:r>
              <a:rPr b="0" lang="en-US" sz="1200" spc="-1" strike="noStrike">
                <a:solidFill>
                  <a:srgbClr val="000000"/>
                </a:solidFill>
                <a:latin typeface="Arial"/>
              </a:rPr>
              <a:t>. At very high levels,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soning can be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based paint and lead-contaminated dust in older buildings are the 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ources of lead poisoning in children. Other sources of lead poi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contaminated air, water, soil, and some toys and cosme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may also affect brain function by interfering with neurotransmitter release and synapse 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may disrupt the functioning of mitochondria in the developing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mitochondria are important for energy production within a neuron, a change in their function may damage the cel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8399-CD88-471C-9428-8502F50B0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ce higher in low SES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lead neuropat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B81E-222A-4D46-BBB2-06A083C62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even at low concentrations, has the ability to increase the basal release of the neurotransmitters from the presynaptic nerve endings. This can occur both in the PNS and CNS. Micromolar concentrations of lead can cause the spontaneous release of dopamine, acetylcholine (ACh), and gama-aminobutyric acid (GABA). Control movement and emotional response are some of the brain processes that are affected by dopamine. An acetylcholine receptor has the responsibility for transducting nerve impulses to muscular contraction. GABA is an amino acid classified as a neurotransmitter. GABA is thought to play a role in the secretion of growth hormones according to some studies. Lead can also block the release of neurotransmitters when the action potential is taking place. This double effect of lead can have serious consequences on a developing nervous system. It can result in a decrease of pruning, what shapes the early brain, of an infant. The early brain, which has more synapses than an adult brain, is patterned according to the stimuli received during development. If there is an increase in neural activity, brought about by lead, the development process can be inhibited and have permanent effects on synaptic anatomy and function of the brain. It is believed that this is one of the causes of learning and behavioral problems that occur in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s and Contraindications: lead paint, dust from lead paint (kids putting things in their mouths), inhaling car battery fumes, inexpensive plastic mini-blinds, water coming from lead pi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more UMNL (plus more sensor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s: more LMNL (peripheral myelin and axons)</a:t>
            </a: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6889-4471-41E7-8AB8-2A75B595D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caused by head trauma or arteriosclerotic cerebrovascula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zures are often the first symptom of an intracranial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xia at birth can cause seizures during neonatal period</a:t>
            </a: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3341-91EB-458C-906F-74965ACFD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9008-2BF9-423C-8AEA-28149FECE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ing factors: stress, poor nutrition, missed med, skipping meals, flickering lights, illness, heat/hum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rome/early symptoms: headache, mood changes, lethargy, myoclonic je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rome = early sympt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zures are named by the lobe of on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Seizure secondarily generalized: develops from either a simple or complex partial seizure, generalized tonic-clonic seiz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5ACF-4421-454E-90D7-7D280AD64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A3072-B115-4726-8B45-C24A01688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5D0C3-9508-48D8-9BB5-C926B93B1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C5628-4A70-4250-A525-6BA75D0A6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B2223-D99E-4427-9782-CD24C8BBE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3C9AB-C62D-41D7-9C66-9112A52E3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79ED7-BE15-4F1D-A51D-83413DE38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F569C-6367-418C-9C3D-DA440E614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063EC-2863-4D43-84C9-549C115C3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D7E0E-0253-4BFD-8C61-C7F52F321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C54CE-BB17-49F8-AD49-5B7392E15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9782A-846B-41E6-B88F-ABFE66F12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18A9-EC23-4117-B37B-57A0A44ED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E35BE-D923-4CCA-9730-EAA0DA587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B0057-5FDA-4EE5-82FE-9702C1E64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A644F-E4AE-4F01-B8C9-BC02EAB68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2A6F5-C2E7-4B5B-BC5B-394355351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DBF12-B150-4C67-97BE-926C9EDE4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EF823D-6A5A-4E66-8F02-953C37735C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93DF8-A2B3-4BDC-BDEF-7E59CA685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6F209-E2B0-400D-B305-DC1B95057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21B36-DA47-4843-A690-56B95CCDD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B844DD-B406-413F-9F2A-FD26D66FB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3D6CC-E268-4BC2-AA33-C9F967B17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EC0B30-6047-45DB-A768-B551F51BA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B48B0-B392-43D9-91BF-BF668EC63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B1DCB-5980-4152-AC3B-6B51EDEB0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CA2FD-6810-48DF-A7CA-8CE0D3D12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02A66-6DDD-438F-9BD7-7BE965979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41E085-C847-4A16-9B9F-5441D8D405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5CA748-AA6D-43AE-889D-E172AD1768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52291-BF4F-4C33-932F-E4B8F926AE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9871D-1402-4D32-80F4-2AF62FE04B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36AD16-A6E4-4EDF-883B-909BB7BB5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0AA0C-31F2-4FF6-BBCE-3CA794686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DDEE6F-47A9-4227-A553-3D350DFF93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6CC16-F7FD-4C61-9151-E467E6D8B4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E2477-9AB1-47CB-8178-17A281226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3DC0C-01F9-4CC4-AA5A-595DE5B3D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56AD7-30E7-40A5-97A3-A6F4DA01A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1AA06-7652-467C-B306-D9FD08EE0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CF087-9327-494C-8E64-4A17B377F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9F84C1-8B75-4435-A155-E25C98139A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1EFE0A-285B-4C29-9C02-DAE6D2232A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80F1BE-6069-4D9E-A7ED-4F44306295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A17A-9937-4F0B-93AB-0F7EA0617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507997-8719-4C02-850F-E84023053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93D7A-7F5D-45A1-8571-D31CCBC728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A1398-E88C-4B1B-8260-880A675D57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9196A-CD6B-45C0-86A6-D4F7F60AC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4B9E5-3766-4A3B-B220-D0C7186810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DBB67D-65F2-4F19-BA9B-9B4B96206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75E32-FF6B-447C-AA49-FB9FB36D0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38D57-8DF4-41DC-A5CA-17C70CA142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1C86F4-1E80-4E6C-BB41-7D97201947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010440-908E-4E00-BF9E-C65998D671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C5B8B-4DA7-4816-B508-834F5C96A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9D0101-34D9-425A-B7F8-E7F3796C3F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56AE92-342F-4B89-AF45-5439577CC8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CB74F-AA8E-4492-89AA-630CFD6BE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694299-E36C-4B45-9562-72F76B7AC0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925FBB-51A6-4736-961E-BD64663453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24DFAE-4DEF-42CE-8A7C-5882E6D74F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7ED4E-2F98-4F24-A2B1-8B27C95E74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90AE3-7660-4BA7-8A0D-E889B9AD5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05F0C-7B00-45F3-B5B3-14F5FF697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66F9E-140F-4C7A-BFA8-9D9152A02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3DF90-D5E5-4CB4-B2C9-56D4226A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BE1680-51B6-42A0-8787-CEB7314A04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F6080E-7FC7-4BDA-B114-72AC4ACD32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2C9B63-4542-4D98-BA77-A4ABE0FAE5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98280B-924A-4449-8479-F94AD6E80E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1C8A36-00AE-439D-8B35-74C0B2DF96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0801F-0443-4BA5-AD30-B717998F0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2B2BB-BCA0-4B84-93B4-C7207E59DB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A1D487-8C88-47E6-A919-81C178EB8B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EDF26F-B2D0-43DD-997A-6AEA04ADEC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16821-D769-48FA-BAF0-82B92B63E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02521-BAE5-4F9B-BCF4-39764A1C4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AAA6F-5C21-4805-A284-C35EEC35B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8BF258-E8DE-4EBB-AAA9-F0A3C7856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D7E0C4-8B69-417C-BD04-6F839182AA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3157D1-329E-40F2-B2B6-392BEFDB7F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5468C1-E869-4CA3-9E8F-C87A25560B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5D9E25-881E-4D2C-8EF7-32ED85BE9E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B219A1-54A8-42EE-9B9F-FD2220668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5BCE46-1FB7-41DE-AE06-FFA6646AEA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1FE656-EE8D-4C57-9FE9-98A7DFCC8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5ECE21-6BC7-49DB-9A43-C3FB7CF3C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89200-D820-4E03-9712-2B81431AD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CEE53B-C6FC-49D5-AA11-F68D9ECEC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2DB7A8-55F4-4B6D-B591-61F201A67C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0CEE4-E4A1-4ECA-87CD-8AAFD7832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2C3277-3393-4342-8E19-81797C414C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2E61FC-6FBC-4212-A775-FE10C9476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712691-D9D6-4A8D-9A3A-4AD41341CB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F6D323-93A7-480D-B101-9D9E2269446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EFA1-6265-422A-A94C-C645C12A92C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EAA2-CCB7-4E57-B58F-FD64F6E31DB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BCEC-DDDF-4066-A55F-7B2A52B5EB56}"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5935-BEDE-4130-B496-CA1C31EDE00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D1D8-4A1F-4A9D-9357-859FAE28FCF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EC59-4AE0-4F39-89AE-3A542A3A703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3525-650B-48EB-9B70-FCE597834EF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BF2F-692E-4543-837B-2F81471D041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3733560"/>
            <a:ext cx="73152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Lead Poisoning and Seizures</a:t>
            </a:r>
            <a:endParaRPr b="0" lang="en-US" sz="40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ayna Ryan, PT, DP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Winter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560" y="587160"/>
            <a:ext cx="8001000" cy="192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imple Partial (focal seizur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Patients are conscious during seizure</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Unilateral hemispheric involvement,  from a distinct, focal area of cerebral cortex</a:t>
            </a:r>
            <a:endParaRPr b="0" lang="en-US" sz="2600" spc="-1" strike="noStrike">
              <a:solidFill>
                <a:srgbClr val="464653"/>
              </a:solidFill>
              <a:latin typeface="Gill Sans MT"/>
            </a:endParaRPr>
          </a:p>
        </p:txBody>
      </p:sp>
      <p:sp>
        <p:nvSpPr>
          <p:cNvPr id="380" name=""/>
          <p:cNvSpPr txBox="1"/>
          <p:nvPr/>
        </p:nvSpPr>
        <p:spPr>
          <a:xfrm>
            <a:off x="304560" y="2895480"/>
            <a:ext cx="3276360" cy="3657600"/>
          </a:xfrm>
          <a:prstGeom prst="rect">
            <a:avLst/>
          </a:prstGeom>
          <a:noFill/>
          <a:ln w="0">
            <a:noFill/>
          </a:ln>
        </p:spPr>
        <p:txBody>
          <a:bodyPr anchor="t">
            <a:normAutofit/>
          </a:bodyPr>
          <a:p>
            <a:pPr lvl="1" marL="547560" indent="-272880">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ymptoms could be motor, somatosensory, or visual, depending on the brain area involved.</a:t>
            </a:r>
            <a:endParaRPr b="0" lang="en-US" sz="2600" spc="-1" strike="noStrike">
              <a:solidFill>
                <a:srgbClr val="464653"/>
              </a:solidFill>
              <a:latin typeface="Gill Sans MT"/>
            </a:endParaRPr>
          </a:p>
        </p:txBody>
      </p:sp>
      <p:pic>
        <p:nvPicPr>
          <p:cNvPr id="381" name="Picture 5" descr=""/>
          <p:cNvPicPr/>
          <p:nvPr/>
        </p:nvPicPr>
        <p:blipFill>
          <a:blip r:embed="rId1"/>
          <a:stretch/>
        </p:blipFill>
        <p:spPr>
          <a:xfrm>
            <a:off x="3809880" y="2416320"/>
            <a:ext cx="5114880" cy="380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228240" y="228240"/>
            <a:ext cx="8915400" cy="19810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Complex Partial</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Altered or loss of consciousness</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Involve bilateral hemispheres, usually temporal lobes</a:t>
            </a:r>
            <a:endParaRPr b="0" lang="en-US" sz="26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
        <p:nvSpPr>
          <p:cNvPr id="383" name=""/>
          <p:cNvSpPr txBox="1"/>
          <p:nvPr/>
        </p:nvSpPr>
        <p:spPr>
          <a:xfrm>
            <a:off x="380880" y="2133720"/>
            <a:ext cx="2743200" cy="4525920"/>
          </a:xfrm>
          <a:prstGeom prst="rect">
            <a:avLst/>
          </a:prstGeom>
          <a:noFill/>
          <a:ln w="0">
            <a:noFill/>
          </a:ln>
        </p:spPr>
        <p:txBody>
          <a:bodyPr anchor="t">
            <a:normAutofit/>
          </a:bodyPr>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utomatic, involuntary, repetitive behavior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umsy movement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fused, mumbling, pulling clothing, head turns</a:t>
            </a:r>
            <a:endParaRPr b="0" lang="en-US" sz="2400" spc="-1" strike="noStrike">
              <a:solidFill>
                <a:srgbClr val="000000"/>
              </a:solidFill>
              <a:latin typeface="Gill Sans MT"/>
            </a:endParaRPr>
          </a:p>
        </p:txBody>
      </p:sp>
      <p:pic>
        <p:nvPicPr>
          <p:cNvPr id="384" name="Picture 5" descr=""/>
          <p:cNvPicPr/>
          <p:nvPr/>
        </p:nvPicPr>
        <p:blipFill>
          <a:blip r:embed="rId1"/>
          <a:stretch/>
        </p:blipFill>
        <p:spPr>
          <a:xfrm>
            <a:off x="3200400" y="2362320"/>
            <a:ext cx="5372280" cy="352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28240" y="198360"/>
            <a:ext cx="8534520" cy="4525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onic-Clonic (grand mal)</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udden loss of consciousness &amp; fall</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Tonic: generalized rigidity</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Clonic: very rapid generalized jerking movements</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Postictal: altered speech, weakness, disorientation, muscle soreness, HA</a:t>
            </a:r>
            <a:endParaRPr b="0" lang="en-US" sz="2600" spc="-1" strike="noStrike">
              <a:solidFill>
                <a:srgbClr val="464653"/>
              </a:solidFill>
              <a:latin typeface="Gill Sans MT"/>
            </a:endParaRPr>
          </a:p>
        </p:txBody>
      </p:sp>
      <p:pic>
        <p:nvPicPr>
          <p:cNvPr id="386" name="Picture 4" descr=""/>
          <p:cNvPicPr/>
          <p:nvPr/>
        </p:nvPicPr>
        <p:blipFill>
          <a:blip r:embed="rId1"/>
          <a:stretch/>
        </p:blipFill>
        <p:spPr>
          <a:xfrm>
            <a:off x="3733920" y="2695680"/>
            <a:ext cx="5029200" cy="370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152280" y="1219320"/>
            <a:ext cx="5105520" cy="4876560"/>
          </a:xfrm>
          <a:prstGeom prst="rect">
            <a:avLst/>
          </a:prstGeom>
          <a:noFill/>
          <a:ln w="0">
            <a:noFill/>
          </a:ln>
        </p:spPr>
        <p:txBody>
          <a:bodyPr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udden cessation of ongoing consciousness activity</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tares into space</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Only minor convulsive muscle activity or loss of postural control</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imple, brief, automatic</a:t>
            </a:r>
            <a:r>
              <a:rPr b="0" lang="en-US" sz="2600" spc="-1" strike="noStrike">
                <a:solidFill>
                  <a:srgbClr val="464653"/>
                </a:solidFill>
                <a:latin typeface="Gill Sans MT"/>
              </a:rPr>
              <a:t>	</a:t>
            </a:r>
            <a:r>
              <a:rPr b="0" lang="en-US" sz="2600" spc="-1" strike="noStrike">
                <a:solidFill>
                  <a:srgbClr val="464653"/>
                </a:solidFill>
                <a:latin typeface="Gill Sans MT"/>
              </a:rPr>
              <a:t> movements</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More common in children,  usually remit in adulthood</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
        <p:nvSpPr>
          <p:cNvPr id="388" name=""/>
          <p:cNvSpPr txBox="1"/>
          <p:nvPr/>
        </p:nvSpPr>
        <p:spPr>
          <a:xfrm>
            <a:off x="304560" y="304560"/>
            <a:ext cx="6933960" cy="1143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Absence Seizures (Petit Mal) </a:t>
            </a:r>
            <a:endParaRPr b="0" lang="en-US" sz="30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pic>
        <p:nvPicPr>
          <p:cNvPr id="389" name="Picture 5" descr=""/>
          <p:cNvPicPr/>
          <p:nvPr/>
        </p:nvPicPr>
        <p:blipFill>
          <a:blip r:embed="rId1"/>
          <a:stretch/>
        </p:blipFill>
        <p:spPr>
          <a:xfrm>
            <a:off x="5268960" y="1828800"/>
            <a:ext cx="36306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143000"/>
            <a:ext cx="8229600" cy="5410080"/>
          </a:xfrm>
          <a:prstGeom prst="rect">
            <a:avLst/>
          </a:prstGeom>
          <a:noFill/>
          <a:ln w="0">
            <a:noFill/>
          </a:ln>
        </p:spPr>
        <p:txBody>
          <a:bodyPr anchor="t">
            <a:normAutofit fontScale="93000"/>
          </a:bodyPr>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iagnosis</a:t>
            </a:r>
            <a:endParaRPr b="0" lang="en-US" sz="2600" spc="-1" strike="noStrike">
              <a:solidFill>
                <a:srgbClr val="000000"/>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History from patient &amp; observation from bystanders</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EEG</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Identify underlying diseases, rule out other causes</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53"/>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reatment</a:t>
            </a:r>
            <a:endParaRPr b="0" lang="en-US" sz="2600" spc="-1" strike="noStrike">
              <a:solidFill>
                <a:srgbClr val="000000"/>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Education</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Anticonvulsants (e.g. Gabapentin)</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Surgery</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Vagal nerve stimulation – sends inhibitory signals to cerebrum</a:t>
            </a:r>
            <a:endParaRPr b="0" lang="en-US" sz="2200" spc="-1" strike="noStrike">
              <a:solidFill>
                <a:srgbClr val="464653"/>
              </a:solidFill>
              <a:latin typeface="Gill Sans MT"/>
            </a:endParaRPr>
          </a:p>
          <a:p>
            <a:pPr lvl="1" marL="5090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53"/>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ognosis</a:t>
            </a:r>
            <a:endParaRPr b="0" lang="en-US" sz="2600" spc="-1" strike="noStrike">
              <a:solidFill>
                <a:srgbClr val="000000"/>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Increased mortality rates (due to underlying condition)</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Death from asphyxia (eating or swimming during a seizure)</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20 X risks of sudden death (cardiac arrhythmia, MI)</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Remission = 75% in idiopathic seizure diagnosed before age 10 </a:t>
            </a:r>
            <a:endParaRPr b="0" lang="en-US" sz="2200" spc="-1" strike="noStrike">
              <a:solidFill>
                <a:srgbClr val="464653"/>
              </a:solidFill>
              <a:latin typeface="Gill Sans MT"/>
            </a:endParaRPr>
          </a:p>
          <a:p>
            <a:pPr lvl="1" marL="5090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p:txBody>
      </p:sp>
      <p:sp>
        <p:nvSpPr>
          <p:cNvPr id="391" name="TextBox 1"/>
          <p:cNvSpPr/>
          <p:nvPr/>
        </p:nvSpPr>
        <p:spPr>
          <a:xfrm>
            <a:off x="1219320" y="304920"/>
            <a:ext cx="4419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pileps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0520" y="1180800"/>
            <a:ext cx="8153640" cy="514332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verview</a:t>
            </a:r>
            <a:endParaRPr b="0" lang="en-US" sz="24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53"/>
                </a:solidFill>
                <a:latin typeface="Gill Sans MT"/>
              </a:rPr>
              <a:t>Normal blood lead level is “0”</a:t>
            </a:r>
            <a:endParaRPr b="0" lang="en-US" sz="24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oxicity is not evident until blood lead levels build up over months or years</a:t>
            </a:r>
            <a:endParaRPr b="0" lang="en-US" sz="2400" spc="-1" strike="noStrike">
              <a:solidFill>
                <a:srgbClr val="464653"/>
              </a:solidFill>
              <a:latin typeface="Gill Sans MT"/>
            </a:endParaRPr>
          </a:p>
          <a:p>
            <a:pPr lvl="2" marL="756360" indent="-210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xic threshold is lower in children &amp; pregnant women</a:t>
            </a:r>
            <a:endParaRPr b="0" lang="en-US" sz="2400" spc="-1" strike="noStrike">
              <a:solidFill>
                <a:srgbClr val="000000"/>
              </a:solidFill>
              <a:latin typeface="Gill Sans MT"/>
            </a:endParaRPr>
          </a:p>
          <a:p>
            <a:pPr lvl="2" marL="756360" indent="-210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gh levels can be fatal</a:t>
            </a:r>
            <a:endParaRPr b="0" lang="en-US" sz="2400" spc="-1" strike="noStrike">
              <a:solidFill>
                <a:srgbClr val="000000"/>
              </a:solidFill>
              <a:latin typeface="Gill Sans MT"/>
            </a:endParaRPr>
          </a:p>
          <a:p>
            <a:pPr lvl="2" marL="756360" indent="-210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esion Site</a:t>
            </a:r>
            <a:endParaRPr b="0" lang="en-US" sz="24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CNS or PNS</a:t>
            </a:r>
            <a:endParaRPr b="0" lang="en-US" sz="24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n children:  brain (encephalopathy with scattered hemorrhages)</a:t>
            </a:r>
            <a:endParaRPr b="0" lang="en-US" sz="24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n adults: peripheral myelin or axon (peripheral neuropathy)</a:t>
            </a:r>
            <a:endParaRPr b="0" lang="en-US" sz="2400" spc="-1" strike="noStrike">
              <a:solidFill>
                <a:srgbClr val="464653"/>
              </a:solidFill>
              <a:latin typeface="Gill Sans MT"/>
            </a:endParaRPr>
          </a:p>
        </p:txBody>
      </p:sp>
      <p:sp>
        <p:nvSpPr>
          <p:cNvPr id="362" name="Rectangle 4"/>
          <p:cNvSpPr/>
          <p:nvPr/>
        </p:nvSpPr>
        <p:spPr>
          <a:xfrm>
            <a:off x="76212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64653"/>
                </a:solidFill>
                <a:latin typeface="Arial"/>
              </a:rPr>
              <a:t>Lead Poisoning </a:t>
            </a:r>
            <a:endParaRPr b="0" lang="en-US" sz="3800" spc="-1" strike="noStrike">
              <a:solidFill>
                <a:srgbClr val="000000"/>
              </a:solidFill>
              <a:latin typeface="Arial"/>
            </a:endParaRPr>
          </a:p>
        </p:txBody>
      </p:sp>
      <p:pic>
        <p:nvPicPr>
          <p:cNvPr id="363" name="Picture 5" descr=""/>
          <p:cNvPicPr/>
          <p:nvPr/>
        </p:nvPicPr>
        <p:blipFill>
          <a:blip r:embed="rId1"/>
          <a:stretch/>
        </p:blipFill>
        <p:spPr>
          <a:xfrm>
            <a:off x="7238880" y="304920"/>
            <a:ext cx="914400" cy="87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1142640"/>
            <a:ext cx="8229600" cy="5211720"/>
          </a:xfrm>
          <a:prstGeom prst="rect">
            <a:avLst/>
          </a:prstGeom>
          <a:noFill/>
          <a:ln w="0">
            <a:noFill/>
          </a:ln>
        </p:spPr>
        <p:txBody>
          <a:bodyPr anchor="t">
            <a:normAutofit fontScale="96000"/>
          </a:bodyPr>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Etiology</a:t>
            </a:r>
            <a:endParaRPr b="0" lang="en-US" sz="3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Gill Sans MT"/>
              </a:rPr>
              <a:t>In children: lead-based paint in old building (prior to 1978)</a:t>
            </a:r>
            <a:endParaRPr b="0" lang="en-US" sz="3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Gill Sans MT"/>
              </a:rPr>
              <a:t>Contaminated air, water, soil, toys, glazed dishware, imported canned food, cosmetics</a:t>
            </a:r>
            <a:endParaRPr b="0" lang="en-US" sz="3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Onset</a:t>
            </a:r>
            <a:endParaRPr b="0" lang="en-US" sz="3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464653"/>
                </a:solidFill>
                <a:uFillTx/>
                <a:latin typeface="Gill Sans MT"/>
              </a:rPr>
              <a:t>After months of exposure</a:t>
            </a:r>
            <a:r>
              <a:rPr b="0" lang="en-US" sz="3000" spc="-1" strike="noStrike">
                <a:solidFill>
                  <a:srgbClr val="464653"/>
                </a:solidFill>
                <a:latin typeface="Gill Sans MT"/>
              </a:rPr>
              <a:t> unless large amount</a:t>
            </a:r>
            <a:endParaRPr b="0" lang="en-US" sz="3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Gill Sans MT"/>
              </a:rPr>
              <a:t>Faster absorption with </a:t>
            </a:r>
            <a:r>
              <a:rPr b="0" lang="en-US" sz="3000" spc="-1" strike="noStrike" u="sng">
                <a:solidFill>
                  <a:srgbClr val="464653"/>
                </a:solidFill>
                <a:uFillTx/>
                <a:latin typeface="Gill Sans MT"/>
              </a:rPr>
              <a:t>inhalation </a:t>
            </a:r>
            <a:endParaRPr b="0" lang="en-US" sz="3000" spc="-1" strike="noStrike">
              <a:solidFill>
                <a:srgbClr val="464653"/>
              </a:solidFill>
              <a:latin typeface="Gill Sans MT"/>
            </a:endParaRPr>
          </a:p>
        </p:txBody>
      </p:sp>
      <p:sp>
        <p:nvSpPr>
          <p:cNvPr id="365" name="TextBox 1"/>
          <p:cNvSpPr/>
          <p:nvPr/>
        </p:nvSpPr>
        <p:spPr>
          <a:xfrm>
            <a:off x="990720" y="299880"/>
            <a:ext cx="7162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d Poiso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80880"/>
            <a:ext cx="8229600" cy="601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Signs &amp; Symptoms </a:t>
            </a:r>
            <a:endParaRPr b="0" lang="en-US" sz="3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uscle weakness that can progress to paralysi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ffect UEs more, cause wrist drop</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trophy of musc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rem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bnormal DTRs (CNS lesion ↑, PNS lesio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ronic exposure in children</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ental retardation, learning disabilities</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activity, behavior problems</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ss of appetite, vomiting, abdominal pai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Unusual paleness from anemia</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luggishness, fatigu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asciculations (twitch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0520" y="1142640"/>
            <a:ext cx="8610840" cy="5181480"/>
          </a:xfrm>
          <a:prstGeom prst="rect">
            <a:avLst/>
          </a:prstGeom>
          <a:noFill/>
          <a:ln w="0">
            <a:noFill/>
          </a:ln>
        </p:spPr>
        <p:txBody>
          <a:bodyPr anchor="t">
            <a:normAutofit/>
          </a:bodyPr>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agnosis</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Blood test</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lowed motor NCVs</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ibrillation potential on EMG </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gnosis depending on</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ength &amp; level of lead exposure</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ether myelin (initial exposure) or axon (prolonged exposure) is damaged</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reatments</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move the source!</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464653"/>
                </a:solidFill>
                <a:uFillTx/>
                <a:latin typeface="Gill Sans MT"/>
              </a:rPr>
              <a:t>Chelating agents</a:t>
            </a:r>
            <a:r>
              <a:rPr b="0" lang="en-US" sz="2300" spc="-1" strike="noStrike">
                <a:solidFill>
                  <a:srgbClr val="464653"/>
                </a:solidFill>
                <a:latin typeface="Gill Sans MT"/>
              </a:rPr>
              <a:t> to bind</a:t>
            </a:r>
            <a:r>
              <a:rPr b="1" lang="en-US" sz="2300" spc="-1" strike="noStrike">
                <a:solidFill>
                  <a:srgbClr val="464653"/>
                </a:solidFill>
                <a:latin typeface="Gill Sans MT"/>
              </a:rPr>
              <a:t> </a:t>
            </a:r>
            <a:r>
              <a:rPr b="0" lang="en-US" sz="2300" spc="-1" strike="noStrike">
                <a:solidFill>
                  <a:srgbClr val="464653"/>
                </a:solidFill>
                <a:latin typeface="Gill Sans MT"/>
              </a:rPr>
              <a:t>the lead so that it's excreted in the urine</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68" name="TextBox 4"/>
          <p:cNvSpPr/>
          <p:nvPr/>
        </p:nvSpPr>
        <p:spPr>
          <a:xfrm>
            <a:off x="533520" y="380880"/>
            <a:ext cx="6933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d Poiso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Epilepsy / Seizure</a:t>
            </a:r>
            <a:br>
              <a:rPr sz="3200"/>
            </a:br>
            <a:r>
              <a:rPr b="1" lang="en-US" sz="3200" spc="-1" strike="noStrike">
                <a:solidFill>
                  <a:srgbClr val="464653"/>
                </a:solidFill>
                <a:latin typeface="Bookman Old Style"/>
              </a:rPr>
              <a:t>“Electrical storm in the brain”</a:t>
            </a:r>
            <a:endParaRPr b="0" lang="en-US" sz="3200" spc="-1" strike="noStrike">
              <a:solidFill>
                <a:srgbClr val="464653"/>
              </a:solidFill>
              <a:latin typeface="Bookman Old Style"/>
            </a:endParaRPr>
          </a:p>
        </p:txBody>
      </p:sp>
      <p:sp>
        <p:nvSpPr>
          <p:cNvPr id="370" name=""/>
          <p:cNvSpPr txBox="1"/>
          <p:nvPr/>
        </p:nvSpPr>
        <p:spPr>
          <a:xfrm>
            <a:off x="457200" y="3276720"/>
            <a:ext cx="8229600" cy="3124080"/>
          </a:xfrm>
          <a:prstGeom prst="rect">
            <a:avLst/>
          </a:prstGeom>
          <a:noFill/>
          <a:ln w="0">
            <a:noFill/>
          </a:ln>
        </p:spPr>
        <p:txBody>
          <a:bodyPr anchor="t">
            <a:normAutofit fontScale="97000"/>
          </a:bodyPr>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Epilepsy </a:t>
            </a:r>
            <a:endParaRPr b="0" lang="en-US" sz="2600" spc="-1" strike="noStrike">
              <a:solidFill>
                <a:srgbClr val="000000"/>
              </a:solidFill>
              <a:latin typeface="Gill Sans MT"/>
            </a:endParaRPr>
          </a:p>
          <a:p>
            <a:pPr lvl="1" marL="531000" indent="-2646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464653"/>
                </a:solidFill>
                <a:uFillTx/>
                <a:latin typeface="Gill Sans MT"/>
              </a:rPr>
              <a:t>Chronic</a:t>
            </a:r>
            <a:r>
              <a:rPr b="0" lang="en-US" sz="2300" spc="-1" strike="noStrike">
                <a:solidFill>
                  <a:srgbClr val="464653"/>
                </a:solidFill>
                <a:latin typeface="Gill Sans MT"/>
              </a:rPr>
              <a:t> disorder characterized by </a:t>
            </a:r>
            <a:r>
              <a:rPr b="0" lang="en-US" sz="2300" spc="-1" strike="noStrike" u="sng">
                <a:solidFill>
                  <a:srgbClr val="464653"/>
                </a:solidFill>
                <a:uFillTx/>
                <a:latin typeface="Gill Sans MT"/>
              </a:rPr>
              <a:t>recurrent episodes of seizures </a:t>
            </a:r>
            <a:r>
              <a:rPr b="0" lang="en-US" sz="2300" spc="-1" strike="noStrike">
                <a:solidFill>
                  <a:srgbClr val="464653"/>
                </a:solidFill>
                <a:latin typeface="Gill Sans MT"/>
              </a:rPr>
              <a:t>due to excessive discharge of cerebral neurons</a:t>
            </a:r>
            <a:endParaRPr b="0" lang="en-US" sz="2300" spc="-1" strike="noStrike">
              <a:solidFill>
                <a:srgbClr val="464653"/>
              </a:solidFill>
              <a:latin typeface="Gill Sans MT"/>
            </a:endParaRPr>
          </a:p>
          <a:p>
            <a:pPr lvl="1" marL="5310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4653"/>
              </a:solidFill>
              <a:latin typeface="Gill Sans MT"/>
            </a:endParaRPr>
          </a:p>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eizure </a:t>
            </a:r>
            <a:endParaRPr b="0" lang="en-US" sz="2600" spc="-1" strike="noStrike">
              <a:solidFill>
                <a:srgbClr val="000000"/>
              </a:solidFill>
              <a:latin typeface="Gill Sans MT"/>
            </a:endParaRPr>
          </a:p>
          <a:p>
            <a:pPr lvl="1" marL="531000" indent="-2646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nvoluntary movement or convulsions</a:t>
            </a:r>
            <a:endParaRPr b="0" lang="en-US" sz="2300" spc="-1" strike="noStrike">
              <a:solidFill>
                <a:srgbClr val="464653"/>
              </a:solidFill>
              <a:latin typeface="Gill Sans MT"/>
            </a:endParaRPr>
          </a:p>
          <a:p>
            <a:pPr lvl="1" marL="531000" indent="-2646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ltered mental awareness</a:t>
            </a:r>
            <a:endParaRPr b="0" lang="en-US" sz="2300" spc="-1" strike="noStrike">
              <a:solidFill>
                <a:srgbClr val="464653"/>
              </a:solidFill>
              <a:latin typeface="Gill Sans MT"/>
            </a:endParaRPr>
          </a:p>
          <a:p>
            <a:pPr lvl="1" marL="531000" indent="-2646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ue to excessive electrical activity in the brain</a:t>
            </a:r>
            <a:endParaRPr b="0" lang="en-US" sz="2300" spc="-1" strike="noStrike">
              <a:solidFill>
                <a:srgbClr val="464653"/>
              </a:solidFill>
              <a:latin typeface="Gill Sans MT"/>
            </a:endParaRPr>
          </a:p>
        </p:txBody>
      </p:sp>
      <p:pic>
        <p:nvPicPr>
          <p:cNvPr id="371" name="Picture 5" descr=""/>
          <p:cNvPicPr/>
          <p:nvPr/>
        </p:nvPicPr>
        <p:blipFill>
          <a:blip r:embed="rId1"/>
          <a:stretch/>
        </p:blipFill>
        <p:spPr>
          <a:xfrm>
            <a:off x="3657600" y="129528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60" y="457200"/>
            <a:ext cx="5257800" cy="6400800"/>
          </a:xfrm>
          <a:prstGeom prst="rect">
            <a:avLst/>
          </a:prstGeom>
          <a:noFill/>
          <a:ln w="0">
            <a:noFill/>
          </a:ln>
        </p:spPr>
        <p:txBody>
          <a:bodyPr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Etiology</a:t>
            </a:r>
            <a:r>
              <a:rPr b="1" lang="en-US" sz="2600" spc="-1" strike="noStrike">
                <a:solidFill>
                  <a:srgbClr val="000000"/>
                </a:solidFill>
                <a:latin typeface="Gill Sans MT"/>
              </a:rPr>
              <a:t> </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Mostly idiopathic (unknown) </a:t>
            </a:r>
            <a:endParaRPr b="0" lang="en-US" sz="2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Genetic predisposition in 1% of cases</a:t>
            </a:r>
            <a:endParaRPr b="0" lang="en-US" sz="2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Any major disease or illness</a:t>
            </a:r>
            <a:endParaRPr b="0" lang="en-US" sz="26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 older adults age &gt; 50, CVA is # 1 cause</a:t>
            </a:r>
            <a:endParaRPr b="0" lang="en-US" sz="22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Chaotic excessive electrical discharge of large aggregates of neurons in the brain</a:t>
            </a:r>
            <a:endParaRPr b="0" lang="en-US" sz="2600" spc="-1" strike="noStrike">
              <a:solidFill>
                <a:srgbClr val="464653"/>
              </a:solidFill>
              <a:latin typeface="Gill Sans MT"/>
            </a:endParaRPr>
          </a:p>
        </p:txBody>
      </p:sp>
      <p:pic>
        <p:nvPicPr>
          <p:cNvPr id="373" name="Picture 4" descr=""/>
          <p:cNvPicPr/>
          <p:nvPr/>
        </p:nvPicPr>
        <p:blipFill>
          <a:blip r:embed="rId1"/>
          <a:stretch/>
        </p:blipFill>
        <p:spPr>
          <a:xfrm>
            <a:off x="5219640" y="457200"/>
            <a:ext cx="377208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60" y="2590560"/>
            <a:ext cx="5638680" cy="3840120"/>
          </a:xfrm>
          <a:prstGeom prst="rect">
            <a:avLst/>
          </a:prstGeom>
          <a:noFill/>
          <a:ln w="0">
            <a:noFill/>
          </a:ln>
        </p:spPr>
        <p:txBody>
          <a:bodyPr anchor="t">
            <a:normAutofit fontScale="98000"/>
          </a:bodyPr>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53"/>
                </a:solidFill>
                <a:latin typeface="Gill Sans MT"/>
              </a:rPr>
              <a:t>General Characteristics</a:t>
            </a:r>
            <a:endParaRPr b="0" lang="en-US" sz="26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nic: jaw fixed, hand clenched</a:t>
            </a:r>
            <a:endParaRPr b="0" lang="en-US" sz="26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onic: rhythmic jerky contractions &amp; relaxation, biting, froth on lips</a:t>
            </a:r>
            <a:endParaRPr b="0" lang="en-US" sz="26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on-convulsive: changes in behaviors</a:t>
            </a:r>
            <a:endParaRPr b="0" lang="en-US" sz="26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
          <p:cNvSpPr txBox="1"/>
          <p:nvPr/>
        </p:nvSpPr>
        <p:spPr>
          <a:xfrm>
            <a:off x="-360" y="990720"/>
            <a:ext cx="8839080" cy="2133360"/>
          </a:xfrm>
          <a:prstGeom prst="rect">
            <a:avLst/>
          </a:prstGeom>
          <a:noFill/>
          <a:ln w="0">
            <a:noFill/>
          </a:ln>
        </p:spPr>
        <p:txBody>
          <a:bodyPr anchor="t">
            <a:normAutofit/>
          </a:bodyPr>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53"/>
                </a:solidFill>
                <a:latin typeface="Gill Sans MT"/>
              </a:rPr>
              <a:t>Onset</a:t>
            </a:r>
            <a:endParaRPr b="0" lang="en-US" sz="26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stly occur unpredictably at any tim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ome are provok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6" name="Picture 5" descr=""/>
          <p:cNvPicPr/>
          <p:nvPr/>
        </p:nvPicPr>
        <p:blipFill>
          <a:blip r:embed="rId1"/>
          <a:stretch/>
        </p:blipFill>
        <p:spPr>
          <a:xfrm>
            <a:off x="5562720" y="2590920"/>
            <a:ext cx="312408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456840"/>
            <a:ext cx="4952880" cy="617220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assification of Seizure</a:t>
            </a:r>
            <a:endParaRPr b="0" lang="en-US" sz="32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541800" indent="-2700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Partial seizure</a:t>
            </a:r>
            <a:endParaRPr b="0" lang="en-US" sz="2600" spc="-1" strike="noStrike">
              <a:solidFill>
                <a:srgbClr val="464653"/>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mple partial</a:t>
            </a:r>
            <a:endParaRPr b="0" lang="en-US" sz="2600" spc="-1" strike="noStrike">
              <a:solidFill>
                <a:srgbClr val="000000"/>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mplex partial</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most common)</a:t>
            </a:r>
            <a:endParaRPr b="0" lang="en-US" sz="2600" spc="-1" strike="noStrike">
              <a:solidFill>
                <a:srgbClr val="000000"/>
              </a:solidFill>
              <a:latin typeface="Gill Sans MT"/>
            </a:endParaRPr>
          </a:p>
          <a:p>
            <a:pPr lvl="1" marL="541800" indent="-2700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Generalized seizure</a:t>
            </a:r>
            <a:endParaRPr b="0" lang="en-US" sz="2600" spc="-1" strike="noStrike">
              <a:solidFill>
                <a:srgbClr val="464653"/>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nic-Clonic</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i.e. Grand Mal)</a:t>
            </a:r>
            <a:endParaRPr b="0" lang="en-US" sz="2600" spc="-1" strike="noStrike">
              <a:solidFill>
                <a:srgbClr val="000000"/>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bsence</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i.e. petit mal)</a:t>
            </a:r>
            <a:endParaRPr b="0" lang="en-US" sz="2600" spc="-1" strike="noStrike">
              <a:solidFill>
                <a:srgbClr val="000000"/>
              </a:solidFill>
              <a:latin typeface="Gill Sans MT"/>
            </a:endParaRPr>
          </a:p>
          <a:p>
            <a:pPr lvl="2" marL="813960" indent="-226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st common type</a:t>
            </a:r>
            <a:endParaRPr b="0" lang="en-US" sz="2600" spc="-1" strike="noStrike">
              <a:solidFill>
                <a:srgbClr val="000000"/>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541800" indent="-2700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ometimes, simple or complex partial can develop into generalized tonic-clonic</a:t>
            </a:r>
            <a:endParaRPr b="0" lang="en-US" sz="2400" spc="-1" strike="noStrike">
              <a:solidFill>
                <a:srgbClr val="464653"/>
              </a:solidFill>
              <a:latin typeface="Gill Sans MT"/>
            </a:endParaRPr>
          </a:p>
        </p:txBody>
      </p:sp>
      <p:pic>
        <p:nvPicPr>
          <p:cNvPr id="378" name="Picture 4" descr=""/>
          <p:cNvPicPr/>
          <p:nvPr/>
        </p:nvPicPr>
        <p:blipFill>
          <a:blip r:embed="rId1"/>
          <a:stretch/>
        </p:blipFill>
        <p:spPr>
          <a:xfrm>
            <a:off x="4876920" y="1295280"/>
            <a:ext cx="405756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1:32:46Z</dcterms:created>
  <dc:creator>Min-Hui</dc:creator>
  <dc:description/>
  <dc:language>en-US</dc:language>
  <cp:lastModifiedBy>SWEET, CHRISTINA</cp:lastModifiedBy>
  <dcterms:modified xsi:type="dcterms:W3CDTF">2012-03-06T23:46:58Z</dcterms:modified>
  <cp:revision>9</cp:revision>
  <dc:subject/>
  <dc:title>Slide 1</dc:title>
</cp:coreProperties>
</file>