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0585-86A6-4281-95C9-47BD0CC92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eath happens quickly – within a few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1E5B-DA28-4FD4-B140-97C93253A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acerebral = so in actual brain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den onset of symptoms, typically get a severe head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C085-FBEF-4835-9D33-A59A63A93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paces in the skull fill up, puts pressure on and compresses other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A06E-1C6F-4EC6-AA70-9DC85AB33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360F-FD31-4300-9ACD-2D06D4D2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otid artery = supplies blood to the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ow above points to narrowing where blockage can occ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DB7C-777C-4199-A83C-298EB0628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CA = most common stroke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A933-8241-44B7-91B1-09A94AD0C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MCA supplies the internal capsule, damage to that will result in losses in both the UEs and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F0CF-196C-4C83-882E-7446FB3FB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homun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optic radiations – will affect transmission of optic info to the cerebellum and optic l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Broca’s and Wernicke’s areas – will have problems with expressive and receptive aph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6322-5817-43E9-AAE0-394C4EC97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s affected more because on lateral portion of homunculus, but does affect some legs because axons to the legs go through the internal caps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raxia = inability to do motor plan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onymous hemianopsia = can only see contralateral visual field for each ey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ecause of innervation to optic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perception processing in the right hemisphere so lesions here will cause unilateral negl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7A74-4E84-4690-A53A-75FF33983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ce increased with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 higher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nked to DM and sickl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 involved in decision of how long patient stays in hospital—can they handle inpatient (3 hours/day) or need subacut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A622-24D0-4CE1-AF43-FB1657323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 CVA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eft-sided loss of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CVA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ight-sided loss of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8C4E-D034-4D15-9754-7E62C3412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everation = do the same thing or say the same words repeated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rontal lobe involvement than with MCA strokes (motivation, decision-ma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atient’s are happy to just 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D2C8-7F17-497F-B0CD-22C999303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ographical disorientation = no “mental mapping ability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8E43-2A24-418E-8BA3-0029F9F79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kes are not common in these locations – usually from substance abuse= poor prognos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3CBF-F7B4-4ADF-A104-BBD219A8E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cerebellar signs/symptoms are preva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ACCF-BD2C-42C2-8B01-6661FC9CA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lar Artery CVA = BRAIN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’s are quadriplegic because that is where everything comes together and cr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ked In” = patient has cognitive function still but cannot do/say anything (a.k.a. Wallenberg Syndro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3E7F-B468-4671-9257-ED214E5A7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A = transient ischemic attack or “ministroke” – resolves within 24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men have strokes but more women DIE from stro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D8C7-5DE8-4223-AF71-2FD192923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CVA: aphasia lik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CVA: impulsivity lik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tional apraxia = the inability to formulate an initial motor plan and sequence tasks where the proprioceptive input necessary for movement is impaired, Can not come up with a pl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omotor apraxia = a condition where a person plans a movement or task but cannot volitionally perform it, but automatic movement may occur; cannot impose additional movement upon comm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ysphagia = slurred spee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towards intake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2A39-14FC-4647-B93F-33A432873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9CB2-01FD-4012-88B3-CE889FB1F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ionation: ability to move a joint without simultaneously moving other joints (synerg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1FAF-0679-4629-A8B7-396B62AEA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o-rooter of the artery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risk of dislodged clot may be worth it if already had a stroke…fairly high-risk surgery thou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0CA5-7FF2-4D1E-8567-D2A3A796F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decrease the amount of damage if can get patient to the hospital i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in people with an ISCHEMIC stroke—damage is already done with hemorrhagic stro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C09D-EB45-4F53-B40E-7DE33F9F5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47B6-308C-4368-B493-288D5817F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on anti-coagulents so don’t have another strok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hemorrhagic strokes end up needing surg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to decrease ICP so don’t get compression damage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2C64-27C1-440C-B566-D9BC0D14C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ou as a PT needs to advocate for this for your patients, positive reinforc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= born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I= behavioral brought on, can 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9E2C-AEF9-407E-B974-7EBBDBEDA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ose bladder control, at least start with an indwelling cath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12C2-1CDE-4AEF-93E2-9EE2BEFA8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2376-F186-4810-BD7A-D8671A0DA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EDA4-FF54-4158-95C6-75C5B93FA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people to recognize a str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3762-D4BF-4AE6-B272-F6D1C4CE5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chemia = lack of blood (so O2) to an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BC0D-99FC-49AA-B78B-054687CAA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982-8CFA-4C75-A641-744EC184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31E-6A6D-46CD-B6B7-3A5C845E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CBD-2060-4283-888A-922D79C0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214-1671-46DA-A87B-4682FEF1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2FBB-294C-477E-B87A-F7CAF21F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3D62-5D37-495E-AEE6-FC72B342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3ECB-F856-48E9-B28F-65EDF0E3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DA99-AF6C-4E38-ACE2-F4A99019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0CAF-9C09-4813-8235-807E32A8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9CF9-B210-47A4-A4DE-C4DE08F5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04A0-11EC-4C63-9F94-B8EBA73B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817-0630-426C-9D08-3A6E9D76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FF33-ACFD-47E3-AFFE-F099E68E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963E-3AD4-4956-A760-351C973D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B382-B882-4F67-84F1-1C621B7B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24BE-5D29-488A-A2E5-7000298D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5D1C-03BB-4E43-8AF3-1A64F1B3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1DDC4-F3AA-410D-A5DE-C1679868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55104-965D-4574-B8F1-C1D205F7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DD1C2-C83C-4A39-B091-DB2F2DF4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ACB08-2317-48E0-BD8F-F6DCB821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D121D-9C79-4819-A8F2-EAE87DFC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3F5-824F-491A-880A-C65C6D62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940E2-EA23-4A99-A0B2-E420530A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7E04E-2577-4C3B-A1A8-29FD7123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9D30B-C5E9-41F1-A678-D17D60A7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F0B2C-3EA7-423B-9DD0-FDD89FFA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ADA8F-3683-45C4-8C0F-02DA1FDB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DA6C7-ADD3-4B08-B755-73A5EDBB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2C449-E5B9-4237-851D-834C6ADF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1FCBA-1CC0-447F-869F-A95C9743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D44DC-9083-4BE7-AFBA-5119915A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48F10-4CB9-4447-B86F-3B0B1C71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2B3-1583-44F3-B5E9-0DE393DC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5F3C2-A653-42CB-AFB9-60E2A0CE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42368-3C61-4BB6-AD5D-C09B6B27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CFB88-5AAC-45BE-BF73-75664A93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8AC11-1BEF-4548-BAF9-4BAB71BA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95531-1D72-42EA-AAFA-81270896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50B9D-5856-4DAA-A3ED-3108DB3A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3B7A4-10CB-4C3C-9D7F-F214D167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D2B76-B11D-4115-8599-763B07EF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E63B7-033A-4DFC-BAAB-AA98A609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47C-8C53-4CE0-8D38-65EDB143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833-E9CA-41AA-817C-B7EB8309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EDB-2B95-4077-9E3D-27E58ED9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4C3-44A1-4374-B46D-B0B0568F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C77-1605-45CA-A661-716DFD38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2A0A-C32A-4330-B6AD-05F964C90D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EB47-0116-4717-B80A-2C7815645E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1C66-9DA0-44B7-B7EE-3F73AB81B5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22E5-703C-44E0-9EA0-43DA6DC975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rokecenter.org/pat/viewer/ais/ais_coronal_clot_50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trokecenter.org/pat/viewer/ich/ich_coronal_edema_2_50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trokecenter.org/pat/viewer/sah/sah_coronal_berry_2_500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iveme5forstroke.org/home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trokeassociation.org/presenter.jhtml?identifier=3018827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19047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erebrovascular Accident (Stroke)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Dayna Ryan, PT, DP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Winter 201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 of CVA: Ischemic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240" y="1219320"/>
            <a:ext cx="4267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st often caused by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atherosclerosis,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 gradual cholesterol depos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other cause is blood clots in the heart, which can occur as a result of irregular heartbeat (for example,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atrial fibrillation)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heart attack, or abnormalities of the heart valv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the artery remains blocked for more than a few minutes, the brain cells may die – why immediate medical treatment is absolutely critical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&gt;&gt; click for a larger 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523880"/>
            <a:ext cx="40384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 of CVA: Hemorrhag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1920" y="1371600"/>
            <a:ext cx="4343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7% of all strok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ults from a weakened vessel that ruptures and bleeds into the surrounding br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Blood accumulates and compresses the surrounding brain tissue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o typ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Intracerebral hemorrhage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Subarachnoid hemorrhage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47960" y="14475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akened blood vessels from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Aneurysm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Arteriovenous malformations (AVMs).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neurys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Ballooning of a weakened region of a blood vessel.  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rteriovenous malformat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(AVM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a cluster of abnormally formed blood vessels. Any one of these vessels can rupture, also causing bleeding into the brain.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2" descr="http://z.about.com/d/stroke/1/8/H/-/-/-/hemicrani.jpg"/>
          <p:cNvPicPr/>
          <p:nvPr/>
        </p:nvPicPr>
        <p:blipFill>
          <a:blip r:embed="rId1"/>
          <a:stretch/>
        </p:blipFill>
        <p:spPr>
          <a:xfrm>
            <a:off x="1600200" y="4579920"/>
            <a:ext cx="327672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 of CVA: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Intracerebral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Hemorrhag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23920" y="1828440"/>
            <a:ext cx="4038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cause of intracerebral hemorrhage is high blood pressure (hypertensio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amount of blood increases rapidly, the sudden buildup in pressure can lead to unconsciousness or deat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occurs in selected parts of the brain, includ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sal ganglia, cerebellum, brainstem, or cortex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4" descr="&gt;&gt; click for a larger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790640"/>
            <a:ext cx="3102120" cy="29545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9"/>
          <p:cNvSpPr/>
          <p:nvPr/>
        </p:nvSpPr>
        <p:spPr>
          <a:xfrm>
            <a:off x="228600" y="5029200"/>
            <a:ext cx="44956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rebral hemorrhage occurs when a diseased blood vessel within the brain bursts, allowing blood to leak inside 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 of CVA: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Subarachnoid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Hemorrhag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438800" y="17208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rea of the skull surrounding the brain (the subarachnoid space) rapidly fills with blood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atient with  subarachnoid hemorrhage may have a sudden, intense headache, neck pain, and nausea or vomiting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udden buildup of pressure outside the brain may also cause rapid loss of consciousnes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ost often caused by abnormalities of the arteries at the base of the brain, called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cerebral aneurysms.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Picture 2" descr="&gt;&gt; click for a larger 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828800"/>
            <a:ext cx="3505320" cy="32623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609480" y="548640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when a blood vessel ju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rain rup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atershed Strok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as receive their blood supply from the farthest-end branches of two adjacent vascular territories and require adequate blood pressure to ensure that enough blood is pumped into them at all tim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d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ck of blood prof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se areas of the brain due to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Arial"/>
              </a:rPr>
              <a:t>Congestive heart failure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Arial"/>
              </a:rPr>
              <a:t>Atherosclerosi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Arial"/>
              </a:rPr>
              <a:t>Hypotension (shock)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tershed stroke in the region of overlapped distribution betwe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terior cerebral art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ddle cerebral art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ically presents with </a:t>
            </a:r>
            <a:r>
              <a:rPr b="0" lang="en-US" sz="2400" spc="-1" strike="noStrike">
                <a:solidFill>
                  <a:srgbClr val="67afbd"/>
                </a:solidFill>
                <a:latin typeface="Arial"/>
              </a:rPr>
              <a:t>weakness of proximal arm and leg mus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reservation of distal strengt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Arial"/>
              </a:rPr>
              <a:t>colloquially, the "man in a barrel" presentation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8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arotid Angiogra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s is an angiogram of the right carotid artery showing a severe narrowing (stenosis) of the internal carotid artery just past the carotid fork. There is enlargement of the artery or ulceration in the area after the stenosis in this close-up film. Note the narrowed segment toward the bottom of the picture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3" name="Picture 2" descr="Carotid stenosis, X-ray of the right artery"/>
          <p:cNvPicPr/>
          <p:nvPr/>
        </p:nvPicPr>
        <p:blipFill>
          <a:blip r:embed="rId1"/>
          <a:stretch/>
        </p:blipFill>
        <p:spPr>
          <a:xfrm>
            <a:off x="692280" y="1295280"/>
            <a:ext cx="384156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iddle Cerebral Arte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5" name="Picture 2" descr="Stroke"/>
          <p:cNvPicPr/>
          <p:nvPr/>
        </p:nvPicPr>
        <p:blipFill>
          <a:blip r:embed="rId1"/>
          <a:stretch/>
        </p:blipFill>
        <p:spPr>
          <a:xfrm>
            <a:off x="228600" y="1828800"/>
            <a:ext cx="4114800" cy="3292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Plaque buildup in arteries"/>
          <p:cNvPicPr/>
          <p:nvPr/>
        </p:nvPicPr>
        <p:blipFill>
          <a:blip r:embed="rId2"/>
          <a:stretch/>
        </p:blipFill>
        <p:spPr>
          <a:xfrm>
            <a:off x="4648320" y="220968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iddle Cerebral Arte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85640"/>
            <a:ext cx="40384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pplies internal capsule and basal gangl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lood clot may block the passage of blood through a brain artery, depriving nearby tissue of oxygen and nutrie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results in a strok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Picture 2" descr="Part 4"/>
          <p:cNvPicPr/>
          <p:nvPr/>
        </p:nvPicPr>
        <p:blipFill>
          <a:blip r:embed="rId1"/>
          <a:stretch/>
        </p:blipFill>
        <p:spPr>
          <a:xfrm>
            <a:off x="4648320" y="1981080"/>
            <a:ext cx="4190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iddle Cerebral Arte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sions can affect the optic radi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6840" y="2908440"/>
            <a:ext cx="88185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iddle Cerebral Artery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alateral hemiparesis, arm &gt; le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alateral sensory impair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pressive (can’t speak it though they know what they want to say) or receptive aphasia (rabbling, can’t understand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prax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monymous hemianopsia (contralateral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rceptual deficits if right lesion, e.g. unilateral neglec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VA/Stroke Epidemiolog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Population Statistics for 2006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18-44……………………..0.5%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45-64……………………..2.4%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65-74……………………..7.6%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75 +………………………11.2%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x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Male ......................2.9% 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Female...................2.3%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495320" y="156996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a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White...............................2.4%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Black/African American….4.6%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American Indian/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Alaska Native....................2.6% 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Asian............................... 1.8%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verage length of stay in acute care hospital in 2006 = 4.9 day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pressive Aphas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380880" y="868320"/>
            <a:ext cx="863784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onymous </a:t>
            </a:r>
            <a:br>
              <a:rPr sz="4000"/>
            </a:b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emianops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0" name="Picture 2" descr="http://www.dwp.gov.uk/img/visual-stroke.jpg"/>
          <p:cNvPicPr/>
          <p:nvPr/>
        </p:nvPicPr>
        <p:blipFill>
          <a:blip r:embed="rId1"/>
          <a:stretch/>
        </p:blipFill>
        <p:spPr>
          <a:xfrm>
            <a:off x="522360" y="1981080"/>
            <a:ext cx="8099280" cy="466884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Two pictures with swimming ducks, but left side of each picture is black"/>
          <p:cNvPicPr/>
          <p:nvPr/>
        </p:nvPicPr>
        <p:blipFill>
          <a:blip r:embed="rId2"/>
          <a:stretch/>
        </p:blipFill>
        <p:spPr>
          <a:xfrm>
            <a:off x="4545000" y="372960"/>
            <a:ext cx="40384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95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nterior Cerebral Artery (medial view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2535480" y="3244680"/>
            <a:ext cx="40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trokecenter.org/pat/ai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76756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terior Cerebral Artery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alateral hemiparesis affecting leg &gt;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alateral sensory impairment affecting leg &gt;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ss of bowel/bladder contro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prax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4832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ntal impairment with perseveration, confusion, amnes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creased motiv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tor ina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osterior Cerebral Artery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(Inferior and Medial Views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756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osterior Cerebral Artery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aleral homonymous hemianop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yslex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mory defici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pographical disorient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anial nerve III palsy (oculomotor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alateral hemipares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alamic syndro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409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=Sensory impairment in all modalitie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40968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ain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40968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aresthesia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ain and temperature sensory loss (spinalthalamic)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taxia, athetosis, or choreiform movement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Visual agnosia=inability to different objects visual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360" y="658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asilar Artery and Vertebral Arte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1371600" y="1706400"/>
            <a:ext cx="65530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ertebral Artery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tax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ertig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ause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omi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ystagmu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mpaired pain and temperature sensation in ipsilateral fa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rner’s Syndrome (sympathetic dysfunction causing ptosis (eye dropping)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ysphag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nsory impairment in contralateral arm, trunk, and le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asilar Artery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adripleg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cked in” syndrom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Intact consciousnes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No motor ability other than eye blinks to respon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ilateral cerebellar atax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alamic pain syndro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plopia or other visual field deficits including blind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acunar Strok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used by occlusion of a small branch of the larger arte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nd to be located deeper in the brain because there are more smaller arterial branches the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ymptoms depend on lo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659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VA Risk Factors that </a:t>
            </a: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annot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Be Changed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g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Risk approximately doubles for each decade of life after age 55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Heredity (family history) and rac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Your stroke risk is greater if a parent, grandparent, sister or brother has had a stroke. 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frican Americans have a much higher risk of death from a stroke than Caucasians do.  This is partly because blacks have higher risks of high blood pressure, diabetes and obesity.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ex (gender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troke is more common in men than in women. 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t all ages, more women than men die of stroke.  Use of birth control pills and pregnancy pose special stroke risks for women.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Prior stroke, TIA or heart attack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 person who's had one or more TIAs (mini-stroke) is almost 10 times more likely to have a stroke than someone of the same age and sex who hasn't. 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If you've had a heart attack, you're at higher risk of having a stroke, too. 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ical Impairments with Lacunar Infarc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2286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ralateral weak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nsory loss (specifics depend on locatio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ax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ysarthr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te of lesions: internal capsule, thalamus, basal ganglia, and p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haracteristics of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akness/paralysis on the left sid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attention sp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eft hemianops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awareness/judgm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emory defici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mpulsive behavio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spatial orientation and abstract  reason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otional labil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48320" y="18284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EF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akness/paralysis on the right sid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creased frustr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processing/sequenc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phasia (expressive, receptive, globa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ysphag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deomotor or ideational aprax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discrimination between right and lef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ight hemianops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haracteristics of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RAINSTE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nstable vital sig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conscious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ability to swallow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akness on both sides of the bod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ralysis on both sides of the bod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EREBELLU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balan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tax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coordin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ause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reased ability for postural adjustm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ystagmu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VA Signs/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8284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nsory: contralateral defici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ypotonia with cerebral shock followed by hypertonia (spasticity and clonu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 Babinski if motor tracts affect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ntralateral paresi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praxi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creased muscle endurance (because decreased motor unit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creased reaction tim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creased ability to fractionate move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eventive Ca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ain attack campaig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cing stent in carotid artery if plaque build-up is pres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otid endarterectom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         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arotid Endarterectom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48320" y="1886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darterectomy is a surgical procedure removing plaque material from the lining of an artery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isk of stroke if blood clot dislodge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rgeons have varying success rates – check their recor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0" name="Picture 2" descr="Endarterectomy"/>
          <p:cNvPicPr/>
          <p:nvPr/>
        </p:nvPicPr>
        <p:blipFill>
          <a:blip r:embed="rId1"/>
          <a:stretch/>
        </p:blipFill>
        <p:spPr>
          <a:xfrm>
            <a:off x="380880" y="223992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mergency Ca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combinant tissue plasminogen activator (RT-PA) to dissolve blood clo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ust be administered within 3 hours of blockag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reatment is 30% effective in helping people recover from strok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756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eventive and Emergency Ca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19080" y="1562040"/>
            <a:ext cx="876312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dical Care of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schemic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lcium channel antagoni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ticoagulation therap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P regul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olesterol medic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483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emorrhagic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rgical evacuation of bloo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dication to decrease intracranial press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rgical repair of aneurysm or arteriovenous malformation (if not repairing themselv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vement Symptoms Associated with CV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8288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creased force produ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nsory impair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normal synerg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tered temporal sequencing of muscle contra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aired regulation of muscle for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layed response ti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normal muscle to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ss of range of mo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tered biomechanical alignment, e.g. scapul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VA Risk Factors that </a:t>
            </a: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an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Be Changed, Treated, or Controlled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High blood pressur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Cigarette smok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nicotine and carbon monoxide in cigarette smoke damage the cardiovascular system in many way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use of oral contraceptives combined with cigarette smoking greatly increases stroke risk.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Diabetes mellitu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While diabetes is treatable, the presence of the disease still increases your risk of stroke.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Carotid or other artery disease 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The carotid arteries in your neck supply blood to your brain.  A carotid artery narrowed by fatty deposits from atherosclerosis (plaque buildups in artery walls) may become blocked by a blood clot. </a:t>
            </a:r>
            <a:r>
              <a:rPr b="1" lang="en-US" sz="2000" spc="-1" strike="noStrike">
                <a:solidFill>
                  <a:srgbClr val="438086"/>
                </a:solidFill>
                <a:latin typeface="Georgia"/>
              </a:rPr>
              <a:t> Peripheral artery disease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 is the narrowing of blood vessels carrying blood to leg and arm muscles. It's caused by fatty buildups of plaque in artery walls.  People with peripheral artery disease have a higher risk of carotid artery disease, which raises their risk of stroke.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reatment of 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astic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aclofe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tox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the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ti-depressa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VA Risk Factors that </a:t>
            </a: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an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Be Changed, Treated, or Controlled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810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trial fibrilla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e heart's upper chambers quiver instead of beating effectively, which can let the blood pool and clot.  If a clot breaks off, enters the bloodstream and lodges in an artery leading to the brain, a stroke results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ther heart diseas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ilated cardiomyopathy (an enlarged heart), heart valve disease and some types of congenital heart defects also raise the risk of stroke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VA Risk Factors that </a:t>
            </a: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an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Be Changed, Treated, or Controlled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ickle cell diseas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also called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ickle cell anemi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 —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This is a genetic disorder that mainly affects African-American and Hispanic children. 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Sickled cells (poor O2 absorption)  tend to stick to blood vessel walls, which can block arteries to the brain and cause a stroke. 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High blood cholesterol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Also, it appears that low HDL (“good”) cholesterol  is a risk factor for stroke in men, but more data are needed to verify its effect in women. 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VA Risk Factors that </a:t>
            </a: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an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Be Changed, Treated, or Controlled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057400"/>
            <a:ext cx="822960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oor diet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iets high in saturated fat, trans fat and cholesterol can raise blood cholesterol levels.  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iets high in sodium (salt) can contribute to increased blood pressure.  (salt attracts water into blood, so increase blood volume)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iets with excess calories can contribute to obesity. 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iet containing five or more servings of fruits and vegetables per day may reduce the risk of stroke.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hysical inactivity and obesity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—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Being inactive, obese or both can increase your risk of high blood pressure, high blood cholesterol, diabetes, heart disease and stroke.    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Try to get a total of at least 30 minutes of activity on most or all days.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777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“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ive Me 5” Campaig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onsored by American Academy of Neurology, the American College of Emergency Physicians and the American Heart Association/American Stroke Associ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any of these are positive, call 9-1-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4" descr="http://www.giveme5forstroke.org/images/transnw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-662040"/>
            <a:ext cx="1571760" cy="1381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The Give Me 5"/>
          <p:cNvPicPr/>
          <p:nvPr/>
        </p:nvPicPr>
        <p:blipFill>
          <a:blip r:embed="rId3"/>
          <a:stretch/>
        </p:blipFill>
        <p:spPr>
          <a:xfrm>
            <a:off x="762120" y="3849840"/>
            <a:ext cx="781344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 of CVA: Ischem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83% of all strok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rom atheroscleros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o typ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Cerebral </a:t>
            </a:r>
            <a:r>
              <a:rPr b="0" lang="en-US" sz="2000" spc="-1" strike="noStrike">
                <a:solidFill>
                  <a:srgbClr val="502652"/>
                </a:solidFill>
                <a:latin typeface="Georgia"/>
              </a:rPr>
              <a:t>thrombus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 (blood vessel clogs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Cerebral </a:t>
            </a:r>
            <a:r>
              <a:rPr b="0" lang="en-US" sz="2000" spc="-1" strike="noStrike">
                <a:solidFill>
                  <a:srgbClr val="502652"/>
                </a:solidFill>
                <a:latin typeface="Georgia"/>
              </a:rPr>
              <a:t>embolism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 (clot from heart, upper body, or neck dislodges and move to brain to clog artery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42" name="Picture 2" descr="http://www.strokeassociation.org/images/ImagePicker/17432-strok-pre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362320"/>
            <a:ext cx="440064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2:48:22Z</dcterms:created>
  <dc:creator>Dayna</dc:creator>
  <dc:description/>
  <dc:language>en-US</dc:language>
  <cp:lastModifiedBy>SWEET, CHRISTINA</cp:lastModifiedBy>
  <dcterms:modified xsi:type="dcterms:W3CDTF">2012-03-27T18:42:28Z</dcterms:modified>
  <cp:revision>86</cp:revision>
  <dc:subject/>
  <dc:title>Cerebrovascular Accident (Stroke)</dc:title>
</cp:coreProperties>
</file>