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notesSlide3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1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EF0A-D09B-40C8-AE3A-8AA66358D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 death happens quickly – within a few minu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37CE-09D9-4AAF-8D0A-F205B5694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acerebral = so in actual brain tiss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dden onset of symptoms, typically get a severe headac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D3A2-83F5-4DCF-8976-0AB563190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spaces in the skull fill up, puts pressure on and compresses other tiss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39B7-3D67-4BF7-836C-7C737C578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62AB-9EA4-44FB-B99E-76F37B400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otid artery = supplies blood to the b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ow above points to narrowing where blockage can occ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8896-3371-4A68-87E5-F80EC9477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CA = most common stroke lo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D247-E798-45A4-8B5D-3A540B46E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the MCA supplies the internal capsule, damage to that will result in losses in both the UEs and 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3C04-4149-4FB5-AD9A-38ACE0334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homuncu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optic radiations – will affect transmission of optic info to the cerebellum and optic l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Broca’s and Wernicke’s areas – will have problems with expressive and receptive aphas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B84E-3329-4DD3-9E65-A40F359A8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ms affected more because on lateral portion of homunculus, but does affect some legs because axons to the legs go through the internal caps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raxia = inability to do motor plan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onymous hemianopsia = can only see contralateral visual field for each ey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because of innervation to optic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ts of perception processing in the right hemisphere so lesions here will cause unilateral negl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FEC7-D5AA-4161-BE14-08A1C2D51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idence increased with 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A higher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linked to DM and sickle 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T involved in decision of how long patient stays in hospital—can they handle inpatient (3 hours/day) or need subacut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0912-7E20-455D-99A0-ED8AB2F26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 CVA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left-sided loss of 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 CVA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right-sided loss of 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D5BF-2E88-4BC2-9AF2-BA07218C7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severation = do the same thing or say the same words repeated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frontal lobe involvement than with MCA strokes (motivation, decision-mak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patient’s are happy to just s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C27E-8D62-4A5F-8BC9-642D68141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ographical disorientation = no “mental mapping ability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9523-C232-4E72-8374-179ABC99D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kes are not common in these locations – usually from substance abuse= poor prognosi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85B9-EE72-4855-A0B5-5CFF9E63A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cerebellar signs/symptoms are preval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E9D7-DCCA-422C-88D0-4133EDEBE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lar Artery CVA = BRAIN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ient’s are quadriplegic because that is where everything comes together and cr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ked In” = patient has cognitive function still but cannot do/say anything (a.k.a. Wallenberg Syndro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E741-D052-43D6-A10C-3523A7A1E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A = transient ischemic attack or “ministroke” – resolves within 24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men have strokes but more women DIE from strok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072A-6E5E-4D20-99F9-4976AFA0B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CVA: aphasia like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CVA: impulsivity like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ational apraxia = the inability to formulate an initial motor plan and sequence tasks where the proprioceptive input necessary for movement is impaired, Can not come up with a pl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omotor apraxia = a condition where a person plans a movement or task but cannot volitionally perform it, but automatic movement may occur; cannot impose additional movement upon comm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ysphagia = slurred spee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towards intake si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433D-F819-4AA1-B34D-3373FA916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FC73-7312-453A-B51F-D10E8F94C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ctionation: ability to move a joint without simultaneously moving other joints (synergi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FF07-1291-4410-80E9-9A677552B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to-rooter of the artery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risk of dislodged clot may be worth it if already had a stroke…fairly high-risk surgery thoug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ECA3-6674-4423-A8B9-2CDA4051B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decrease the amount of damage if can get patient to the hospital in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in people with an ISCHEMIC stroke—damage is already done with hemorrhagic strok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AFFF-371D-4C5A-9A28-687EF7308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E0BB-00F9-431C-9A29-7859E132D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on anti-coagulents so don’t have another strok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hemorrhagic strokes end up needing surg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nt to decrease ICP so don’t get compression damage to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60A7-E373-4825-9C1E-29E991B25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you as a PT needs to advocate for this for your patients, positive reinforc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 I= born w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 II= behavioral brought on, can chan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0A5E-F006-45DD-89F0-CDDF30FE1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lose bladder control, at least start with an indwelling cath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5C3D-2C9F-419C-AB32-EB4178365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0DAE-3502-401D-9835-F8EE19D72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0F88-5B6F-4019-8D81-2133778D9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people to recognize a stro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80A6-0D5B-47B8-A048-B28A65D33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chemia = lack of blood (so O2) to an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AB44-3262-47D1-BF96-E81E9F794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68E4-B92B-4228-AC86-65A810F5D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12A1-D9F7-4136-83B5-E9C33054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2BD5-E7F0-44A0-ACC0-953343F7C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00D7-2800-4402-A7D8-A7F9B7299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F559-3BD6-4753-9CEB-557BF8B54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AF5A-874E-4E08-9E08-A8A964B7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9664-1582-47D3-9C93-F43CC720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6BE9-B63B-48EB-8E0E-75FF69E0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DB888-2517-4565-85C1-994D27FC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3876-CF53-4FC2-B48C-8C367993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623B-2635-4115-9E93-9EEF3D62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BDEE-7E86-4219-82D2-421EA780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5765-DD99-4366-AA0D-D0093175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EDA8-3AFC-465A-B180-82E4F0B9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119F-B292-47BE-84D5-40A4F02C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0998D-2403-4242-AEEB-4073E86D9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AAD8-5C0D-4F62-9C69-733E6B25D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11FA72-ADEB-4BAB-80E1-507DC9595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0D5E49-1E8E-4C5A-8507-537E99E9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4F4899-FBBF-41FA-AD35-1478C3A1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07B85B-029E-4185-8F5D-06873060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ABCC68-AECB-4F56-B31C-1B792A61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CD4C-C7C0-4C8A-A454-04EAC9CE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0541D5-08F0-4EDF-981A-FFD99FA8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191BC1-6E3C-47FA-8B86-2C5824C3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42FEBA-7CA1-4B16-BFFD-249D32E0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37ECB6-3426-4EAA-B030-8A72C6C0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318BA9-0185-4517-ADAB-3AAAC6F4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864AEA-9032-4EA6-9335-48D4B47A7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263491-E0A1-47D3-A11D-579844470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624F9-6098-44B1-B73D-77D8F316F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507F9-A04B-4738-A570-FB58FCAA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E878B-E5A9-4224-9AEC-B05F652D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5FB1-FE7E-4AC0-90CE-C5614095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B8906-21B1-4E1E-B916-65A6A2B5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39278-04CC-4933-91BD-152CDC62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EF752-24A3-4922-B0C0-E203319E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AF32B-DBDC-4170-9BD6-9E0518F8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70EE4-0FFE-4484-9A55-B1DF07B2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47C80-BF96-4EE2-B936-BDD4D522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E5FC8-D413-4110-A83C-87251E46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FC447-5259-463B-A303-3FCF6F32D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59238-3578-472C-92D2-9E5DD012A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22DD-9181-4EF0-92E9-4BBFAEA9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E98A-AFD5-42EE-B796-E850EE47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05E6-AF5C-4A22-A246-EABD0BC2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6E0D-B527-4E9A-80A9-5C0292E6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E7BE-61AC-4A48-9F87-E2BBE21E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437A-76AE-45C1-B90F-DABBF55AA5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0EFE-79D8-4ED9-A39B-36947777C2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8639-0E2E-4123-9076-945FBA094E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535D-10FE-4949-95B2-267C4D0FB2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trokecenter.org/pat/viewer/ais/ais_coronal_clot_500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trokecenter.org/pat/viewer/ich/ich_coronal_edema_2_500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trokecenter.org/pat/viewer/sah/sah_coronal_berry_2_500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iveme5forstroke.org/home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trokeassociation.org/presenter.jhtml?identifier=3018827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160" y="19047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erebrovascular Accident (Stroke)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Dayna Ryan, PT, DP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Winter 2012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ype of CVA: Ischemic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28240" y="1219320"/>
            <a:ext cx="42670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ost often caused by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atherosclerosis,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r gradual cholesterol deposi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nother cause is blood clots in the heart, which can occur as a result of irregular heartbeat (for example,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atrial fibrillation)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, heart attack, or abnormalities of the heart valve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f the artery remains blocked for more than a few minutes, the brain cells may die – why immediate medical treatment is absolutely critical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5" name="Picture 2" descr="&gt;&gt; click for a larger 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1523880"/>
            <a:ext cx="403848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ype of CVA: Hemorrhagic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51920" y="1371600"/>
            <a:ext cx="43434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17% of all strok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sults from a weakened vessel that ruptures and bleeds into the surrounding brai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8086"/>
                </a:solidFill>
                <a:latin typeface="Georgia"/>
              </a:rPr>
              <a:t>Blood accumulates and compresses the surrounding brain tissue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wo type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8086"/>
                </a:solidFill>
                <a:latin typeface="Georgia"/>
              </a:rPr>
              <a:t>Intracerebral hemorrhage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8086"/>
                </a:solidFill>
                <a:latin typeface="Georgia"/>
              </a:rPr>
              <a:t>Subarachnoid hemorrhage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647960" y="1447560"/>
            <a:ext cx="4267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eakened blood vessels from: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8086"/>
                </a:solidFill>
                <a:latin typeface="Georgia"/>
              </a:rPr>
              <a:t>Aneurysms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8086"/>
                </a:solidFill>
                <a:latin typeface="Georgia"/>
              </a:rPr>
              <a:t>Arteriovenous malformations (AVMs).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neurys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8086"/>
                </a:solidFill>
                <a:latin typeface="Georgia"/>
              </a:rPr>
              <a:t>Ballooning of a weakened region of a blood vessel.  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rteriovenous malformatio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(AVM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8086"/>
                </a:solidFill>
                <a:latin typeface="Georgia"/>
              </a:rPr>
              <a:t>a cluster of abnormally formed blood vessels. Any one of these vessels can rupture, also causing bleeding into the brain.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9" name="Picture 2" descr="http://z.about.com/d/stroke/1/8/H/-/-/-/hemicrani.jpg"/>
          <p:cNvPicPr/>
          <p:nvPr/>
        </p:nvPicPr>
        <p:blipFill>
          <a:blip r:embed="rId1"/>
          <a:stretch/>
        </p:blipFill>
        <p:spPr>
          <a:xfrm>
            <a:off x="1600200" y="4579920"/>
            <a:ext cx="327672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ype of CVA: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rebuchet MS"/>
              </a:rPr>
              <a:t>Intracerebral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 Hemorrhag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723920" y="1828440"/>
            <a:ext cx="4038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mon cause of intracerebral hemorrhage is high blood pressure (hypertension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amount of blood increases rapidly, the sudden buildup in pressure can lead to unconsciousness or death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occurs in selected parts of the brain, including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asal ganglia, cerebellum, brainstem, or cortex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2" name="Picture 4" descr="&gt;&gt; click for a larger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1790640"/>
            <a:ext cx="3102120" cy="295452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9"/>
          <p:cNvSpPr/>
          <p:nvPr/>
        </p:nvSpPr>
        <p:spPr>
          <a:xfrm>
            <a:off x="228600" y="5029200"/>
            <a:ext cx="44956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acerebral hemorrhage occurs when a diseased blood vessel within the brain bursts, allowing blood to leak inside the b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ype of CVA: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rebuchet MS"/>
              </a:rPr>
              <a:t>Subarachnoid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 Hemorrhag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438800" y="172080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Area of the skull surrounding the brain (the subarachnoid space) rapidly fills with blood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Patient with  subarachnoid hemorrhage may have a sudden, intense headache, neck pain, and nausea or vomiting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Sudden buildup of pressure outside the brain may also cause rapid loss of consciousnes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Most often caused by abnormalities of the arteries at the base of the brain, called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cerebral aneurysms.</a:t>
            </a:r>
            <a:r>
              <a:rPr b="0" i="1" lang="en-US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6" name="Picture 2" descr="&gt;&gt; click for a larger 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828800"/>
            <a:ext cx="3505320" cy="326232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8"/>
          <p:cNvSpPr/>
          <p:nvPr/>
        </p:nvSpPr>
        <p:spPr>
          <a:xfrm>
            <a:off x="609480" y="5486400"/>
            <a:ext cx="381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s when a blood vessel jus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uts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brain rup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Watershed Strok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as receive their blood supply from the farthest-end branches of two adjacent vascular territories and require adequate blood pressure to ensure that enough blood is pumped into them at all time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d b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ck of blood profu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se areas of the brain due to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8086"/>
                </a:solidFill>
                <a:latin typeface="Arial"/>
              </a:rPr>
              <a:t>Congestive heart failure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8086"/>
                </a:solidFill>
                <a:latin typeface="Arial"/>
              </a:rPr>
              <a:t>Atherosclerosis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8086"/>
                </a:solidFill>
                <a:latin typeface="Arial"/>
              </a:rPr>
              <a:t>Hypotension (shock)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64832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atershed stroke in the region of overlapped distribution between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terior cerebral art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iddle cerebral art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assically presents with </a:t>
            </a:r>
            <a:r>
              <a:rPr b="0" lang="en-US" sz="2400" spc="-1" strike="noStrike">
                <a:solidFill>
                  <a:srgbClr val="67afbd"/>
                </a:solidFill>
                <a:latin typeface="Arial"/>
              </a:rPr>
              <a:t>weakness of proximal arm and leg musc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preservation of distal strength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8086"/>
                </a:solidFill>
                <a:latin typeface="Arial"/>
              </a:rPr>
              <a:t>colloquially, the "man in a barrel" presentation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8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arotid Angiogram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35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s is an angiogram of the right carotid artery showing a severe narrowing (stenosis) of the internal carotid artery just past the carotid fork. There is enlargement of the artery or ulceration in the area after the stenosis in this close-up film. Note the narrowed segment toward the bottom of the picture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3" name="Picture 2" descr="Carotid stenosis, X-ray of the right artery"/>
          <p:cNvPicPr/>
          <p:nvPr/>
        </p:nvPicPr>
        <p:blipFill>
          <a:blip r:embed="rId1"/>
          <a:stretch/>
        </p:blipFill>
        <p:spPr>
          <a:xfrm>
            <a:off x="692280" y="1295280"/>
            <a:ext cx="384156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iddle Cerebral Artery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65" name="Picture 2" descr="Stroke"/>
          <p:cNvPicPr/>
          <p:nvPr/>
        </p:nvPicPr>
        <p:blipFill>
          <a:blip r:embed="rId1"/>
          <a:stretch/>
        </p:blipFill>
        <p:spPr>
          <a:xfrm>
            <a:off x="228600" y="1828800"/>
            <a:ext cx="4114800" cy="32925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Plaque buildup in arteries"/>
          <p:cNvPicPr/>
          <p:nvPr/>
        </p:nvPicPr>
        <p:blipFill>
          <a:blip r:embed="rId2"/>
          <a:stretch/>
        </p:blipFill>
        <p:spPr>
          <a:xfrm>
            <a:off x="4648320" y="2209680"/>
            <a:ext cx="40384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iddle Cerebral Artery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285640"/>
            <a:ext cx="4038480" cy="44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upplies internal capsule and basal gangl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blood clot may block the passage of blood through a brain artery, depriving nearby tissue of oxygen and nutrient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results in a stroke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9" name="Picture 2" descr="Part 4"/>
          <p:cNvPicPr/>
          <p:nvPr/>
        </p:nvPicPr>
        <p:blipFill>
          <a:blip r:embed="rId1"/>
          <a:stretch/>
        </p:blipFill>
        <p:spPr>
          <a:xfrm>
            <a:off x="4648320" y="1981080"/>
            <a:ext cx="41907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iddle Cerebral Artery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sions can affect the optic radi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96840" y="2908440"/>
            <a:ext cx="881856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iddle Cerebral Artery CV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tralateral hemiparesis, arm &gt; le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tralateral sensory impairmen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xpressive (can’t speak it though they know what they want to say) or receptive aphasia (rabbling, can’t understand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prax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omonymous hemianopsia (contralateral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erceptual deficits if right lesion, e.g. unilateral neglec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VA/Stroke Epidemiology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560" y="160020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eorgia"/>
              </a:rPr>
              <a:t>Population Statistics for 2006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g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8086"/>
                </a:solidFill>
                <a:latin typeface="Georgia"/>
              </a:rPr>
              <a:t>18-44……………………..0.5%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8086"/>
                </a:solidFill>
                <a:latin typeface="Georgia"/>
              </a:rPr>
              <a:t>45-64……………………..2.4%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8086"/>
                </a:solidFill>
                <a:latin typeface="Georgia"/>
              </a:rPr>
              <a:t>65-74……………………..7.6%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8086"/>
                </a:solidFill>
                <a:latin typeface="Georgia"/>
              </a:rPr>
              <a:t>75 +………………………11.2%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x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8086"/>
                </a:solidFill>
                <a:latin typeface="Georgia"/>
              </a:rPr>
              <a:t>Male ......................2.9% 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8086"/>
                </a:solidFill>
                <a:latin typeface="Georgia"/>
              </a:rPr>
              <a:t>Female...................2.3%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495320" y="156996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Rac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8086"/>
                </a:solidFill>
                <a:latin typeface="Georgia"/>
              </a:rPr>
              <a:t>White...............................2.4%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8086"/>
                </a:solidFill>
                <a:latin typeface="Georgia"/>
              </a:rPr>
              <a:t>Black/African American….4.6%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8086"/>
                </a:solidFill>
                <a:latin typeface="Georgia"/>
              </a:rPr>
              <a:t>American Indian/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8086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438086"/>
                </a:solidFill>
                <a:latin typeface="Georgia"/>
              </a:rPr>
              <a:t>Alaska Native....................2.6% 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8086"/>
                </a:solidFill>
                <a:latin typeface="Georgia"/>
              </a:rPr>
              <a:t>Asian............................... 1.8%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verage length of stay in acute care hospital in 2006 = 4.9 day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1904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pressive Aphasi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380880" y="868320"/>
            <a:ext cx="8637840" cy="59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monymous </a:t>
            </a:r>
            <a:br>
              <a:rPr sz="4000"/>
            </a:b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emianopsi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80" name="Picture 2" descr="http://www.dwp.gov.uk/img/visual-stroke.jpg"/>
          <p:cNvPicPr/>
          <p:nvPr/>
        </p:nvPicPr>
        <p:blipFill>
          <a:blip r:embed="rId1"/>
          <a:stretch/>
        </p:blipFill>
        <p:spPr>
          <a:xfrm>
            <a:off x="522360" y="1981080"/>
            <a:ext cx="8099280" cy="466884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6" descr="Two pictures with swimming ducks, but left side of each picture is black"/>
          <p:cNvPicPr/>
          <p:nvPr/>
        </p:nvPicPr>
        <p:blipFill>
          <a:blip r:embed="rId2"/>
          <a:stretch/>
        </p:blipFill>
        <p:spPr>
          <a:xfrm>
            <a:off x="4545000" y="372960"/>
            <a:ext cx="403848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95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Anterior Cerebral Artery (medial view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2535480" y="3244680"/>
            <a:ext cx="40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strokecenter.org/pat/ai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767560" cy="49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nterior Cerebral Artery CV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2057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tralateral hemiparesis affecting leg &gt; ar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tralateral sensory impairment affecting leg &gt; ar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oss of bowel/bladder contro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prax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648320" y="2057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ental impairment with perseveration, confusion, amnes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ecreased motiv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otor inac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Posterior Cerebral Artery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(Inferior and Medial Views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7566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osterior Cerebral Artery CV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traleral homonymous hemianop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yslex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emory defici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opographical disorient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ranial nerve III palsy (oculomotor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tralateral hemiparesi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alamic syndrom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4096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=Sensory impairment in all modalitie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40968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Pain 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40968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Paresthesia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Pain and temperature sensory loss (spinalthalamic)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Ataxia, athetosis, or choreiform movement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Visual agnosia=inability to different objects visual.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95360" y="658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Basilar Artery and Vertebral Artery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1371600" y="1706400"/>
            <a:ext cx="6553080" cy="49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Vertebral Artery CV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tax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Vertigo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Nause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Vomit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Nystagmu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mpaired pain and temperature sensation in ipsilateral fac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orner’s Syndrome (sympathetic dysfunction causing ptosis (eye dropping)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ysphag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nsory impairment in contralateral arm, trunk, and le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Basilar Artery CV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Quadriplegi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ocked in” syndrome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Intact consciousness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No motor ability other than eye blinks to respond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ilateral cerebellar ataxi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alamic pain syndrom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plopia or other visual field deficits including blindne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Lacunar Strok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aused by occlusion of a small branch of the larger arteri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end to be located deeper in the brain because there are more smaller arterial branches ther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ymptoms depend on loc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4495680" y="1905120"/>
            <a:ext cx="4659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CVA Risk Factors that </a:t>
            </a: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Cannot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 Be Changed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Ag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637560" indent="-23868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Risk approximately doubles for each decade of life after age 55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Heredity (family history) and race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637560" indent="-23868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Your stroke risk is greater if a parent, grandparent, sister or brother has had a stroke.  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37560" indent="-23868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African Americans have a much higher risk of death from a stroke than Caucasians do.  This is partly because blacks have higher risks of high blood pressure, diabetes and obesity. 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Sex (gender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637560" indent="-23868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Stroke is more common in men than in women.  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37560" indent="-23868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At all ages, more women than men die of stroke.  Use of birth control pills and pregnancy pose special stroke risks for women. 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Prior stroke, TIA or heart attack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637560" indent="-23868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A person who's had one or more TIAs (mini-stroke) is almost 10 times more likely to have a stroke than someone of the same age and sex who hasn't.  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37560" indent="-23868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If you've had a heart attack, you're at higher risk of having a stroke, too.  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ypical Impairments with Lacunar Infarct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228600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tralateral weakne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nsory loss (specifics depend on location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taxi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ysarthri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te of lesions: internal capsule, thalamus, basal ganglia, and p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haracteristics of CV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05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eakness/paralysis on the left sid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ecreased attention spa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Left hemianopsi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ecreased awareness/judgmen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emory defici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mpulsive behavior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ecreased spatial orientation and abstract  reasoni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motional labilit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648320" y="18284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LEF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eakness/paralysis on the right sid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creased frustra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ecreased processing/sequenci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phasia (expressive, receptive, global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ysphagi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deomotor or ideational apraxi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ecreased discrimination between right and lef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Right hemianopsi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haracteristics of CV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BRAINSTE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Unstable vital sign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ecreased consciousnes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ecreased ability to swallow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eakness on both sides of the bod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aralysis on both sides of the bod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EREBELLU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ecreased balanc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taxi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ecreased coordina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Nause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ecreased ability for postural adjustmen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Nystagmu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VA Signs/Symptom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828440"/>
            <a:ext cx="8229600" cy="47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nsory: contralateral defici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ot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ypotonia with cerebral shock followed by hypertonia (spasticity and clonus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+ Babinski if motor tracts affected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ontralateral paresi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praxia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Decreased muscle endurance (because decreased motor units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ncreased reaction tim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Decreased ability to fractionate movemen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reventive Ca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rain attack campaig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lacing stent in carotid artery if plaque build-up is pres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rotid endarterectom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          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arotid Endarterectomy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648320" y="1886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ndarterectomy is a surgical procedure removing plaque material from the lining of an artery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isk of stroke if blood clot dislodged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urgeons have varying success rates – check their record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20" name="Picture 2" descr="Endarterectomy"/>
          <p:cNvPicPr/>
          <p:nvPr/>
        </p:nvPicPr>
        <p:blipFill>
          <a:blip r:embed="rId1"/>
          <a:stretch/>
        </p:blipFill>
        <p:spPr>
          <a:xfrm>
            <a:off x="380880" y="2239920"/>
            <a:ext cx="41911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mergency Ca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combinant tissue plasminogen activator (RT-PA) to dissolve blood clo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Must be administered within 3 hours of blockag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Treatment is 30% effective in helping people recover from strok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4756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reventive and Emergency Ca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19080" y="1562040"/>
            <a:ext cx="876312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edical Care of CV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981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Ischemic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alcium channel antagonis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nticoagulation therap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P regul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holesterol medicatio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648320" y="1828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Hemorrhagic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urgical evacuation of bloo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edication to decrease intracranial pressur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urgical repair of aneurysm or arteriovenous malformation (if not repairing themselve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ovement Symptoms Associated with CV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8288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35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creased force produ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nsory impairm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bnormal synergi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ltered temporal sequencing of muscle contrac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mpaired regulation of muscle for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layed response tim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bnormal muscle to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oss of range of mo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ltered biomechanical alignment, e.g. scapul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CVA Risk Factors that </a:t>
            </a: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Can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 Be Changed, Treated, or Controlled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High blood pressure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Cigarette smoking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nicotine and carbon monoxide in cigarette smoke damage the cardiovascular system in many way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use of oral contraceptives combined with cigarette smoking greatly increases stroke risk. 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Diabetes mellitus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While diabetes is treatable, the presence of the disease still increases your risk of stroke. 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Carotid or other artery disease 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The carotid arteries in your neck supply blood to your brain.  A carotid artery narrowed by fatty deposits from atherosclerosis (plaque buildups in artery walls) may become blocked by a blood clot. </a:t>
            </a:r>
            <a:r>
              <a:rPr b="1" lang="en-US" sz="2000" spc="-1" strike="noStrike">
                <a:solidFill>
                  <a:srgbClr val="438086"/>
                </a:solidFill>
                <a:latin typeface="Georgia"/>
              </a:rPr>
              <a:t> Peripheral artery disease</a:t>
            </a: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 is the narrowing of blood vessels carrying blood to leg and arm muscles. It's caused by fatty buildups of plaque in artery walls.  People with peripheral artery disease have a higher risk of carotid artery disease, which raises their risk of stroke. 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reatment of Symptom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pastic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Baclofe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Botox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thet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ti-depressan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CVA Risk Factors that </a:t>
            </a: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Can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 Be Changed, Treated, or Controlled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810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Atrial fibrillation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30720" indent="-23616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The heart's upper chambers quiver instead of beating effectively, which can let the blood pool and clot.  If a clot breaks off, enters the bloodstream and lodges in an artery leading to the brain, a stroke results.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Other heart diseas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30720" indent="-23616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 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Dilated cardiomyopathy (an enlarged heart), heart valve disease and some types of congenital heart defects also raise the risk of stroke.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CVA Risk Factors that </a:t>
            </a: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Can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 Be Changed, Treated, or Controlled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Sickle cell diseas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(also called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sickle cell anemia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 —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0520" indent="-24372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This is a genetic disorder that mainly affects African-American and Hispanic children. 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650520" indent="-24372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Sickled cells (poor O2 absorption)  tend to stick to blood vessel walls, which can block arteries to the brain and cause a stroke. 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High blood cholesterol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0520" indent="-24372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Also, it appears that low HDL (“good”) cholesterol  is a risk factor for stroke in men, but more data are needed to verify its effect in women. 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CVA Risk Factors that </a:t>
            </a: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Can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 Be Changed, Treated, or Controlled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057400"/>
            <a:ext cx="8229600" cy="45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Poor diet 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Diets high in saturated fat, trans fat and cholesterol can raise blood cholesterol levels.  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Diets high in sodium (salt) can contribute to increased blood pressure.  (salt attracts water into blood, so increase blood volume) 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Diets with excess calories can contribute to obesity.  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Diet containing five or more servings of fruits and vegetables per day may reduce the risk of stroke. 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Physical inactivity and obesity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 —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Being inactive, obese or both can increase your risk of high blood pressure, high blood cholesterol, diabetes, heart disease and stroke.    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Try to get a total of at least 30 minutes of activity on most or all days. 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7772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“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Give Me 5” Campaig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ponsored by American Academy of Neurology, the American College of Emergency Physicians and the American Heart Association/American Stroke Association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f any of these are positive, call 9-1-1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8" name="Picture 4" descr="http://www.giveme5forstroke.org/images/transnw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-662040"/>
            <a:ext cx="1571760" cy="1381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The Give Me 5"/>
          <p:cNvPicPr/>
          <p:nvPr/>
        </p:nvPicPr>
        <p:blipFill>
          <a:blip r:embed="rId3"/>
          <a:stretch/>
        </p:blipFill>
        <p:spPr>
          <a:xfrm>
            <a:off x="762120" y="3849840"/>
            <a:ext cx="781344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ype of CVA: Ischemic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83% of all strok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rom atherosclerosi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wo typ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Cerebral </a:t>
            </a:r>
            <a:r>
              <a:rPr b="0" lang="en-US" sz="2000" spc="-1" strike="noStrike">
                <a:solidFill>
                  <a:srgbClr val="502652"/>
                </a:solidFill>
                <a:latin typeface="Georgia"/>
              </a:rPr>
              <a:t>thrombus</a:t>
            </a: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 (blood vessel clogs)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Cerebral </a:t>
            </a:r>
            <a:r>
              <a:rPr b="0" lang="en-US" sz="2000" spc="-1" strike="noStrike">
                <a:solidFill>
                  <a:srgbClr val="502652"/>
                </a:solidFill>
                <a:latin typeface="Georgia"/>
              </a:rPr>
              <a:t>embolism</a:t>
            </a: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 (clot from heart, upper body, or neck dislodges and move to brain to clog artery)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42" name="Picture 2" descr="http://www.strokeassociation.org/images/ImagePicker/17432-strok-prev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2362320"/>
            <a:ext cx="4400640" cy="28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2:48:22Z</dcterms:created>
  <dc:creator>Dayna</dc:creator>
  <dc:description/>
  <dc:language>en-US</dc:language>
  <cp:lastModifiedBy>SWEET, CHRISTINA</cp:lastModifiedBy>
  <dcterms:modified xsi:type="dcterms:W3CDTF">2012-03-27T18:42:28Z</dcterms:modified>
  <cp:revision>86</cp:revision>
  <dc:subject/>
  <dc:title>Cerebrovascular Accident (Stroke)</dc:title>
</cp:coreProperties>
</file>