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9199-6445-4585-A20C-353636CD7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what you are capable of while performance is what you actually 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0D53-B271-42D1-88ED-5C34CCF07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E863-BECF-450A-B97F-1658DC0DA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is the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is what we manipu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Hip Burs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=one treatment. Always only one independent variable, but two levels stretching or res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: 2 or more variables=pain or 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13E3-3EBF-466B-80D7-C1D0C067C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data revlevent? Data is plural, Datum in singul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270B-39BA-4187-88F3-E49A0BD2B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asure is a procedure used to determine a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Color is the Test/measure, brown, blonde, red is the attrib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valuation accesses information and makes a determin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C291-3919-405D-8112-B13970D9E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2977-3DC8-40D2-B716-E78E0AD87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AA6-36EB-4A7F-8ACD-4ECC8119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384-215A-472C-9120-98D2515D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6A6-0174-4110-8FE2-E5BD7FE0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B8A-8A15-45FF-83F9-EB473FCB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AB6-DE31-4BC6-BDAA-9801B05A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F58-7611-4D05-AFFE-410487BE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129-556A-47DD-9ADB-DEA04087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800-1F2D-4931-AE0B-0EF39ED7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DB1-8CD9-4FC7-80C3-B691B6DB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9F9-528A-423D-98F5-35A1301C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802-7425-4888-82F5-F2701CC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A90-9AB1-44D9-B50A-0BE99566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9106-06E5-47D1-AA95-18AF7838B9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earch Methods Lectur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ctives To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 to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 to Professional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lecture on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homework (due to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s of Health and Dis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1920" y="1599840"/>
            <a:ext cx="8991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gi mod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hology, Impairment, Functional Limitation, Dis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Classification of Fun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ility” slant to the Nagi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acity vs Perform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a framework for relevant outcome measu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gure 1.1 in P &amp; W good summary mod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CF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6941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dence-Based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6320" y="1599840"/>
            <a:ext cx="8610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ckett a giant in this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ion of best research evidence with our clinical expertise and our patient’s unique values and circumstanc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k an answerabl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O one way of framing a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look to the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Way to Ask a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ulation of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vention you are consid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trol/Comparison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come that you will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 of 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9072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: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least powerfu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utho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al and Err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g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du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fic Method Assumptions: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ost powerful*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ure is order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ts not ran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mitations in our profess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continuum (Fig 1.5  P&amp;W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domized Controlled T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thing in betw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earch proc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the question/topic (general) “PICO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the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ch the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the topic (specif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a general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onally defined hypoth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s (collect and reduce d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1920" y="914400"/>
            <a:ext cx="89917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tinuous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all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scre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my heart rate? 60 ¾ bpm vs 60 b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you male or female? XX XY YY, more tha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ent of our ability to def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often indirect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R measured in pulse or BP is in cu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si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umber of decimal poi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s. Accura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and units  (22  inches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have un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minal D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ka Categoric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 vs 4 categorie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ite number of classifications= can code with a label for ease, but has no meaning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teg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tually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clusive= cant be both male or female, one res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haust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umbers or symbols may be assig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no inherent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changed without affecting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00"/>
                </a:solidFill>
                <a:uFillTx/>
                <a:latin typeface="Calibri"/>
              </a:rPr>
              <a:t>Counting is the only math allowed!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= no averages tak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in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k ordered,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tep,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tep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se of the same rank not required to be eq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ks are not equally spac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y or may not have true zero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eraging is allow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Bu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value doesn’t reflect a true quant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common ordinal scale i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Liker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= Very satisfied, 2 = satisfied, 3 = neutral…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not a true quan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inuous D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Scale” Data in PAS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 scale covers 2 sc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59984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al and ratio data ar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 is presence of true zero, interval has no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the temperature scale 0, 32, 2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broken into smaller pieces –continuous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FESSIONALISM IN PHYSICAL THERAPY: CORE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Altru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Compassion/C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Excel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Social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Integ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 Professional Du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val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k or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ks are equally spa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true zero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ation cannot be done di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ation can be done while retaining relative pos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thematical operations should not include interva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ere is no true zer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k or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ks are equally spa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true zero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mathematical operations permi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search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1920" y="10663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important than ability as statistici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quires refinement to answerable ques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p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earch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 Question shaped b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nical experience (no substitute for th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asibility and impor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 to be samp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riables to cons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(IV in this cou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dictor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ually the treatment o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have more than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lea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vels for each in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ent (DV in this cou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have more than one DV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e outcomes, ROM, Strength,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 levels, EVER,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EVER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VER (not even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class practice=both for m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=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rve Conduction Velocity=depen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=indepen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ment status=both; predict scores on disability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ypothe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3716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arch hypothe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 expec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you think is the answer to your que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will be a difference from intervention, but can be a dull someti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stical (nu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difference/no relationship between IV and DV, when we want to show that there is no difference like drug vs 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ional (difference will be in a specific direction) easier to find a difference in A will be bigger than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directional (only that there will be a difference) is there difference in either smaller or big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(One IV (infinite levels) and One DV (infinite outcomes, no levels!!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(more than one IV and or D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it every step of the way (Fig 7.1 P &amp; 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iate your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er reviewed journal 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al presentations from the resear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books (good source of citations of primary sourc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RM L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66320"/>
            <a:ext cx="8686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700" spc="-1" strike="noStrike">
                <a:solidFill>
                  <a:srgbClr val="000000"/>
                </a:solidFill>
                <a:latin typeface="Calibri"/>
              </a:rPr>
              <a:t>Is the data relevant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wrong with this ques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ject verb agre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RM L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066320"/>
            <a:ext cx="8686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/Measure – used to obtain a measu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ttribute – a variable, a characteristic, a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xamination – a test or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valuation – a judg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onal definition – provides a common frame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0663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 to be Evidence-Based Prof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Practice (every patient we treat) should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ed up by research/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current best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02585_WS37LabCoat_med[1]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8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d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irical and critical= able to observ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d by our societal/professional paradig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and disability models are frame of 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 should be Evidence-B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is Careful, Logical, and Systema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is Careful, Logical, and Systema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pr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lend support (for or again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is repea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to be reliable and hence val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ing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66320"/>
            <a:ext cx="8686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the patient li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impairments less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functional limitations less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health impro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we save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we save tim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Related Quality of Life (HRQO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F-3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M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6" descr="maruishslide1[1].jpg"/>
          <p:cNvPicPr/>
          <p:nvPr/>
        </p:nvPicPr>
        <p:blipFill>
          <a:blip r:embed="rId1"/>
          <a:stretch/>
        </p:blipFill>
        <p:spPr>
          <a:xfrm>
            <a:off x="-60480" y="0"/>
            <a:ext cx="92044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WEET, CHRISTINA</dc:creator>
  <dc:description/>
  <dc:language>en-US</dc:language>
  <cp:lastModifiedBy>SWEET, CHRISTINA</cp:lastModifiedBy>
  <dcterms:modified xsi:type="dcterms:W3CDTF">2012-01-12T12:57:38Z</dcterms:modified>
  <cp:revision>190</cp:revision>
  <dc:subject/>
  <dc:title>Application Techniques</dc:title>
</cp:coreProperties>
</file>