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8.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D743-4FAA-496F-B771-6E72259AD4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8805-AFC8-46DB-BD39-C00AAB0D18F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when a single stimulus is given repeatedly and the nervous system learns about the characteristics of the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uation is a decrease in responsiveness that occurs as a result of repeated exposure to a non-painful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zation: An enhanced response to many different stimuli after experiencing an intense or noxious one. For example, an animal responds more vigorously to a tone of lesser intensity once a painfully loud tone has been played. Here we say that the animal is sensitized.</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world to identify the relationships between one’s body and the environment is a critical task for patients with movement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ng a weak, ineffective (unconditioned-U) stimulus with a strong, effective (conditioned-C) stimulus to produce a desired response (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Verbal cues (U) coupled with manual guidance (C) to help a patient make the movement (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are more likely to learn if the associations are relevant and meaningful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C237-029C-44DB-9A78-D469DB8FE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 one’s behavior with the consequ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apists use positive feedback(“Good job!”) to reinforce the successful accomplishment of a t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al circuits involved in operant conditio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ellum for movemen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ygdala for emotion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otor areas for associating sensory events with a specific movement (“Mirror Neur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A667-B8EA-48FC-A380-7C936FEC9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some of the rules for performing a sit to stand</a:t>
            </a:r>
            <a:endParaRPr b="0" lang="en-US" sz="3200" spc="-1" strike="noStrike">
              <a:solidFill>
                <a:srgbClr val="000000"/>
              </a:solidFill>
              <a:latin typeface="Calibri"/>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ing the weight over to a new base of support </a:t>
            </a:r>
            <a:endParaRPr b="0" lang="en-US" sz="3200" spc="-1" strike="noStrike">
              <a:solidFill>
                <a:srgbClr val="000000"/>
              </a:solidFill>
              <a:latin typeface="Calibri"/>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 extensor force in the hips and legs against the body weight</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under a variety of contexts enables the successful performance of action in variable environ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tient who had a TBI and cannot verbalize the sequence of use of an assistive gait device may still be able to learn the movement sequence.</a:t>
            </a:r>
            <a:br>
              <a:rPr sz="1200"/>
            </a:br>
            <a:r>
              <a:rPr b="0" lang="en-US" sz="1200" spc="-1" strike="noStrike">
                <a:solidFill>
                  <a:srgbClr val="000000"/>
                </a:solidFill>
                <a:latin typeface="Calibri"/>
              </a:rPr>
              <a:t>Neural structure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erebel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riatum of the basal ganglia</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BE79-B4FD-423A-982F-B9081C493F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larative learning, motor tasks can be practiced in a different way, e.g. athlet mental rehearsal before th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al circuits involved in declarative lear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association cor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temporal lob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camp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D09E-BE54-47D7-8BB0-0BFD57BCC5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2359-CEFF-461E-902D-153BA8FBB8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ding requires attention: encoding is affected by motivation and attention to the information, and ability to associate it with stored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olidation convert the memory into long term memory. It involves structural changes of neu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age involves the retention of long term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al is the recall of information and different long term storage.  It is subject to distortion since an individual reconstructs the memories from a combination of different sites. Retrieval is most accurate when the context is similar or the same to the context it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memory is stored in the cortex (likely in temporal cortex), not hippocam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91B5-F41D-43E0-B73A-E4AE795AC3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location and type of CNS le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l lobe involved in declarativ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ellum involved in procedural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A53E-E316-43E5-9B2E-FFAFC1BDFC0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9354-4C7B-4144-9D31-55DA1943F0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4B22-BDC3-431B-8064-916F617822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923F-CBB2-4E95-BA6C-429BDE3E92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all sche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Adams memory t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gnition schema </a:t>
            </a:r>
            <a:r>
              <a:rPr b="0" lang="en-US" sz="1200" spc="-1" strike="noStrike">
                <a:solidFill>
                  <a:srgbClr val="000000"/>
                </a:solidFill>
                <a:latin typeface="Calibri"/>
              </a:rPr>
              <a:t>~similar to Adams perceptual t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DB0E-E06E-4703-9254-D99CC2028A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4F4E-1ADA-483F-BF96-DEB9EAD21F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67FF-3B83-4AF7-9BD0-5983F3ED42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6775-7B0C-4040-8683-6F59CC0BE8D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7AEC-DC76-475B-B1B0-EA4532B4BF2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92AF-C946-4C6A-A37D-521F6DDEF15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63D7-1D74-4DC0-8B0D-45BCFB4F2C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3429-81BD-457F-8EF2-1D80D19BB6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1F90-6E80-4A19-9858-DA27F1CB86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60EB-8FC9-4D40-8620-5DF7DD5608D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93B1-9983-4BA4-990C-F51D0E40FEE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Shumway-Cook’s borrowed from Schmidt’s book on this section but she might have missed the point?  It was not clear from what she stated in the book.  I looked up Schmidt’s original text and this is what he st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midt and Lee, 2005. Motor Control and Learning, 4</a:t>
            </a:r>
            <a:r>
              <a:rPr b="0" lang="en-US" sz="1200" spc="-1" strike="noStrike" baseline="30000">
                <a:solidFill>
                  <a:srgbClr val="000000"/>
                </a:solidFill>
                <a:latin typeface="Calibri"/>
              </a:rPr>
              <a:t>th</a:t>
            </a:r>
            <a:r>
              <a:rPr b="0" lang="en-US" sz="1200" spc="-1" strike="noStrike">
                <a:solidFill>
                  <a:srgbClr val="000000"/>
                </a:solidFill>
                <a:latin typeface="Calibri"/>
              </a:rPr>
              <a:t> edition. Human Kinetic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9607-F21E-47DF-BB9F-AC4A898F59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Shumway-Cook’s borrowed from Schmidt’s book on this section but she might have missed the point?  It was not clear from what she stated in the book.  I looked up Schmidt’s original text and this is what he st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midt and Lee, 2005. Motor Control and Learning, 4</a:t>
            </a:r>
            <a:r>
              <a:rPr b="0" lang="en-US" sz="1200" spc="-1" strike="noStrike" baseline="30000">
                <a:solidFill>
                  <a:srgbClr val="000000"/>
                </a:solidFill>
                <a:latin typeface="Calibri"/>
              </a:rPr>
              <a:t>th</a:t>
            </a:r>
            <a:r>
              <a:rPr b="0" lang="en-US" sz="1200" spc="-1" strike="noStrike">
                <a:solidFill>
                  <a:srgbClr val="000000"/>
                </a:solidFill>
                <a:latin typeface="Calibri"/>
              </a:rPr>
              <a:t> edition. Human Kinetics.</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DEFA-ADC8-48FD-BA98-D91B3273D62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1F56-5742-496C-8C8B-1646F6952E9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6BB5-F7E7-4097-9A44-BA65F30AB84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y of 4 TBI patients with memory deficits (Haring, 2002)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tients who received feedback on 75% of movement attempts were more successful in learning a 7-step supine </a:t>
            </a:r>
            <a:r>
              <a:rPr b="0" lang="en-US" sz="2000" spc="-1" strike="noStrike">
                <a:solidFill>
                  <a:srgbClr val="000000"/>
                </a:solidFill>
                <a:latin typeface="Wingdings"/>
                <a:ea typeface="Wingdings"/>
              </a:rPr>
              <a:t></a:t>
            </a:r>
            <a:r>
              <a:rPr b="0" lang="en-US" sz="2000" spc="-1" strike="noStrike">
                <a:solidFill>
                  <a:srgbClr val="000000"/>
                </a:solidFill>
                <a:latin typeface="Calibri"/>
              </a:rPr>
              <a:t> stand transfer task than 2 patients who received feedback on 25% of movement attempt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178E-5020-4FBE-8EB5-85F4FB21554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6A40-628A-4BE1-B19F-768A83DC456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ed Practic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Calibri"/>
              </a:rPr>
              <a:t>Practice all of one movement at one time </a:t>
            </a:r>
            <a:r>
              <a:rPr b="0" lang="en-US" sz="1200" spc="-1" strike="noStrike">
                <a:solidFill>
                  <a:srgbClr val="000000"/>
                </a:solidFill>
                <a:latin typeface="Calibri"/>
              </a:rPr>
              <a:t>and then practice all of another movemen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for </a:t>
            </a:r>
            <a:r>
              <a:rPr b="0" lang="en-US" sz="1200" spc="-1" strike="noStrike">
                <a:solidFill>
                  <a:srgbClr val="7030a0"/>
                </a:solidFill>
                <a:latin typeface="Calibri"/>
              </a:rPr>
              <a:t>performance</a:t>
            </a:r>
            <a:r>
              <a:rPr b="0" lang="en-US" sz="1200" spc="-1" strike="noStrike">
                <a:solidFill>
                  <a:srgbClr val="000000"/>
                </a:solidFill>
                <a:latin typeface="Calibri"/>
              </a:rPr>
              <a:t>, but less efficient for learn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Practic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Calibri"/>
              </a:rPr>
              <a:t>Continuously change the task </a:t>
            </a:r>
            <a:r>
              <a:rPr b="0" lang="en-US" sz="1200" spc="-1" strike="noStrike">
                <a:solidFill>
                  <a:srgbClr val="000000"/>
                </a:solidFill>
                <a:latin typeface="Calibri"/>
              </a:rPr>
              <a:t>being practiced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for </a:t>
            </a:r>
            <a:r>
              <a:rPr b="0" lang="en-US" sz="1200" spc="-1" strike="noStrike">
                <a:solidFill>
                  <a:srgbClr val="7030a0"/>
                </a:solidFill>
                <a:latin typeface="Calibri"/>
              </a:rPr>
              <a:t>learnin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learner to reconstruct motor program with each movement (active learning process)</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5119-9C76-4136-BCB5-95F7CA422AC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requiring </a:t>
            </a:r>
            <a:r>
              <a:rPr b="0" lang="en-US" sz="1200" spc="-1" strike="noStrike">
                <a:solidFill>
                  <a:srgbClr val="e46c0a"/>
                </a:solidFill>
                <a:latin typeface="Calibri"/>
              </a:rPr>
              <a:t>“whole” </a:t>
            </a:r>
            <a:r>
              <a:rPr b="0" lang="en-US" sz="1200" spc="-1" strike="noStrike">
                <a:solidFill>
                  <a:srgbClr val="000000"/>
                </a:solidFill>
                <a:latin typeface="Calibri"/>
              </a:rPr>
              <a:t>practic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Calibri"/>
              </a:rPr>
              <a:t>Cyclic movements</a:t>
            </a:r>
            <a:r>
              <a:rPr b="0" lang="en-US" sz="1200" spc="-1" strike="noStrike">
                <a:solidFill>
                  <a:srgbClr val="000000"/>
                </a:solidFill>
                <a:latin typeface="Calibri"/>
              </a:rPr>
              <a:t>, e.g. gai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Calibri"/>
              </a:rPr>
              <a:t>Multi-joint movements</a:t>
            </a:r>
            <a:r>
              <a:rPr b="0" lang="en-US" sz="1200" spc="-1" strike="noStrike">
                <a:solidFill>
                  <a:srgbClr val="000000"/>
                </a:solidFill>
                <a:latin typeface="Calibri"/>
              </a:rPr>
              <a:t> where timing of movement components is linked, e.g. reaching for a cup to pick up</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y to practice </a:t>
            </a:r>
            <a:r>
              <a:rPr b="0" lang="en-US" sz="1200" spc="-1" strike="noStrike">
                <a:solidFill>
                  <a:srgbClr val="e46c0a"/>
                </a:solidFill>
                <a:latin typeface="Calibri"/>
              </a:rPr>
              <a:t>“parts” </a:t>
            </a:r>
            <a:r>
              <a:rPr b="0" lang="en-US" sz="1200" spc="-1" strike="noStrike">
                <a:solidFill>
                  <a:srgbClr val="000000"/>
                </a:solidFill>
                <a:latin typeface="Calibri"/>
              </a:rPr>
              <a:t>if:</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is easily broken down into parts</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strengthening is desired outcome – be sure to link strengthening type exercise to ultimate task being learning (</a:t>
            </a:r>
            <a:r>
              <a:rPr b="0" lang="en-US" sz="1200" spc="-1" strike="noStrike">
                <a:solidFill>
                  <a:srgbClr val="800080"/>
                </a:solidFill>
                <a:latin typeface="Calibri"/>
              </a:rPr>
              <a:t>task specificity</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ing dorsiflexion while in sitting and expecting carry-over into gait does not work.  Gait depends on central pattern generators and many postural synergies where muscles are activated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ing up a cup involves the transport task of the arm and the grasp task of the hand.  The timing of the grasp is such that the hand will open to prepare to grasp the cup before it reaches the cup</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31FC-0560-48D0-BB1E-D1CD4E836CA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C507-C977-4E20-82BD-8E8B1448FB7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ing about how a movement is done can facilitate learning</a:t>
            </a:r>
            <a:endParaRPr b="0" lang="en-US" sz="24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gnitively try out different strategies for achieving a motor task, e.g. floor </a:t>
            </a:r>
            <a:r>
              <a:rPr b="0" lang="en-US" sz="2000" spc="-1" strike="noStrike">
                <a:solidFill>
                  <a:srgbClr val="000000"/>
                </a:solidFill>
                <a:latin typeface="Wingdings"/>
                <a:ea typeface="Wingdings"/>
              </a:rPr>
              <a:t></a:t>
            </a:r>
            <a:r>
              <a:rPr b="0" lang="en-US" sz="2000" spc="-1" strike="noStrike">
                <a:solidFill>
                  <a:srgbClr val="000000"/>
                </a:solidFill>
                <a:latin typeface="Calibri"/>
              </a:rPr>
              <a:t> WC transfer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 is active when doing mental practice of sequence movement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rrison KA, Winstein CJ, Aziz-Zadeh L. The Mirror Neuron System: A Neural Substrate for Methods in Stroke Rehabilitation. Neurorehabilitation and Neural Repair. June 1, 2010 2010;24(5):404-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 neurons found in the premotor and parietal cortex respond not only during action execution, but also during observation of actions being performed by others. Thus, the motor system may be activated without overt movement. Rehabilitation of motor function after stroke is often challenging due to severity of impairment and poor to absent voluntary movement ability. Methods in stroke rehabilitation based on the mirror neuron system—action observation, motor imagery, and imitation—take advantage of this opportunity to rebuild motor function despite impairments, as an alternative or complement to physical therapy.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8B7D-AE70-4D0E-AD33-D96B59CEFD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9542B-2840-40C4-8E90-6488FDAC2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AA3D-B790-48E9-B3F0-E501F8449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8C357-4C28-4870-8DE6-638C4329E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F514F-CF7B-477D-AE41-636BC61F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008E8-8FF9-43D5-826E-9E032C7F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A3376-C295-4905-BD34-36BE2272C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DDAD0-F4BC-4D70-8729-F9E557DC0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E36D-279C-4AAF-A959-790AB6D8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7656-13DE-441F-9F19-31BF58DF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889B-5F3E-4230-A1A0-67C02488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238B-CCD6-43A9-8C23-69835D1C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FBAB-4E0A-4CAD-9B0F-7540E0009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77B5-D731-4866-AB0E-4948DD8732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voZXtTUdQ00" TargetMode="External"/><Relationship Id="rId2" Type="http://schemas.openxmlformats.org/officeDocument/2006/relationships/hyperlink" Target="http://www.youtube.com/watch?v=voZXtTUdQ00"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are and contrast declarative (explicit) vs. procedure (implicit or non-declarative) memory. Address the following:</a:t>
            </a:r>
            <a:endParaRPr b="0" lang="en-US" sz="3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learned? Give examples.</a:t>
            </a:r>
            <a:endParaRPr b="0" lang="en-US" sz="3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brain areas are involved in the formation of memory?</a:t>
            </a:r>
            <a:endParaRPr b="0" lang="en-US" sz="3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re is the memory stored? </a:t>
            </a:r>
            <a:endParaRPr b="0" lang="en-US" sz="3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tor Performance</a:t>
            </a:r>
            <a:r>
              <a:rPr b="1" lang="en-US" sz="4000" spc="-1" strike="noStrike">
                <a:solidFill>
                  <a:srgbClr val="ff0000"/>
                </a:solidFill>
                <a:latin typeface="Calibri"/>
              </a:rPr>
              <a:t> </a:t>
            </a:r>
            <a:r>
              <a:rPr b="1" lang="en-US" sz="4600" spc="-1" strike="noStrike">
                <a:solidFill>
                  <a:srgbClr val="ff0000"/>
                </a:solidFill>
                <a:latin typeface="Symbol"/>
                <a:ea typeface="Symbol"/>
              </a:rPr>
              <a:t></a:t>
            </a:r>
            <a:r>
              <a:rPr b="1" lang="en-US" sz="4000" spc="-1" strike="noStrike">
                <a:solidFill>
                  <a:srgbClr val="ff0000"/>
                </a:solidFill>
                <a:latin typeface="Calibri"/>
              </a:rPr>
              <a:t> </a:t>
            </a:r>
            <a:r>
              <a:rPr b="0" lang="en-US" sz="4000" spc="-1" strike="noStrike">
                <a:solidFill>
                  <a:srgbClr val="000000"/>
                </a:solidFill>
                <a:latin typeface="Calibri"/>
              </a:rPr>
              <a:t>Motor Learning</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ance may be influenced by many other variables, e.g. fatigue, level of learning/skills, anxiety, motivation, cues or manual guidance given to the learner</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Learning  is a relatively permanent change in motor behaviors that are  </a:t>
            </a:r>
            <a:r>
              <a:rPr b="0" lang="en-US" sz="3400" spc="-1" strike="noStrike">
                <a:solidFill>
                  <a:srgbClr val="ff0000"/>
                </a:solidFill>
                <a:latin typeface="Calibri"/>
              </a:rPr>
              <a:t>measured after a retention period </a:t>
            </a:r>
            <a:r>
              <a:rPr b="0" lang="en-US" sz="3400" spc="-1" strike="noStrike">
                <a:solidFill>
                  <a:srgbClr val="000000"/>
                </a:solidFill>
                <a:latin typeface="Calibri"/>
              </a:rPr>
              <a:t>and </a:t>
            </a:r>
            <a:r>
              <a:rPr b="0" lang="en-US" sz="3400" spc="-1" strike="noStrike">
                <a:solidFill>
                  <a:srgbClr val="ff0000"/>
                </a:solidFill>
                <a:latin typeface="Calibri"/>
              </a:rPr>
              <a:t>only result from practice.</a:t>
            </a:r>
            <a:endParaRPr b="0" lang="en-US" sz="3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RMS OF MOTOR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12760" y="262080"/>
            <a:ext cx="8686800" cy="6443640"/>
          </a:xfrm>
          <a:prstGeom prst="rect">
            <a:avLst/>
          </a:prstGeom>
          <a:ln w="0">
            <a:noFill/>
          </a:ln>
        </p:spPr>
      </p:pic>
      <p:sp>
        <p:nvSpPr>
          <p:cNvPr id="69" name="Rectangle 2"/>
          <p:cNvSpPr/>
          <p:nvPr/>
        </p:nvSpPr>
        <p:spPr>
          <a:xfrm>
            <a:off x="7545240" y="5013360"/>
            <a:ext cx="1247760" cy="129528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3"/>
          <p:cNvSpPr/>
          <p:nvPr/>
        </p:nvSpPr>
        <p:spPr>
          <a:xfrm>
            <a:off x="380880" y="5013360"/>
            <a:ext cx="1981440" cy="138744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6"/>
          <p:cNvSpPr/>
          <p:nvPr/>
        </p:nvSpPr>
        <p:spPr>
          <a:xfrm>
            <a:off x="4297320" y="5013360"/>
            <a:ext cx="2895480" cy="169236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eclarative (Implicit) Learning:</a:t>
            </a:r>
            <a:br>
              <a:rPr sz="4400"/>
            </a:br>
            <a:r>
              <a:rPr b="0" lang="en-US" sz="4400" spc="-1" strike="noStrike">
                <a:solidFill>
                  <a:srgbClr val="000000"/>
                </a:solidFill>
                <a:latin typeface="Calibri"/>
              </a:rPr>
              <a:t>Non-Associative Learning</a:t>
            </a:r>
            <a:endParaRPr b="0" lang="en-US" sz="4400" spc="-1" strike="noStrike">
              <a:solidFill>
                <a:srgbClr val="000000"/>
              </a:solidFill>
              <a:latin typeface="Calibri"/>
            </a:endParaRPr>
          </a:p>
        </p:txBody>
      </p:sp>
      <p:sp>
        <p:nvSpPr>
          <p:cNvPr id="73" name="PlaceHolder 2"/>
          <p:cNvSpPr>
            <a:spLocks noGrp="1"/>
          </p:cNvSpPr>
          <p:nvPr>
            <p:ph/>
          </p:nvPr>
        </p:nvSpPr>
        <p:spPr>
          <a:xfrm>
            <a:off x="457200" y="1722600"/>
            <a:ext cx="82296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single stimulus is given repeatedly and the nervous system learns about the characteristics of the stimulus</a:t>
            </a:r>
            <a:endParaRPr b="0" lang="en-US" sz="3400" spc="-1" strike="noStrike">
              <a:solidFill>
                <a:srgbClr val="000000"/>
              </a:solidFill>
              <a:latin typeface="Calibri"/>
            </a:endParaRPr>
          </a:p>
          <a:p>
            <a:pPr marL="335880" indent="-3358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abituation </a:t>
            </a:r>
            <a:endParaRPr b="0" lang="en-US" sz="3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response to the stimulus, e.g. exercises to treat dizziness in patients</a:t>
            </a:r>
            <a:endParaRPr b="0" lang="en-US" sz="3400" spc="-1" strike="noStrike">
              <a:solidFill>
                <a:srgbClr val="000000"/>
              </a:solidFill>
              <a:latin typeface="Calibri"/>
            </a:endParaRPr>
          </a:p>
          <a:p>
            <a:pPr marL="335880" indent="-3358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Sensitization </a:t>
            </a:r>
            <a:endParaRPr b="0" lang="en-US" sz="3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response to the stimulus, e.g. training to enhance awareness of loss of balance</a:t>
            </a:r>
            <a:endParaRPr b="0" lang="en-US" sz="3400" spc="-1" strike="noStrike">
              <a:solidFill>
                <a:srgbClr val="000000"/>
              </a:solidFill>
              <a:latin typeface="Calibri"/>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228600" y="5554800"/>
            <a:ext cx="876312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ea typeface="Arial"/>
                <a:hlinkClick r:id="rId1"/>
              </a:rPr>
              <a:t>http://www.youtube.com/watch?v=voZXtTUdQ00</a:t>
            </a:r>
            <a:endParaRPr b="0" lang="en-US" sz="3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 name="Picture 2" descr="">
            <a:hlinkClick r:id="rId2"/>
          </p:cNvPr>
          <p:cNvPicPr/>
          <p:nvPr/>
        </p:nvPicPr>
        <p:blipFill>
          <a:blip r:embed="rId3"/>
          <a:srcRect l="12949" t="29515" r="37629" b="17510"/>
          <a:stretch/>
        </p:blipFill>
        <p:spPr>
          <a:xfrm>
            <a:off x="990720" y="770040"/>
            <a:ext cx="7315200" cy="464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eclarative (Implicit) Learning: Associative Learning</a:t>
            </a: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Classical Conditioning</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to predict relationships between two stimuli</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before learning: verbal cues + manual guidance </a:t>
            </a:r>
            <a:r>
              <a:rPr b="0" lang="en-US" sz="3400" spc="-1" strike="noStrike">
                <a:solidFill>
                  <a:srgbClr val="000000"/>
                </a:solidFill>
                <a:latin typeface="Wingdings"/>
                <a:ea typeface="Wingdings"/>
              </a:rPr>
              <a:t></a:t>
            </a:r>
            <a:r>
              <a:rPr b="0" lang="en-US" sz="3400" spc="-1" strike="noStrike">
                <a:solidFill>
                  <a:srgbClr val="000000"/>
                </a:solidFill>
                <a:latin typeface="Calibri"/>
              </a:rPr>
              <a:t> stand up; after learning: verbal cue </a:t>
            </a:r>
            <a:r>
              <a:rPr b="0" lang="en-US" sz="3400" spc="-1" strike="noStrike">
                <a:solidFill>
                  <a:srgbClr val="000000"/>
                </a:solidFill>
                <a:latin typeface="Wingdings"/>
                <a:ea typeface="Wingdings"/>
              </a:rPr>
              <a:t></a:t>
            </a:r>
            <a:r>
              <a:rPr b="0" lang="en-US" sz="3400" spc="-1" strike="noStrike">
                <a:solidFill>
                  <a:srgbClr val="000000"/>
                </a:solidFill>
                <a:latin typeface="Calibri"/>
              </a:rPr>
              <a:t> stand up</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are more likely to learn if the associations are relevant and meaningfu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eclarative (Implicit) Learning: Associative Learning</a:t>
            </a: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Operant Conditioning</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to associate a certain response, from among many that we have, with a consequence; trial and error learning</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relearn stability limits after ankle sprain; verbal praise from PT</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ehaviors that are beneficial and rewarded tend to be repeated </a:t>
            </a:r>
            <a:endParaRPr b="0" lang="en-US" sz="3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ocedural Learning</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oes NOT require attention, awareness, or other higher cognitive processe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ne automatically learns the</a:t>
            </a:r>
            <a:r>
              <a:rPr b="0" lang="en-US" sz="3400" spc="-1" strike="noStrike">
                <a:solidFill>
                  <a:srgbClr val="ff0000"/>
                </a:solidFill>
                <a:latin typeface="Calibri"/>
              </a:rPr>
              <a:t> rules for moving, i.e. movement schema</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requires repeating a movement continuously under a variety of situations </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with damage to cortex (e.g. TBI, dementia, aphasia) can still </a:t>
            </a:r>
            <a:r>
              <a:rPr b="0" lang="en-US" sz="3400" spc="-1" strike="noStrike">
                <a:solidFill>
                  <a:srgbClr val="000000"/>
                </a:solidFill>
                <a:latin typeface="Symbol"/>
                <a:ea typeface="Symbol"/>
              </a:rPr>
              <a:t></a:t>
            </a:r>
            <a:r>
              <a:rPr b="0" lang="en-US" sz="3400" spc="-1" strike="noStrike">
                <a:solidFill>
                  <a:srgbClr val="000000"/>
                </a:solidFill>
                <a:latin typeface="Calibri"/>
              </a:rPr>
              <a:t> performanc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eclarative (Explicit) Learning</a:t>
            </a:r>
            <a:endParaRPr b="0" lang="en-US" sz="4400" spc="-1" strike="noStrike">
              <a:solidFill>
                <a:srgbClr val="000000"/>
              </a:solidFill>
              <a:latin typeface="Calibri"/>
            </a:endParaRPr>
          </a:p>
        </p:txBody>
      </p:sp>
      <p:sp>
        <p:nvSpPr>
          <p:cNvPr id="83" name=""/>
          <p:cNvSpPr txBox="1"/>
          <p:nvPr/>
        </p:nvSpPr>
        <p:spPr>
          <a:xfrm>
            <a:off x="533520" y="13716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quire attention, awareness, and reflection</a:t>
            </a:r>
            <a:endParaRPr b="0" lang="en-US" sz="3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sults in knowledge or facts (e.g. objects, places, events) that can be consciously recalled and expressed in declarative sentences, e.g. “1</a:t>
            </a:r>
            <a:r>
              <a:rPr b="0" lang="en-US" sz="3400" spc="-1" strike="noStrike" baseline="30000">
                <a:solidFill>
                  <a:srgbClr val="000000"/>
                </a:solidFill>
                <a:latin typeface="Calibri"/>
              </a:rPr>
              <a:t>st</a:t>
            </a:r>
            <a:r>
              <a:rPr b="0" lang="en-US" sz="3400" spc="-1" strike="noStrike">
                <a:solidFill>
                  <a:srgbClr val="000000"/>
                </a:solidFill>
                <a:latin typeface="Calibri"/>
              </a:rPr>
              <a:t> I move to the edge of chair. 2</a:t>
            </a:r>
            <a:r>
              <a:rPr b="0" lang="en-US" sz="3400" spc="-1" strike="noStrike" baseline="30000">
                <a:solidFill>
                  <a:srgbClr val="000000"/>
                </a:solidFill>
                <a:latin typeface="Calibri"/>
              </a:rPr>
              <a:t>nd</a:t>
            </a:r>
            <a:r>
              <a:rPr b="0" lang="en-US" sz="3400" spc="-1" strike="noStrike">
                <a:solidFill>
                  <a:srgbClr val="000000"/>
                </a:solidFill>
                <a:latin typeface="Calibri"/>
              </a:rPr>
              <a:t> I lean forward and stand up”; instruction from PT; mental rehearsal; motor imagery</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eclarative (Explicit) Learning</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Practice can transform declarative into procedural or nondeclarative knowledg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a patient first learns to stand up may verbally repeat the instruction; after repeated practice, the patient may be able to stand up without instruction</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cesses of declarative learning: encoding </a:t>
            </a:r>
            <a:r>
              <a:rPr b="0" lang="en-US" sz="3400" spc="-1" strike="noStrike">
                <a:solidFill>
                  <a:srgbClr val="000000"/>
                </a:solidFill>
                <a:latin typeface="Wingdings"/>
                <a:ea typeface="Wingdings"/>
              </a:rPr>
              <a:t></a:t>
            </a:r>
            <a:r>
              <a:rPr b="0" lang="en-US" sz="3400" spc="-1" strike="noStrike">
                <a:solidFill>
                  <a:srgbClr val="000000"/>
                </a:solidFill>
                <a:latin typeface="Calibri"/>
              </a:rPr>
              <a:t> consolidation</a:t>
            </a:r>
            <a:r>
              <a:rPr b="0" lang="en-US" sz="3400" spc="-1" strike="noStrike">
                <a:solidFill>
                  <a:srgbClr val="000000"/>
                </a:solidFill>
                <a:latin typeface="Wingdings"/>
                <a:ea typeface="Wingdings"/>
              </a:rPr>
              <a:t></a:t>
            </a:r>
            <a:r>
              <a:rPr b="0" lang="en-US" sz="3400" spc="-1" strike="noStrike">
                <a:solidFill>
                  <a:srgbClr val="000000"/>
                </a:solidFill>
                <a:latin typeface="Calibri"/>
              </a:rPr>
              <a:t> storage</a:t>
            </a:r>
            <a:r>
              <a:rPr b="0" lang="en-US" sz="3400" spc="-1" strike="noStrike">
                <a:solidFill>
                  <a:srgbClr val="000000"/>
                </a:solidFill>
                <a:latin typeface="Wingdings"/>
                <a:ea typeface="Wingdings"/>
              </a:rPr>
              <a:t></a:t>
            </a:r>
            <a:r>
              <a:rPr b="0" lang="en-US" sz="3400" spc="-1" strike="noStrike">
                <a:solidFill>
                  <a:srgbClr val="000000"/>
                </a:solidFill>
                <a:latin typeface="Calibri"/>
              </a:rPr>
              <a:t> retrieval</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Reading Assignments</a:t>
            </a:r>
            <a:br>
              <a:rPr sz="2800"/>
            </a:br>
            <a:r>
              <a:rPr b="0" lang="en-US" sz="2800" spc="-1" strike="noStrike">
                <a:solidFill>
                  <a:srgbClr val="000000"/>
                </a:solidFill>
                <a:latin typeface="Calibri"/>
              </a:rPr>
              <a:t>Shumway-Cook: 21-39</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 H. Huang, PT, PhD, NCS</a:t>
            </a:r>
            <a:endParaRPr b="0" lang="en-US" sz="2800" spc="-1" strike="noStrike">
              <a:solidFill>
                <a:srgbClr val="000000"/>
              </a:solidFill>
              <a:latin typeface="Calibri"/>
            </a:endParaRPr>
          </a:p>
        </p:txBody>
      </p:sp>
      <p:sp>
        <p:nvSpPr>
          <p:cNvPr id="51"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TP 512</a:t>
            </a:r>
            <a:br>
              <a:rPr sz="3200"/>
            </a:br>
            <a:r>
              <a:rPr b="0" lang="en-US" sz="3200" spc="-1" strike="noStrike">
                <a:solidFill>
                  <a:srgbClr val="000000"/>
                </a:solidFill>
                <a:latin typeface="Calibri"/>
              </a:rPr>
              <a:t>Neuroscience in Physical Therapy</a:t>
            </a:r>
            <a:br>
              <a:rPr sz="3200"/>
            </a:br>
            <a:br>
              <a:rPr sz="2800"/>
            </a:br>
            <a:r>
              <a:rPr b="0" lang="en-US" sz="3200" spc="-1" strike="noStrike">
                <a:solidFill>
                  <a:srgbClr val="000000"/>
                </a:solidFill>
                <a:latin typeface="Calibri"/>
              </a:rPr>
              <a:t>Motor Learning: Theories and Practical Applications</a:t>
            </a:r>
            <a:br>
              <a:rPr sz="3200"/>
            </a:br>
            <a:br>
              <a:rPr sz="3200"/>
            </a:br>
            <a:br>
              <a:rPr sz="3200"/>
            </a:br>
            <a:br>
              <a:rPr sz="26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Pair-Share</a:t>
            </a: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helping a patient to relearn motor skills, should the PT emphasize non-declarative (implicit) or declarative explicit) learning?</a:t>
            </a:r>
            <a:endParaRPr b="0" lang="en-US" sz="3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ORIES OF MOTOR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Closed-Loop Theory</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 motor learning, sensory feedback from the ongoing movements is compared with the stored memory of the intended movement</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emory trace selects and initiates a movement</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ceptual trace, built-up over practice, is the internal reference of correctnes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Closed-Loop Theory</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lications</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curacy of a movement is proportional to the strength of the perceptual trace</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 must practice the movement repeatedly to ↑ the perceptual trace</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mitations</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not explain open loop movement or novel movements</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a:t>
            </a:r>
            <a:endParaRPr b="0" lang="en-US" sz="4400" spc="-1" strike="noStrike">
              <a:solidFill>
                <a:srgbClr val="000000"/>
              </a:solidFill>
              <a:latin typeface="Calibri"/>
            </a:endParaRPr>
          </a:p>
        </p:txBody>
      </p:sp>
      <p:sp>
        <p:nvSpPr>
          <p:cNvPr id="94" name=""/>
          <p:cNvSpPr txBox="1"/>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mphasizes open-loop control processes and generalized motor program </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Schema” is a generalized set of rules for producing movements that can be applied to a variety of context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quivalent to motor programming theory of motor contro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a:t>
            </a:r>
            <a:endParaRPr b="0" lang="en-US" sz="4400" spc="-1" strike="noStrike">
              <a:solidFill>
                <a:srgbClr val="000000"/>
              </a:solidFill>
              <a:latin typeface="Calibri"/>
            </a:endParaRPr>
          </a:p>
        </p:txBody>
      </p:sp>
      <p:sp>
        <p:nvSpPr>
          <p:cNvPr id="96" name=""/>
          <p:cNvSpPr txBox="1"/>
          <p:nvPr/>
        </p:nvSpPr>
        <p:spPr>
          <a:xfrm>
            <a:off x="457200" y="1447920"/>
            <a:ext cx="8229600" cy="4525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stored in </a:t>
            </a:r>
            <a:r>
              <a:rPr b="0" lang="en-US" sz="3400" spc="-1" strike="noStrike">
                <a:solidFill>
                  <a:srgbClr val="ff0000"/>
                </a:solidFill>
                <a:latin typeface="Calibri"/>
              </a:rPr>
              <a:t>short-term memory </a:t>
            </a:r>
            <a:r>
              <a:rPr b="0" lang="en-US" sz="3400" spc="-1" strike="noStrike">
                <a:solidFill>
                  <a:srgbClr val="000000"/>
                </a:solidFill>
                <a:latin typeface="Calibri"/>
              </a:rPr>
              <a:t>after a movement is produced</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itial movement conditions</a:t>
            </a:r>
            <a:r>
              <a:rPr b="0" lang="en-US" sz="3400" spc="-1" strike="noStrike">
                <a:solidFill>
                  <a:srgbClr val="000000"/>
                </a:solidFill>
                <a:latin typeface="Calibri"/>
              </a:rPr>
              <a:t>, e.g. body position, weight of an object, step height</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Parameters</a:t>
            </a:r>
            <a:r>
              <a:rPr b="0" lang="en-US" sz="3400" spc="-1" strike="noStrike">
                <a:solidFill>
                  <a:srgbClr val="000000"/>
                </a:solidFill>
                <a:latin typeface="Calibri"/>
              </a:rPr>
              <a:t> of a generalized motor program</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Outcome of the movement</a:t>
            </a:r>
            <a:r>
              <a:rPr b="0" lang="en-US" sz="3400" spc="-1" strike="noStrike">
                <a:solidFill>
                  <a:srgbClr val="000000"/>
                </a:solidFill>
                <a:latin typeface="Calibri"/>
              </a:rPr>
              <a:t>, in terms of knowledge of results</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trinsic sensory feedback </a:t>
            </a:r>
            <a:r>
              <a:rPr b="0" lang="en-US" sz="3400" spc="-1" strike="noStrike">
                <a:solidFill>
                  <a:srgbClr val="000000"/>
                </a:solidFill>
                <a:latin typeface="Calibri"/>
              </a:rPr>
              <a:t>of the move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stored in short-term memory is converted into two schemas</a:t>
            </a:r>
            <a:endParaRPr b="0" lang="en-US" sz="3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call schema </a:t>
            </a:r>
            <a:r>
              <a:rPr b="0" lang="en-US" sz="3400" spc="-1" strike="noStrike">
                <a:solidFill>
                  <a:srgbClr val="000000"/>
                </a:solidFill>
                <a:latin typeface="Calibri"/>
              </a:rPr>
              <a:t>selects a specific response and contains rules for producing a movement</a:t>
            </a:r>
            <a:endParaRPr b="0" lang="en-US" sz="3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cognition schema </a:t>
            </a:r>
            <a:r>
              <a:rPr b="0" lang="en-US" sz="3400" spc="-1" strike="noStrike">
                <a:solidFill>
                  <a:srgbClr val="000000"/>
                </a:solidFill>
                <a:latin typeface="Calibri"/>
              </a:rPr>
              <a:t>evaluates the response correctness and informs the learner about the errors of a movement</a:t>
            </a:r>
            <a:endParaRPr b="0" lang="en-US" sz="3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 </a:t>
            </a:r>
            <a:endParaRPr b="0" lang="en-US" sz="4400" spc="-1" strike="noStrike">
              <a:solidFill>
                <a:srgbClr val="000000"/>
              </a:solidFill>
              <a:latin typeface="Calibri"/>
            </a:endParaRPr>
          </a:p>
        </p:txBody>
      </p:sp>
      <p:sp>
        <p:nvSpPr>
          <p:cNvPr id="100" name=""/>
          <p:cNvSpPr txBox="1"/>
          <p:nvPr/>
        </p:nvSpPr>
        <p:spPr>
          <a:xfrm>
            <a:off x="457200" y="1371600"/>
            <a:ext cx="8229600" cy="452592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lications</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ariability of practice↑ learning and  generalized motor program rules </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vel movement can be made accurately based on previously learned rules</a:t>
            </a:r>
            <a:endParaRPr b="0" lang="en-US" sz="3400" spc="-1" strike="noStrike">
              <a:solidFill>
                <a:srgbClr val="000000"/>
              </a:solidFill>
              <a:latin typeface="Calibri"/>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mitations</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ague; no consistent research finding in support of variable practice</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not account for one-trial learning (In the absence of a schema)</a:t>
            </a:r>
            <a:endParaRPr b="0" lang="en-US" sz="3400" spc="-1" strike="noStrike">
              <a:solidFill>
                <a:srgbClr val="000000"/>
              </a:solidFill>
              <a:latin typeface="Calibri"/>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Theory</a:t>
            </a:r>
            <a:endParaRPr b="0" lang="en-US" sz="4400" spc="-1" strike="noStrike">
              <a:solidFill>
                <a:srgbClr val="000000"/>
              </a:solidFill>
              <a:latin typeface="Calibri"/>
            </a:endParaRPr>
          </a:p>
        </p:txBody>
      </p:sp>
      <p:sp>
        <p:nvSpPr>
          <p:cNvPr id="102"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involves the exploration  the perceptual and motor workspace</a:t>
            </a:r>
            <a:endParaRPr b="0" lang="en-US" sz="3400" spc="-1" strike="noStrike">
              <a:solidFill>
                <a:srgbClr val="000000"/>
              </a:solidFill>
              <a:latin typeface="Calibri"/>
            </a:endParaRPr>
          </a:p>
          <a:p>
            <a:pPr marL="318960" indent="-3189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dentify critical perceptual variables, i.e. regulatory cues</a:t>
            </a:r>
            <a:endParaRPr b="0" lang="en-US" sz="3400" spc="-1" strike="noStrike">
              <a:solidFill>
                <a:srgbClr val="000000"/>
              </a:solidFill>
              <a:latin typeface="Calibri"/>
            </a:endParaRPr>
          </a:p>
          <a:p>
            <a:pPr marL="318960" indent="-3189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plore the optimal or most efficient movements for the task</a:t>
            </a:r>
            <a:endParaRPr b="0" lang="en-US" sz="3400" spc="-1" strike="noStrike">
              <a:solidFill>
                <a:srgbClr val="000000"/>
              </a:solidFill>
              <a:latin typeface="Calibri"/>
            </a:endParaRPr>
          </a:p>
          <a:p>
            <a:pPr marL="318960" indent="-3189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corporate the relevant perceptual cues and optimal movement strategies for a specific task</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Theory</a:t>
            </a:r>
            <a:endParaRPr b="0" lang="en-US" sz="4400" spc="-1" strike="noStrike">
              <a:solidFill>
                <a:srgbClr val="000000"/>
              </a:solidFill>
              <a:latin typeface="Calibri"/>
            </a:endParaRPr>
          </a:p>
        </p:txBody>
      </p:sp>
      <p:sp>
        <p:nvSpPr>
          <p:cNvPr id="10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lications</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learn to identify relevant perceptual cues that are important for developing appropriate motor responses, e.g. identify relevant perceptual cues for reaching and lifting a heavy glass: weight, size, or surface of the glass vs. its colo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for today’s lectur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4000"/>
          </a:bodyPr>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motor learning and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ative and associated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m’s theory</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midt’s theory</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logical theory</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 learning occurs in stages</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ing learning outcomes</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of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back and giving augmented feedback</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 conditions</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tts and Posner Three Stage Model: Cognitive stage</a:t>
            </a: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 activitie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what to do</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about the task and goal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quire high degree of attention</a:t>
            </a:r>
            <a:r>
              <a:rPr b="0" lang="en-US" sz="3400" spc="-1" strike="noStrike">
                <a:solidFill>
                  <a:srgbClr val="000000"/>
                </a:solidFill>
                <a:latin typeface="Calibri"/>
              </a:rPr>
              <a:t>	</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lect among alternative strategie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ance may be more variable</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ast improvement in performance </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evelop a motor program</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tts and Posner Three Stage Model: Associative Stage</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 activitie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ine the skills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ine a particular movement strategy</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ance is less variable and more consistent</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gnitive monitoring decreases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mprove the organization of the motor program</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tts and Posner Three Stage Model: Autonomous Stage</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 activitie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ecome proficient, save energy</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tention demands are greatly reduced</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s and sensory analysis begin to become automatic</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le to perform multiple tasks, scan the environment</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ility to detect own errors improves</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cations for P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or learning probably occurs in stages</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ities of the patient are different in the different stages</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ities of the therapist should be different in the different stages</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stems Three-Stage Model</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s initially restrict degrees of freedom (DOF) and gradually release the DOF as the task is learned and the skills improve</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vice Stag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implify movement by constraining joints and </a:t>
            </a:r>
            <a:r>
              <a:rPr b="0" lang="en-US" sz="3400" spc="-1" strike="noStrike">
                <a:solidFill>
                  <a:srgbClr val="000000"/>
                </a:solidFill>
                <a:latin typeface="Calibri"/>
                <a:ea typeface="Calibri"/>
              </a:rPr>
              <a:t>↓DOF, e.g. muscles c</a:t>
            </a:r>
            <a:r>
              <a:rPr b="0" lang="en-US" sz="3400" spc="-1" strike="noStrike">
                <a:solidFill>
                  <a:srgbClr val="000000"/>
                </a:solidFill>
                <a:latin typeface="Calibri"/>
              </a:rPr>
              <a:t>o-contraction</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ss energy efficient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stems Three-Stage Model</a:t>
            </a:r>
            <a:endParaRPr b="0" lang="en-US" sz="4400" spc="-1" strike="noStrike">
              <a:solidFill>
                <a:srgbClr val="000000"/>
              </a:solidFill>
              <a:latin typeface="Calibri"/>
            </a:endParaRPr>
          </a:p>
        </p:txBody>
      </p:sp>
      <p:sp>
        <p:nvSpPr>
          <p:cNvPr id="116" name=""/>
          <p:cNvSpPr txBox="1"/>
          <p:nvPr/>
        </p:nvSpPr>
        <p:spPr>
          <a:xfrm>
            <a:off x="457200" y="129528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dvanced Stage</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radual release of additional DOF</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re adaptive to different contexts</a:t>
            </a:r>
            <a:endParaRPr b="0" lang="en-US" sz="3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pert Stage</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ll DOF released</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fficient and coordinated movement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ploit the mechanical and inertial properties of the limbs and the environ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tile’s Two Stage Model</a:t>
            </a:r>
            <a:endParaRPr b="0" lang="en-US" sz="4400" spc="-1" strike="noStrike">
              <a:solidFill>
                <a:srgbClr val="000000"/>
              </a:solidFill>
              <a:latin typeface="Calibri"/>
            </a:endParaRPr>
          </a:p>
        </p:txBody>
      </p:sp>
      <p:sp>
        <p:nvSpPr>
          <p:cNvPr id="118" name=""/>
          <p:cNvSpPr txBox="1"/>
          <p:nvPr/>
        </p:nvSpPr>
        <p:spPr>
          <a:xfrm>
            <a:off x="457200" y="129528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arly stag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nderstand the task goals, develop movement strategies, recognize regulatory features of the environment </a:t>
            </a: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te stag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ine the movement, consistent and efficient performanc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osed skills become fixation/consistent</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pened skills become diversification/ adaptiv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
          <p:cNvPicPr/>
          <p:nvPr/>
        </p:nvPicPr>
        <p:blipFill>
          <a:blip r:embed="rId1"/>
          <a:stretch/>
        </p:blipFill>
        <p:spPr>
          <a:xfrm>
            <a:off x="457200" y="1523880"/>
            <a:ext cx="8156520" cy="38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Pair-Share</a:t>
            </a:r>
            <a:endParaRPr b="0" lang="en-US" sz="4400" spc="-1" strike="noStrike">
              <a:solidFill>
                <a:srgbClr val="000000"/>
              </a:solidFill>
              <a:latin typeface="Calibri"/>
            </a:endParaRPr>
          </a:p>
        </p:txBody>
      </p:sp>
      <p:sp>
        <p:nvSpPr>
          <p:cNvPr id="121" name="PlaceHolder 2"/>
          <p:cNvSpPr>
            <a:spLocks noGrp="1"/>
          </p:cNvSpPr>
          <p:nvPr>
            <p:ph/>
          </p:nvPr>
        </p:nvSpPr>
        <p:spPr>
          <a:xfrm>
            <a:off x="609120" y="1523880"/>
            <a:ext cx="80010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patient is learning to use a walker.  What would the patient be able to do at each stage of learning?</a:t>
            </a:r>
            <a:endParaRPr b="0" lang="en-US" sz="3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gnitive stage (early)-</a:t>
            </a:r>
            <a:endParaRPr b="0" lang="en-US" sz="3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ociation stage (late)-</a:t>
            </a:r>
            <a:endParaRPr b="0" lang="en-US" sz="3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tomatic stage (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PPLICATION OF MOTOR LEARNING THEOR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FINING MOTOR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Measure Learning?</a:t>
            </a:r>
            <a:endParaRPr b="0" lang="en-US" sz="4400" spc="-1" strike="noStrike">
              <a:solidFill>
                <a:srgbClr val="000000"/>
              </a:solidFill>
              <a:latin typeface="Calibri"/>
            </a:endParaRPr>
          </a:p>
        </p:txBody>
      </p:sp>
      <p:sp>
        <p:nvSpPr>
          <p:cNvPr id="124" name=""/>
          <p:cNvSpPr txBox="1"/>
          <p:nvPr/>
        </p:nvSpPr>
        <p:spPr>
          <a:xfrm>
            <a:off x="457200" y="13716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separate the relatively permanent effects of learning from the transient effect of practice, learning can be measured using </a:t>
            </a:r>
            <a:r>
              <a:rPr b="0" lang="en-US" sz="3400" spc="-1" strike="noStrike">
                <a:solidFill>
                  <a:srgbClr val="ff0000"/>
                </a:solidFill>
                <a:latin typeface="Calibri"/>
              </a:rPr>
              <a:t>retention or transfer designs.</a:t>
            </a:r>
            <a:endParaRPr b="0" lang="en-US" sz="3400" spc="-1" strike="noStrike">
              <a:solidFill>
                <a:srgbClr val="000000"/>
              </a:solidFill>
              <a:latin typeface="Calibri"/>
            </a:endParaRPr>
          </a:p>
          <a:p>
            <a:pPr marL="308520" indent="-30852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est the subject after a retention interval, typically &gt;= 24 hr</a:t>
            </a:r>
            <a:endParaRPr b="0" lang="en-US" sz="3400" spc="-1" strike="noStrike">
              <a:solidFill>
                <a:srgbClr val="000000"/>
              </a:solidFill>
              <a:latin typeface="Calibri"/>
            </a:endParaRPr>
          </a:p>
          <a:p>
            <a:pPr marL="308520" indent="-308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oose the same task (retention test) or a variation of the task (transfer test)(e.g.  different speed or lighting conditions for walking)</a:t>
            </a:r>
            <a:endParaRPr b="0" lang="en-US" sz="3400" spc="-1" strike="noStrike">
              <a:solidFill>
                <a:srgbClr val="000000"/>
              </a:solidFill>
              <a:latin typeface="Calibri"/>
            </a:endParaRPr>
          </a:p>
          <a:p>
            <a:pPr marL="308520" indent="-308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Level: How Much?</a:t>
            </a:r>
            <a:br>
              <a:rPr sz="4400"/>
            </a:br>
            <a:r>
              <a:rPr b="0" lang="en-US" sz="4400" spc="-1" strike="noStrike">
                <a:solidFill>
                  <a:srgbClr val="ff0000"/>
                </a:solidFill>
                <a:latin typeface="Calibri"/>
              </a:rPr>
              <a:t>PRACTICE,  PRACTICE,  PRACTICE</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nimal Studie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9,600 retrievals over 4 week period (Nudo, 1996)</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7,000 trials of food catching in 5 weeks (Pavlides, 1993)</a:t>
            </a:r>
            <a:endParaRPr b="0" lang="en-US" sz="3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uman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ose-response log-linear relationship</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re patients getting enough practice?</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FB)</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B is all the sensory information that is available as a results of a movement</a:t>
            </a:r>
            <a:endParaRPr b="0" lang="en-US" sz="3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es by mode of delivery</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insic (e.g. proprioception)</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trinsic (e.g. instruction from PT)</a:t>
            </a:r>
            <a:endParaRPr b="0" lang="en-US" sz="3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es of FB by information provided</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Knowledge of results (KR)</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Knowledge of performance (KP)</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of Performance (KP)</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about the movement pattern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ually intrinsic but can also be extrinsic</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prioception, Biofeedback, video recording, verbal instruction (e.g. “Your elbow was too low.”)</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of Results (KR)</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about the result or outcome of the movement in terms of the goal</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erbal instruction (e.g. “You were off the target.”), proprioception (e.g. feeling loss of balance during a fal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Good Feedback</a:t>
            </a:r>
            <a:endParaRPr b="0" lang="en-US" sz="4400" spc="-1" strike="noStrike">
              <a:solidFill>
                <a:srgbClr val="000000"/>
              </a:solidFill>
              <a:latin typeface="Calibri"/>
            </a:endParaRPr>
          </a:p>
        </p:txBody>
      </p:sp>
      <p:sp>
        <p:nvSpPr>
          <p:cNvPr id="134" name="PlaceHolder 2"/>
          <p:cNvSpPr>
            <a:spLocks noGrp="1"/>
          </p:cNvSpPr>
          <p:nvPr>
            <p:ph/>
          </p:nvPr>
        </p:nvSpPr>
        <p:spPr>
          <a:xfrm>
            <a:off x="457200" y="13716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iming</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llow some time to reflect between trials</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ummary FB</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ummary FB after a few trials works better than after every trial</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ive more frequent summary feedback (e.g. after every 5 trials) for complex tasks than for simple tasks</a:t>
            </a:r>
            <a:endParaRPr b="0" lang="en-US" sz="3400" spc="-1" strike="noStrike">
              <a:solidFill>
                <a:srgbClr val="000000"/>
              </a:solidFill>
              <a:latin typeface="Calibri"/>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Good Feedback</a:t>
            </a:r>
            <a:endParaRPr b="0" lang="en-US" sz="4400" spc="-1" strike="noStrike">
              <a:solidFill>
                <a:srgbClr val="000000"/>
              </a:solidFill>
              <a:latin typeface="Calibri"/>
            </a:endParaRPr>
          </a:p>
        </p:txBody>
      </p:sp>
      <p:sp>
        <p:nvSpPr>
          <p:cNvPr id="136"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curacy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ositively reinforce correct performance</a:t>
            </a:r>
            <a:endParaRPr b="0" lang="en-US" sz="3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ugmented (extrinsic) Feedback</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ideo/visual of movement patterns alone does not help; need to provide error-correcting cues as well</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VOID VERBAL BOMBARDMENT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 be given concurrently or afterwards</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Good Feedback</a:t>
            </a: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requency and Fading Schedul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re impaired patients may require more frequent FB. </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void giving FB every trial.</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ecrease the amount of FB given across learning stages so the patients won’t become dependent on FB.</a:t>
            </a:r>
            <a:endParaRPr b="0" lang="en-US" sz="34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0" name="PlaceHolder 2"/>
          <p:cNvSpPr>
            <a:spLocks noGrp="1"/>
          </p:cNvSpPr>
          <p:nvPr>
            <p:ph/>
          </p:nvPr>
        </p:nvSpPr>
        <p:spPr>
          <a:xfrm>
            <a:off x="457200" y="144792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ssed vs. Distributed Practice Schedule</a:t>
            </a:r>
            <a:endParaRPr b="0" lang="en-US" sz="3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istributed in early stage (e.g. 20 min X 3 days) to avoid fatigue and massed in later stage (e.g. 60 min in one day)</a:t>
            </a:r>
            <a:endParaRPr b="0" lang="en-US" sz="3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stant vs. Variable Practice </a:t>
            </a:r>
            <a:endParaRPr b="0" lang="en-US" sz="3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ually variable practice (walk at different speeds) results in better learning outcomes than constant practice (walk at the same speed) in health adult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2" name="PlaceHolder 2"/>
          <p:cNvSpPr>
            <a:spLocks noGrp="1"/>
          </p:cNvSpPr>
          <p:nvPr>
            <p:ph/>
          </p:nvPr>
        </p:nvSpPr>
        <p:spPr>
          <a:xfrm>
            <a:off x="457200" y="1447920"/>
            <a:ext cx="8229600" cy="45259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andom vs. Blocked Practice</a:t>
            </a:r>
            <a:endParaRPr b="0" lang="en-US" sz="3400" spc="-1" strike="noStrike">
              <a:solidFill>
                <a:srgbClr val="000000"/>
              </a:solidFill>
              <a:latin typeface="Calibri"/>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textual Interference: practice that makes the performance more difficulty initially may result in more effective learning in the long term</a:t>
            </a:r>
            <a:endParaRPr b="0" lang="en-US" sz="3400" spc="-1" strike="noStrike">
              <a:solidFill>
                <a:srgbClr val="000000"/>
              </a:solidFill>
              <a:latin typeface="Calibri"/>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andom practice (practice multiple tasks in 15 min) results in better learning than blocked practice (practice one task in 15 min) in healthy adults but not necessarily patient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or Learning</a:t>
            </a:r>
            <a:endParaRPr b="0" lang="en-US" sz="4400" spc="-1" strike="noStrike">
              <a:solidFill>
                <a:srgbClr val="000000"/>
              </a:solidFill>
              <a:latin typeface="Calibri"/>
            </a:endParaRPr>
          </a:p>
        </p:txBody>
      </p:sp>
      <p:sp>
        <p:nvSpPr>
          <p:cNvPr id="56" name=""/>
          <p:cNvSpPr txBox="1"/>
          <p:nvPr/>
        </p:nvSpPr>
        <p:spPr>
          <a:xfrm>
            <a:off x="380520" y="1447920"/>
            <a:ext cx="8153640" cy="44956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or learning is the understanding of </a:t>
            </a:r>
            <a:r>
              <a:rPr b="0" lang="en-US" sz="3600" spc="-1" strike="noStrike">
                <a:solidFill>
                  <a:srgbClr val="ff0000"/>
                </a:solidFill>
                <a:latin typeface="Calibri"/>
              </a:rPr>
              <a:t>acquisition and/or modification of movement.</a:t>
            </a:r>
            <a:endParaRPr b="0" lang="en-US" sz="36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pplied to patients, motor learning involves the reacquisition of previously learned movement skills that are lost due to pathology or sensory, motor, or cognitive impairments.  This process is often referred to as </a:t>
            </a:r>
            <a:r>
              <a:rPr b="0" lang="en-US" sz="3600" spc="-1" strike="noStrike">
                <a:solidFill>
                  <a:srgbClr val="ff0000"/>
                </a:solidFill>
                <a:latin typeface="Calibri"/>
              </a:rPr>
              <a:t>recovery of function.</a:t>
            </a:r>
            <a:endParaRPr b="0" lang="en-US" sz="3600" spc="-1" strike="noStrike">
              <a:solidFill>
                <a:srgbClr val="000000"/>
              </a:solidFill>
              <a:latin typeface="Calibri"/>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ole- vs. Part-Task Practic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sk specificity says the best practice is the task itself</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f utilizing a part technique, the part (e.g. hip and knee flexion, extension) must be a naturally occurring component of the whole (e.g. walking)</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6" name="PlaceHolder 2"/>
          <p:cNvSpPr>
            <a:spLocks noGrp="1"/>
          </p:cNvSpPr>
          <p:nvPr>
            <p:ph/>
          </p:nvPr>
        </p:nvSpPr>
        <p:spPr>
          <a:xfrm>
            <a:off x="457200" y="13716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fer</a:t>
            </a:r>
            <a:endParaRPr b="0" lang="en-US" sz="3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mount of transfer is determined by the similarity between the two tasks or the two environments</a:t>
            </a:r>
            <a:endParaRPr b="0" lang="en-US" sz="3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more closely the practice environment resemble those in the performance environment, the better the transfer</a:t>
            </a:r>
            <a:endParaRPr b="0" lang="en-US" sz="3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uided vs. Discovery Practice</a:t>
            </a:r>
            <a:endParaRPr b="0" lang="en-US" sz="3400" spc="-1" strike="noStrike">
              <a:solidFill>
                <a:srgbClr val="000000"/>
              </a:solidFill>
              <a:latin typeface="Calibri"/>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ental Practic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same neural circuits producing the movement are also active during mental practice </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 produce large positive effects on performance of the task (Rawlings 1972)</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hysical + mental practice produces the best learning outcome</a:t>
            </a:r>
            <a:endParaRPr b="0" lang="en-US" sz="3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50" name=""/>
          <p:cNvSpPr txBox="1"/>
          <p:nvPr/>
        </p:nvSpPr>
        <p:spPr>
          <a:xfrm>
            <a:off x="304920" y="1219320"/>
            <a:ext cx="4952880" cy="483048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on Observation</a:t>
            </a:r>
            <a:endParaRPr b="0" lang="en-US" sz="30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organization of the primarily motor cortex in patients with stroke after observation of the desired action + motor training, but not observation of irrelevant movement + motor training </a:t>
            </a:r>
            <a:endParaRPr b="0" lang="en-US" sz="30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ications for patients with poor motor ability</a:t>
            </a:r>
            <a:endParaRPr b="0" lang="en-US" sz="3000" spc="-1" strike="noStrike">
              <a:solidFill>
                <a:srgbClr val="000000"/>
              </a:solidFill>
              <a:latin typeface="Calibri"/>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51" name="Picture 2" descr=""/>
          <p:cNvPicPr/>
          <p:nvPr/>
        </p:nvPicPr>
        <p:blipFill>
          <a:blip r:embed="rId1"/>
          <a:stretch/>
        </p:blipFill>
        <p:spPr>
          <a:xfrm>
            <a:off x="5340240" y="1292400"/>
            <a:ext cx="3200400" cy="2670120"/>
          </a:xfrm>
          <a:prstGeom prst="rect">
            <a:avLst/>
          </a:prstGeom>
          <a:ln w="0">
            <a:noFill/>
          </a:ln>
        </p:spPr>
      </p:pic>
      <p:sp>
        <p:nvSpPr>
          <p:cNvPr id="152" name="Rectangle 3"/>
          <p:cNvSpPr/>
          <p:nvPr/>
        </p:nvSpPr>
        <p:spPr>
          <a:xfrm>
            <a:off x="5334120" y="3962520"/>
            <a:ext cx="350496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rror neuron system: Inferior parietal lobule (IPL), Ventral premotor cortex (PMv), inferior frontal gyrus (IFG).</a:t>
            </a:r>
            <a:endParaRPr b="0" lang="en-US" sz="2800" spc="-1" strike="noStrike">
              <a:solidFill>
                <a:srgbClr val="000000"/>
              </a:solidFill>
              <a:latin typeface="Calibri"/>
            </a:endParaRPr>
          </a:p>
        </p:txBody>
      </p:sp>
      <p:sp>
        <p:nvSpPr>
          <p:cNvPr id="153" name="Rectangle 4"/>
          <p:cNvSpPr/>
          <p:nvPr/>
        </p:nvSpPr>
        <p:spPr>
          <a:xfrm>
            <a:off x="6030720" y="624852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rrison,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T Implications</a:t>
            </a:r>
            <a:endParaRPr b="0" lang="en-US" sz="4000" spc="-1" strike="noStrike">
              <a:solidFill>
                <a:srgbClr val="000000"/>
              </a:solidFill>
              <a:latin typeface="Calibri"/>
            </a:endParaRPr>
          </a:p>
        </p:txBody>
      </p:sp>
      <p:sp>
        <p:nvSpPr>
          <p:cNvPr id="58" name=""/>
          <p:cNvSpPr txBox="1"/>
          <p:nvPr/>
        </p:nvSpPr>
        <p:spPr>
          <a:xfrm>
            <a:off x="457200" y="1066320"/>
            <a:ext cx="8229600" cy="5257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can I best structure practice (therapy) sessions?</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often should my patient practice?  </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ill the motor skill learned in one context transfer to another?  </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ill my patient be able to walk safely at home/community after therapy?</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hould I simply the task?</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hould my patient practice weight shifting in the // bars vs. walking in the gym (part vs. whole practice)?</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vs. Motor Learn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0" name=""/>
          <p:cNvSpPr txBox="1"/>
          <p:nvPr/>
        </p:nvSpPr>
        <p:spPr>
          <a:xfrm>
            <a:off x="457200" y="1447920"/>
            <a:ext cx="8229600" cy="3962160"/>
          </a:xfrm>
          <a:prstGeom prst="rect">
            <a:avLst/>
          </a:prstGeom>
          <a:noFill/>
          <a:ln w="0">
            <a:noFill/>
          </a:ln>
        </p:spPr>
        <p:txBody>
          <a:bodyPr anchor="t">
            <a:normAutofit fontScale="96000"/>
          </a:bodyPr>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arning</a:t>
            </a:r>
            <a:r>
              <a:rPr b="0" lang="en-US" sz="3600" spc="-1" strike="noStrike">
                <a:solidFill>
                  <a:srgbClr val="000000"/>
                </a:solidFill>
                <a:latin typeface="Calibri"/>
              </a:rPr>
              <a:t> is a relatively permanent change in behavior due to practice, or the process of acquiring knowledge about the world.</a:t>
            </a:r>
            <a:endParaRPr b="0" lang="en-US" sz="36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tor learning</a:t>
            </a:r>
            <a:r>
              <a:rPr b="0" lang="en-US" sz="3600" spc="-1" strike="noStrike">
                <a:solidFill>
                  <a:srgbClr val="000000"/>
                </a:solidFill>
                <a:latin typeface="Calibri"/>
              </a:rPr>
              <a:t>: a set of processes associated with practice leading to a </a:t>
            </a:r>
            <a:r>
              <a:rPr b="1" lang="en-US" sz="3600" spc="-1" strike="noStrike">
                <a:solidFill>
                  <a:srgbClr val="000000"/>
                </a:solidFill>
                <a:latin typeface="Calibri"/>
              </a:rPr>
              <a:t>relatively permanent change </a:t>
            </a:r>
            <a:r>
              <a:rPr b="0" lang="en-US" sz="3600" spc="-1" strike="noStrike">
                <a:solidFill>
                  <a:srgbClr val="000000"/>
                </a:solidFill>
                <a:latin typeface="Calibri"/>
              </a:rPr>
              <a:t>in the capacity for skilled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of Motor Learning</a:t>
            </a:r>
            <a:endParaRPr b="0" lang="en-US" sz="4400" spc="-1" strike="noStrike">
              <a:solidFill>
                <a:srgbClr val="000000"/>
              </a:solidFill>
              <a:latin typeface="Calibri"/>
            </a:endParaRPr>
          </a:p>
        </p:txBody>
      </p:sp>
      <p:sp>
        <p:nvSpPr>
          <p:cNvPr id="62" name=""/>
          <p:cNvSpPr txBox="1"/>
          <p:nvPr/>
        </p:nvSpPr>
        <p:spPr>
          <a:xfrm>
            <a:off x="457200" y="144792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is a process of acquiring the capacity for skilled action</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results from experience or practice</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cannot be measured or observed directly; it is inferred from behavior</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produces relatively permanent changes in behavior; short term change is not learning)</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tor Performance</a:t>
            </a:r>
            <a:r>
              <a:rPr b="1" lang="en-US" sz="4800" spc="-1" strike="noStrike">
                <a:solidFill>
                  <a:srgbClr val="ff0000"/>
                </a:solidFill>
                <a:latin typeface="Calibri"/>
              </a:rPr>
              <a:t> </a:t>
            </a:r>
            <a:r>
              <a:rPr b="1" lang="en-US" sz="4800" spc="-1" strike="noStrike">
                <a:solidFill>
                  <a:srgbClr val="ff0000"/>
                </a:solidFill>
                <a:latin typeface="Symbol"/>
                <a:ea typeface="Symbol"/>
              </a:rPr>
              <a:t></a:t>
            </a:r>
            <a:r>
              <a:rPr b="1" lang="en-US" sz="4800" spc="-1" strike="noStrike">
                <a:solidFill>
                  <a:srgbClr val="ff0000"/>
                </a:solidFill>
                <a:latin typeface="Calibri"/>
              </a:rPr>
              <a:t> </a:t>
            </a:r>
            <a:r>
              <a:rPr b="0" lang="en-US" sz="4000" spc="-1" strike="noStrike">
                <a:solidFill>
                  <a:srgbClr val="000000"/>
                </a:solidFill>
                <a:latin typeface="Calibri"/>
              </a:rPr>
              <a:t>Motor Learning</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Performance is the temporary change in motor behavior seen during a practice session</a:t>
            </a:r>
            <a:endParaRPr b="0" lang="en-US" sz="3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 g. A patient learns how to shift more body weight over the weaker leg at the end of the therapy session. However, the patient still bears more weight  on the unaffected leg at the next visit to PT. Learning has not occurred.</a:t>
            </a:r>
            <a:endParaRPr b="0" lang="en-US" sz="3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1:13:07Z</dcterms:created>
  <dc:creator>mhhuang</dc:creator>
  <dc:description/>
  <dc:language>en-US</dc:language>
  <cp:lastModifiedBy>SWEET, CHRISTINA</cp:lastModifiedBy>
  <dcterms:modified xsi:type="dcterms:W3CDTF">2012-01-26T18:25:39Z</dcterms:modified>
  <cp:revision>259</cp:revision>
  <dc:subject/>
  <dc:title>Motor Learning Physiology and Theories</dc:title>
</cp:coreProperties>
</file>